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2-16T09:40:43.2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1D2-C52D-49EA-B690-8E8E1395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682-A2FF-4C30-BFB6-F1E6E22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52E-41E3-43C4-9C18-A5AADD30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FA1-D7CC-4164-BAC3-2A3D89C8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069D-2675-4156-872A-64558BFC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536-7769-43A0-BCA5-EEE0E4E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4915-9699-496E-9CF5-B806C5C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58E5-81B5-4A3F-BDDD-B03929E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5DD6-5803-4945-B0FB-10DC0279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77D3-EB21-4173-9EA2-AEBA8AAD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3D63-2DD0-4B29-8027-4A9CFE4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F56-A399-4E19-BCAC-D075A71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D6A-E38E-48C8-895E-1C267C5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DE6-91DA-4DDD-9B9E-4AC8865C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25F7-3BAE-49BC-B82E-1EFD0C6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200-531C-4773-A61A-01863ACD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D65B-61BF-42E2-9EAE-06835002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C031-F50A-4965-BD21-B271C3C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5C8C-C133-4D88-A5E2-1D8CB4E8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D11E-9849-4344-8106-0BE1FCCC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81B0-B07A-436D-91EF-12EC8A7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B575-603C-4170-A734-045D38C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B24-F244-4A41-8A4E-3AF865AC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999C-3257-46A7-80A0-814524F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5B4F-5A0C-4635-9CC0-632C2487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B9E2-6510-415F-B69F-B6C4CAE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B8B0-AC39-4BBC-AAC3-8868C95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0A38-381C-4514-BC75-32786A71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32BF-871C-4D40-9989-78790AA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5E42-DBD9-498A-8A53-7552CCC8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65A6-58BB-457D-BCD0-9F30E651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CD62-EF82-4255-9A06-DD7583C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F3D8-D67A-4E6B-8CEA-D308686E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F5C-913C-4691-A25D-BDD8D01A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0364-D8ED-413F-9B5B-66E78B6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5AB5-DA55-4360-9794-3567DF9A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7C29-6B55-4860-A5A6-B6908B51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65AD-8BE5-43BC-8FF9-B81C742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0FE3-F16A-46E0-8201-F78C210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0E54-DEDC-41C0-A064-00633B6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760C-E9D0-49F6-A4D7-3FDE6253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F865-86D0-42B8-8CFE-1AFBD5BA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F39C-B565-475F-8655-69179D85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A2530-E75A-4845-90E0-7AA223B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FD1-EF1F-46A7-A6A7-5D0B77A6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8CDF-452A-4576-AC08-261E9808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0BD7-96C8-4604-B029-270C50A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9583-3DFF-47FE-96B2-9627BA3B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55A3-410E-4623-A8DA-C4D8A77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46C3-1A60-4568-B645-7F0D4D09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F152-B035-4E7C-B821-ACBCCEB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36DE-53BC-4FF0-8061-EACF7837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AF56-729A-4628-8B78-71CAD50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AA19-4C41-4F92-99E5-CA71AD29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86B2-1ADA-4494-BA87-5AF8A7F9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9A4-DF7C-4534-8B16-B75DE98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F16C-E073-4522-8908-C27052E3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DA7-AB7B-4360-9D6A-9AF683B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78F-8F43-4F42-9CDB-BD1231B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FA7-8FCE-4758-8041-7896970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C775-D340-47BD-9CC4-0A2061BCFAE3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12A-8464-4661-9BF5-52C7C83ABF29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D74-6DC8-49BD-A9F8-0E2C26E3E496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5E6-F4A3-456F-96C8-F7E70E13292A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FE4-FA6B-474A-841C-AB1332F1F4D5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B065-841B-44D8-9DC9-BCADD24EFCB9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023-1769-43CC-AAAB-E398893F126A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15D-67EF-417C-B367-53D17C8D2E03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3014-58DE-4143-98EE-B29F1A00BDD0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99C-D50F-44D2-BB41-2AC2A0850550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sau.gov.mz/pt/content/downlo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666666"/>
                </a:solidFill>
                <a:latin typeface="Times New Roman"/>
              </a:rPr>
              <a:t>INDICADORES DE UTILIZAÇÃO DE CUIDADOS DE SAÚDE - TAXAS DE COBER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TEMA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5147-738B-4E74-A1E9-024296AC6C45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631-C78F-4283-BCE0-5BE7E050BD28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BIBLOGRAFIA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959-59E2-4228-9D90-4C0FC214F692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4200" y="1213920"/>
            <a:ext cx="8715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BARRETO, Avertino Teotónio, TABARD, Philipe. </a:t>
            </a:r>
            <a:r>
              <a:rPr b="0" i="1" lang="pt-PT" sz="2600" spc="-1" strike="noStrike">
                <a:solidFill>
                  <a:srgbClr val="000000"/>
                </a:solidFill>
                <a:latin typeface="Times New Roman"/>
              </a:rPr>
              <a:t>Manual de vigilância epidemiológica.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1ªedicao, Ministério de saúde, Maputo, 199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ZA" sz="26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WWW.misau.gov.mz/pt/content/downloa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. Manual de procedimento Para o sistema d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e informação de saúde. Captado em 17/02/2012.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179-1124-4933-87F0-DC4653DE21F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FIM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E79-D4F9-41E0-9536-3F2BD39D1F0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727-80E3-4F64-9A9C-2CC77735AC38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Cobertura do grupo etário 0-11 meses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B04-47B8-4228-BE48-DCAD1092FDC8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2920" y="571680"/>
            <a:ext cx="88581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upo etário 0-11 meses represent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a população total, a fonte destes dados é o impresso SIS-AO3A e este indicador calcula-se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C.C. 0-11 mese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__  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ses administradas (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ª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 doses)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__           Grupo alvo pre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o maior for a cobertura na população-alvo, menor será o número de casos previstos da doença-alvo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BF2-2EA5-4ED7-A158-2DE205B63A5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2556000" y="6165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54E6-5E2C-4588-A2DD-50E40CBBC1C1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69192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cima de um certo nível de cobertura, para além da protecção individual, a vacina consegue também bloquear a transmissão da doenç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Não é necessário pois alcançar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para que isso aconteça: por exemplo, para sarampo, a transmissão cessa entr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em zonas rurais (baixa densidade populacional) 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90-9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em zonas urbanas (alta densidade populacion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590-9C14-4DEB-9499-C61E9E29ED57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BERTURA REAL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86E-637E-4B8D-8D3A-E40A0BF83DBB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2920" y="642960"/>
            <a:ext cx="88581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Ao longo de monitorização do andamento do PAV, é importante diferenciar uma cobertura “cumulativa” duma “real”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Na cobertura “real” ao longo do ano, o denominador (grupo alvo) deve sempre reflectir o período do ano a que o cálculo se refer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É normal que as coberturas sejam mais altas nas áreas urbanas que áreas rurai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FC81-5833-4A27-828F-09D364EB5E89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2766-7EEE-49EB-9B74-84DE7395CF0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85716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ltas coberturas deveriam também ser alcançadas à volta (raio de 5-10 km) de postos fixos de vacinação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são importantes se a qualidade da vacina estiver assegur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2F30-FB69-4F61-84B9-40F9678F60E9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E60-8DC3-4283-910C-54DC2B1984D9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920" y="714240"/>
            <a:ext cx="885816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 cobertura num Distrito não pode ser uniforme, devido a influência de vários factores (densidade populacional, presença ou não de postos fixos, distância da sede, se a área é servida por brigada móve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O nível provincial atribui as metas distritais no seu todo, mas cabe ao responsável do PAV – em conjunto com o resto da equipe de saúde – redistribuir as metas (coberturas a alcançar) pelas diferentes subáreas do distr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F0B-7769-4D77-883E-BF6817989562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A39E-E310-49C4-ACCF-D02D08AA7E8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4200" y="642960"/>
            <a:ext cx="8715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às quais nos referimos são habitualmente administrativas, isto é, resultam dos registos de actividades. Como tal, estão sujeitas a alguns problemas tais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e dados demográficos fidedign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a qualidade de regis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Infelizmente podem ser falsific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F19-D29C-47DA-B7DA-870129815C24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6666"/>
                </a:solidFill>
                <a:latin typeface="Arial"/>
              </a:rPr>
              <a:t>Cobertura de consultas pré-natai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E5D-6FFE-4424-8D1C-877FC87D2D2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7120" y="764640"/>
            <a:ext cx="8786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dica o número de grávidas captadas pelo controle pré-natal. As grávidas esperadas sã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a população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fonte deste indicador é o impresso SIS-BO8 e calcula-se da segui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. C.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--  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º de primeiras consultas 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--              Nº de grávidas es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cobertura de consultas pré-natais tem de ser a mais alta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484-4098-44D4-AE11-31DF2523E08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Frequência de atendimento na consulta pré-natal.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34000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3037-B39D-411D-A0A3-3B3B88DF5865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21392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É uma razão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. Mede quantas vezes em média uma grávida é vista ao longo do controle pré-natal, antes de chegar ao parto. A fonte deste indicador é o impresso SIS-BO8, e a fórmula é a segui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FCPN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----  </a:t>
            </a:r>
            <a:r>
              <a:rPr b="0" lang="pt-PT" sz="2600" spc="-1" strike="noStrike" u="sng">
                <a:solidFill>
                  <a:srgbClr val="000000"/>
                </a:solidFill>
                <a:uFillTx/>
                <a:latin typeface="Times New Roman"/>
              </a:rPr>
              <a:t>Nº total de consultas pré-na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----   Nº de primeiras consul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É um indicador de qualidade da consulta pré-natal, ou melhor, da sua eficácia potencial. Para ser eficaz um controle pré-natal tem que ocorrer no mínimo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três vezes/gravidez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B4D2-63BD-4BE0-AAA4-4DF8B64F31F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9:41Z</dcterms:created>
  <dc:creator>User</dc:creator>
  <dc:description/>
  <dc:language>en-US</dc:language>
  <cp:lastModifiedBy>User</cp:lastModifiedBy>
  <dcterms:modified xsi:type="dcterms:W3CDTF">2012-02-28T05:33:29Z</dcterms:modified>
  <cp:revision>31</cp:revision>
  <dc:subject/>
  <dc:title>TEMA</dc:title>
</cp:coreProperties>
</file>