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2-02-16T09:40:43.25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846-23A2-47BF-A98F-032EEBEB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E3C-11EA-436D-89AD-3C68AA61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F08-950F-42E1-8466-4423F77F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151-66EC-470F-81B0-CD70778A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D7A7-4043-40A9-8CC1-9307D45F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4B01-3946-4B8C-9A91-F905460C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EB20-8C84-468B-87E0-CC658408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846-A65A-4785-9C2C-530B7BC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05C-21BC-49FD-8A1C-15B76F75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225C-2F05-4715-9021-07CCEF6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BC91-57A5-4523-8A6D-775B3D7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D4A-5BB3-4477-A037-327B6E17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6C79-9900-4210-80C1-FB516052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5AB5-5C94-44AB-9826-E51A7D4F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A470-ED9B-43E9-B7FA-2C614098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9F35-8B26-4E3B-AD5A-F60285C5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1360-1460-44CE-AAAB-15383CAE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538D-1410-454E-9954-E50304B3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12B8-7F5C-497D-82FA-2604098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DC8B0-8F8A-4145-B899-5D0FF4F0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42B90-537D-4BE7-87A7-1CAC6A3F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7F32-04C3-4D39-81A6-47F92CA7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E16-E428-4547-8D61-1A14244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D012-E765-48FD-A1A7-28E4B13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8BB0-8AE2-43BF-B38B-0BDEC3F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3A8C-9787-4E4D-9EC4-0A531087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34AD-CDE3-4666-8DFF-E88DA24C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A5CA-CAD2-4086-B0D5-7747A92D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822B-63D5-4A0D-B21D-DD6A3EAE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7ECD-9BE4-471B-88E9-E4DBD19F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D19A6-F551-4091-9382-E013FC594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9AC24-43D0-4730-BDDE-BBCB6197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9915-DB4A-4339-8E1E-737E4CD7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27E-DA47-4545-A0DD-6970DC65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D779-F403-4260-9478-E7CC2D57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552B0-DAD6-465C-92CC-6F63B92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1EB1D-80D2-4404-BC2A-23835B9B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D8658-A9D8-4F18-91AA-88939DF8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5BF1B-A84D-4AC5-98CE-889FDE1D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F37E-B0F0-4B76-9E57-7DF6C426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45C0-83A5-4131-8F3A-8733774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000C-8287-41F4-93DF-FDAAF64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D05BD-B848-48E5-B80A-F43278FA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7AFA-794A-4C13-8C88-634B8B82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B72-0FA4-4FA3-808D-1E132BCD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AF32-EAF9-40CF-BFCB-486093C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E012-C6CE-4A65-BCCA-D70F65FC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59491-939C-43CD-99DF-A9E28E4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BB97-752B-4EFE-AF99-F51192DE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268C6-5906-4F77-9750-AA8A7BA6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45E6-4F78-4819-AABF-2609C88A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B686D-2E37-4978-9652-12BFE8D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FE056-23AA-4A9A-B48B-DB89AB28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34EBF-EE8A-4B90-A67A-426A0935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F12DC-B624-482D-AAC5-98405D53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C4C-5E6E-48CA-808F-4F2017FA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C58A-4141-4F93-B180-51B39766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21B-2193-445D-9AD6-84D9CDF7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5F27-D211-4599-9241-8C245F4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D0B-81A5-442B-9253-966CE6AA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483-AFE5-40BF-AE10-50BE3AE8EA3E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09AF-57C3-4959-A4B8-9E91AE081690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37CE-48C9-440F-811C-6AF459318569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D2FE-125A-4BBB-B158-448C1CA0ECD5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8F1C-448B-4738-A6B6-A0D94A92710F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F6BA-024F-459A-9765-8457A2FC6894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6E5B-2B6F-45E4-8430-F6D8FF9B38FB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0CE1-352E-42C2-BA6D-4C5FDEA7B845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9066-CE2A-47AD-BD36-6977A650D409}" type="datetime3"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32E-A380-4E4E-B36E-96DE4E4D23D4}" type="slidenum">
              <a:rPr b="0" lang="pt-P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sau.gov.mz/pt/content/downloa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666666"/>
                </a:solidFill>
                <a:latin typeface="Times New Roman"/>
              </a:rPr>
              <a:t>INDICADORES DE UTILIZAÇÃO DE CUIDADOS DE SAÚDE - TAXAS DE COBERTUR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TEMA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4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820-1608-40C1-95D9-018AA241C0FD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C283-6BD2-4CC7-8EEF-32193EBA6087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BIBLOGRAFIA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29F3-306D-47E4-B6F3-54F0BFF6A93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14200" y="1213920"/>
            <a:ext cx="8715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BARRETO, Avertino Teotónio, TABARD, Philipe. </a:t>
            </a:r>
            <a:r>
              <a:rPr b="0" i="1" lang="pt-PT" sz="2600" spc="-1" strike="noStrike">
                <a:solidFill>
                  <a:srgbClr val="000000"/>
                </a:solidFill>
                <a:latin typeface="Times New Roman"/>
              </a:rPr>
              <a:t>Manual de vigilância epidemiológica.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1ªedicao, Ministério de saúde, Maputo, 199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ZA" sz="2600" spc="-1" strike="noStrike" u="sng">
                <a:solidFill>
                  <a:srgbClr val="17bbfd"/>
                </a:solidFill>
                <a:uFillTx/>
                <a:latin typeface="Times New Roman"/>
                <a:hlinkClick r:id="rId1"/>
              </a:rPr>
              <a:t>WWW.misau.gov.mz/pt/content/downloa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. Manual de procedimento Para o sistema d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e informação de saúde. Captado em 17/02/2012.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Z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9327-D920-4905-997A-6886BFEE120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FIM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60A-6FCF-453E-8CD8-D03820FFB84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Times New Roman"/>
              </a:rPr>
              <a:t>MUITO OBRIG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891-75F7-4102-B62F-8A588730CDFB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86880" cy="1500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Cobertura do grupo etário 0-11 meses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AF32-BB9B-4638-8BDF-A600744E57A4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42920" y="571680"/>
            <a:ext cx="88581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O grupo etário 0-11 meses representa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da população total, a fonte destes dados é o impresso SIS-AO3A e este indicador calcula-se da seguinte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C.C. 0-11 meses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__  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ses administradas (</a:t>
            </a:r>
            <a:r>
              <a:rPr b="1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1ª</a:t>
            </a:r>
            <a:r>
              <a:rPr b="0" lang="pt-P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 doses) </a:t>
            </a:r>
            <a:r>
              <a:rPr b="1" lang="pt-PT" sz="2800" spc="-1" strike="noStrike">
                <a:solidFill>
                  <a:srgbClr val="000000"/>
                </a:solidFill>
                <a:latin typeface="Times New Roman"/>
              </a:rPr>
              <a:t>X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__           Grupo alvo pre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Quanto maior for a cobertura na população-alvo, menor será o número de casos previstos da doença-alvo respec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7A23-1D19-4676-9574-C7855BA3E0DB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2556000" y="616572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4755-EA95-4A7C-95AC-DA3041EDA792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5840" y="691920"/>
            <a:ext cx="8858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cima de um certo nível de cobertura, para além da protecção individual, a vacina consegue também bloquear a transmissão da doenç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Não é necessário pois alcançar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para que isso aconteça: por exemplo, para sarampo, a transmissão cessa entr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80-8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de cobertura em zonas rurais (baixa densidade populacional) e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90-95%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em zonas urbanas (alta densidade populacional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FF9-FFFE-4F99-A54E-FDCFF0E05903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BERTURA REAL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89FB-83F0-442E-8796-E67CF52E38BF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42920" y="642960"/>
            <a:ext cx="885816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Ao longo de monitorização do andamento do PAV, é importante diferenciar uma cobertura “cumulativa” duma “real”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Na cobertura “real” ao longo do ano, o denominador (grupo alvo) deve sempre reflectir o período do ano a que o cálculo se refer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É normal que as coberturas sejam mais altas nas áreas urbanas que áreas rurai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F806-983D-4471-A996-6E45F27E80F4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85816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248436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5951-6B7E-4B23-A167-2540089CC8D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4200" y="857160"/>
            <a:ext cx="87156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ltas coberturas deveriam também ser alcançadas à volta (raio de 5-10 km) de postos fixos de vacinação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são importantes se a qualidade da vacina estiver assegur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239C-C729-4DC1-B88B-FA4AA2A01ED3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69DA-883B-49B9-9DD9-2568426152C6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42920" y="714240"/>
            <a:ext cx="885816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 cobertura num Distrito não pode ser uniforme, devido a influência de vários factores (densidade populacional, presença ou não de postos fixos, distância da sede, se a área é servida por brigada móvel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O nível provincial atribui as metas distritais no seu todo, mas cabe ao responsável do PAV – em conjunto com o resto da equipe de saúde – redistribuir as metas (coberturas a alcançar) pelas diferentes subáreas do distri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E75-5E29-4A69-9314-D6FBF1CC3140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786880" cy="500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666666"/>
                </a:solidFill>
                <a:latin typeface="Arial"/>
              </a:rPr>
              <a:t>CONT.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3" name="Footer Placeholder 5"/>
          <p:cNvSpPr/>
          <p:nvPr/>
        </p:nvSpPr>
        <p:spPr>
          <a:xfrm>
            <a:off x="241128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1677-29FD-41E3-AFAD-A6BA7F293B9E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14200" y="642960"/>
            <a:ext cx="871560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As coberturas às quais nos referimos são habitualmente administrativas, isto é, resultam dos registos de actividades. Como tal, estão sujeitas a alguns problemas tais com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e dados demográficos fidedigno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Dependem da qualidade de registo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Infelizmente podem ser falsifica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F83A-A5B1-412A-9E5B-09B288244CC8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1428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666666"/>
                </a:solidFill>
                <a:latin typeface="Arial"/>
              </a:rPr>
              <a:t>Cobertura de consultas pré-natais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8" name="Footer Placeholder 5"/>
          <p:cNvSpPr/>
          <p:nvPr/>
        </p:nvSpPr>
        <p:spPr>
          <a:xfrm>
            <a:off x="2484360" y="62373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AC1A-C7F3-428C-95D5-A41C32C5A83A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57120" y="764640"/>
            <a:ext cx="8786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Indica o número de grávidas captadas pelo controle pré-natal. As grávidas esperadas são 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da população to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fonte deste indicador é o impresso SIS-BO8 e calcula-se da seguinte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C. C.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---  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º de primeiras consultas pré-natais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X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---              Nº de grávidas esp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A cobertura de consultas pré-natais tem de ser a mais alta possí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27A1-0C3E-4DA0-94D0-8D079D87B541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1582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666666"/>
                </a:solidFill>
                <a:latin typeface="Arial"/>
              </a:rPr>
              <a:t>Frequência de atendimento na consulta pré-natal.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Footer Placeholder 5"/>
          <p:cNvSpPr/>
          <p:nvPr/>
        </p:nvSpPr>
        <p:spPr>
          <a:xfrm>
            <a:off x="2340000" y="61657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666666"/>
                </a:solidFill>
                <a:latin typeface="Times New Roman"/>
              </a:rPr>
              <a:t>Taxas de cobertura-Chirr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16D4-9C3A-4762-8375-74B8B895496D}" type="slidenum">
              <a:rPr b="0" lang="pt-P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2920" y="1213920"/>
            <a:ext cx="88581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É uma razão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. Mede quantas vezes em média uma grávida é vista ao longo do controle pré-natal, antes de chegar ao parto. A fonte deste indicador é o impresso SIS-BO8, e a fórmula é a seguint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FCPN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----  </a:t>
            </a:r>
            <a:r>
              <a:rPr b="0" lang="pt-PT" sz="2600" spc="-1" strike="noStrike" u="sng">
                <a:solidFill>
                  <a:srgbClr val="000000"/>
                </a:solidFill>
                <a:uFillTx/>
                <a:latin typeface="Times New Roman"/>
              </a:rPr>
              <a:t>Nº total de consultas pré-na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----   Nº de primeiras consult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spcBef>
                <a:spcPts val="575"/>
              </a:spcBef>
              <a:buClr>
                <a:srgbClr val="ff388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É um indicador de qualidade da consulta pré-natal, ou melhor, da sua eficácia potencial. Para ser eficaz um controle pré-natal tem que ocorrer no mínimo </a:t>
            </a:r>
            <a:r>
              <a:rPr b="1" lang="pt-PT" sz="2600" spc="-1" strike="noStrike">
                <a:solidFill>
                  <a:srgbClr val="000000"/>
                </a:solidFill>
                <a:latin typeface="Times New Roman"/>
              </a:rPr>
              <a:t>três vezes/gravidez</a:t>
            </a:r>
            <a:r>
              <a:rPr b="0" lang="pt-PT" sz="2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te Placeholder 5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416E-3B35-4790-A0D7-2D9D4593D9EA}" type="datetime3">
              <a:rPr b="0" lang="en-US" sz="800" spc="-1" strike="noStrike">
                <a:solidFill>
                  <a:srgbClr val="666666"/>
                </a:solidFill>
                <a:latin typeface="Times New Roman"/>
              </a:rPr>
              <a:t>July 28,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8:59:41Z</dcterms:created>
  <dc:creator>User</dc:creator>
  <dc:description/>
  <dc:language>en-US</dc:language>
  <cp:lastModifiedBy>User</cp:lastModifiedBy>
  <dcterms:modified xsi:type="dcterms:W3CDTF">2012-02-28T05:33:29Z</dcterms:modified>
  <cp:revision>31</cp:revision>
  <dc:subject/>
  <dc:title>TEMA</dc:title>
</cp:coreProperties>
</file>