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DB4A-A6D9-4A9F-9D5D-DFC0367B307A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E2E9-BD14-4E39-BC5C-8E2A381FE162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056D-5E2F-43E8-B41B-AA1213D96003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538A-30FB-4055-8355-6B2F018525B2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E5A5-3495-446C-ADA2-B317FA56D497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7AE1-B2E8-426C-89D8-D0D90E68C293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E1B2-B991-43C0-946B-AEF9494FA79E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E386-4C0F-423B-9853-4220FF2710BE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523D-42B2-4139-B02E-6C31BF8FE6E8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85C3-09D7-462F-81B4-143C41402D9E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C83F-97DE-4183-9364-EF58C54BF8D5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3C49-8319-4345-80A4-8BDECBDA30C0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A33D-E513-4667-AF24-343152C2BD4C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6C9-CE71-4BD6-B78F-F7DCA16B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12A-A523-480C-9E43-712ACEAE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F3CC-5D0F-42BF-A7BF-36397262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602-8552-4070-B952-AF31CD6B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CB8C-DB2A-47F1-AE90-A68537CC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25F-1136-4759-8502-077D6846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968-E2B2-4342-9AEC-E5AE20F8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526-523C-4E03-B3E8-E86CD7BC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2348-EB1A-4F03-8424-EC4CF97A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EAF-54C8-4E7C-8CAB-004F16F0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F44-8BFA-4C4F-892C-93A800C4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1F7E-48BF-4DC0-9E0A-6F5C93FB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0C37-0B64-47EC-B234-07A29B16E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752120"/>
            <a:ext cx="8077320" cy="3048120"/>
          </a:xfrm>
          <a:prstGeom prst="rect">
            <a:avLst/>
          </a:prstGeom>
          <a:noFill/>
          <a:ln w="66600">
            <a:solidFill>
              <a:srgbClr val="00ff00"/>
            </a:solidFill>
            <a:miter/>
          </a:ln>
          <a:effectLst>
            <a:outerShdw dist="153009" dir="2493982" blurRad="0" rotWithShape="0">
              <a:srgbClr val="3333c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cc00cc"/>
                </a:solidFill>
                <a:latin typeface="Arial Black"/>
              </a:rPr>
              <a:t>Qualidade dos Dados</a:t>
            </a:r>
            <a:br>
              <a:rPr sz="5400"/>
            </a:br>
            <a:br>
              <a:rPr sz="2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95160" y="457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SIS</a:t>
            </a:r>
            <a:br>
              <a:rPr sz="2400"/>
            </a:br>
            <a:r>
              <a:rPr b="1" lang="pt-PT" sz="3200" spc="-1" strike="noStrike">
                <a:solidFill>
                  <a:srgbClr val="ff0000"/>
                </a:solidFill>
                <a:latin typeface="Times New Roman"/>
              </a:rPr>
              <a:t>Sistema de Informação para a Saú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1AC5-3FEA-4A74-92B1-F51B30B63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9. O que se deve fazer quando se detectam erros</a:t>
            </a: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Identifique a causa do e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Corrija o erro (se possível</a:t>
            </a:r>
            <a:r>
              <a:rPr b="1" lang="pt-PT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Previna que o erro volte a ocorrer</a:t>
            </a:r>
            <a:r>
              <a:rPr b="0" lang="pt-P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FBF2-93DF-42B8-972E-7FD666A57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10. Procedimentos Práticos de Controle de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Verifique a completeza dos dados nos formul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eleça valores mínimos e máxim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amine os dados impressos para detectar erros usando medidas de controle gerais e específ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uma sessão de feedback sobre erro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B616-FCC4-48E0-83B6-03B322488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828800" y="2057400"/>
            <a:ext cx="5267160" cy="21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Obrigado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42AC-FD3C-4104-BA61-466B469A9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1. Objectivos Did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Valorizar a importância da Quid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Compreender porque ocorrem os err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Adquirir habilidades necessárias par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Detectar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Corrigir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	</a:t>
            </a: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Prevenir futuros er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Berlin Sans FB Demi"/>
                <a:ea typeface="Times New Roman"/>
              </a:rPr>
              <a:t>Logística do Controle de Qualid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6112-0A71-480C-9109-ADC32E435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2. Porque Razão dos Dados Estão Cheios de Erros</a:t>
            </a:r>
            <a:r>
              <a:rPr b="0" lang="pt-PT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COLHIDOS inadequada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PROCESSADOS inadequadam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rros nos dados não detectados e corrigidos</a:t>
            </a:r>
            <a:r>
              <a:rPr b="1" lang="pt-P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5609-ADEC-4613-97B4-4A14E0EC5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</a:rPr>
              <a:t>3. Porque os Dados Devem ser Corr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Uso de Dados Fidedignos é Perig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Produção de dados é C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ados incorrectos são dados inút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Produzir dados incorrectos é desperdício de tempo e dinh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Melhor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NÃO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 ter dados do que ter dados incorr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B14E-8029-4A3E-A2EE-92C6D1E4F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4. Em que medida os dados devem ser correctos?</a:t>
            </a: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42640" y="297144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s Dados devem ser o mais correctos possíveis de acordo com o propósito para que são process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DB29-1487-4F3A-98E7-76228C962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5. Princípios que enfatizam a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Formação/Capacit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Instrumentos de recolha/processamento amigáv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Feedback sobre Erros dos D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Feedback sobre Informação Analis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Uso da Informaç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114F-06A1-4F5F-AB72-57F7F8C23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6. Como se Podem Detectar os Erros?</a:t>
            </a:r>
            <a:r>
              <a:rPr b="0" lang="pt-P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Medidas gerais de Controle de Qu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Medidas específicas de Controle de Qua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BBE2-2652-4EA2-83EB-6963FB604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7. Medidas Gerais de Controle de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Completez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Locais apropr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Instrumentos amigáve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Aritmé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5BCF-034B-48EE-8020-103770D86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Arial"/>
                <a:ea typeface="Arial"/>
              </a:rPr>
              <a:t>8. Medidas Específicas de Controle de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Consistência de Tendência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Tendência Tempor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Mini/Max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Realis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Comparaç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Partes vs To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  <a:ea typeface="Arial"/>
              </a:rPr>
              <a:t>Dígitos Preferencia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ulela Julho 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4C94-7DA4-49F2-BD4A-02CA38292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20:14:06Z</dcterms:created>
  <dc:creator>António Sitói</dc:creator>
  <dc:description/>
  <dc:language>en-US</dc:language>
  <cp:lastModifiedBy>cfsm-m</cp:lastModifiedBy>
  <dcterms:modified xsi:type="dcterms:W3CDTF">2015-07-23T08:40:03Z</dcterms:modified>
  <cp:revision>31</cp:revision>
  <dc:subject/>
  <dc:title>Qualidade</dc:title>
</cp:coreProperties>
</file>