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184B0-523A-4A49-85E9-121B859CF215}" type="slidenum"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13D5B-BE2D-439D-A1DC-8EED7F9A05DF}" type="slidenum"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E960D-2FF5-49B1-BB95-96352D2A9014}" type="slidenum"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BCFF8-E5E5-47A0-8DFE-89DDC807EE03}" type="slidenum"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A54FC-2DC4-439B-9774-D72E9ADB110D}" type="slidenum"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7F1DC-804F-4E7E-97C9-16DD8B3B9CA6}" type="slidenum"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234DD-1446-4542-ADF5-96F2DA528960}" type="slidenum"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25CAA-128F-44BB-9ECD-6AB77E5A145A}" type="slidenum"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3D3B1-0CB9-4646-B175-B302ADF30DC8}" type="slidenum"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EF131-D639-4FCE-AC01-B7A3D7637889}" type="slidenum"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F1BEA-77E1-4DFA-9C95-E09515553891}" type="slidenum"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27CC1-9560-4790-9194-F300878B29DF}" type="slidenum"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DDADB-D2CF-4207-A9A0-04CF74206BB0}" type="slidenum"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F67F-6EDE-48E1-9D45-6E07E45AD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5E2B-F541-4D4B-8462-31C836B03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F5DA-38FE-4303-AF63-214F16DA0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43AD-6E23-4730-A86A-90F3A2CB1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CB77-81EE-4BD0-BFE5-8BC74A164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9FF2-42C4-483B-8545-935795C2A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5833-2617-4122-AE90-E97A9C66A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0705-A779-485C-8863-9F6EA2437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6381-474E-49ED-9962-846FBCB62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9E3F-C164-4943-8C45-71F73666C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4496-7729-48CD-8A3F-0058D2643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7F0C-6ECA-4AFC-B575-10216C9D0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ulela Julho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6FD4E-4134-45B5-AE82-2D307848F8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1752120"/>
            <a:ext cx="8077320" cy="3048120"/>
          </a:xfrm>
          <a:prstGeom prst="rect">
            <a:avLst/>
          </a:prstGeom>
          <a:noFill/>
          <a:ln w="66600">
            <a:solidFill>
              <a:srgbClr val="00ff00"/>
            </a:solidFill>
            <a:miter/>
          </a:ln>
          <a:effectLst>
            <a:outerShdw dist="153009" dir="2493982" blurRad="0" rotWithShape="0">
              <a:srgbClr val="3333cc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5400" spc="-1" strike="noStrike">
                <a:solidFill>
                  <a:srgbClr val="cc00cc"/>
                </a:solidFill>
                <a:latin typeface="Arial Black"/>
              </a:rPr>
              <a:t>Qualidade dos Dados</a:t>
            </a:r>
            <a:br>
              <a:rPr sz="5400"/>
            </a:br>
            <a:br>
              <a:rPr sz="2400"/>
            </a:b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695160" y="45720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Times New Roman"/>
              </a:rPr>
              <a:t>SIS</a:t>
            </a:r>
            <a:br>
              <a:rPr sz="2400"/>
            </a:br>
            <a:r>
              <a:rPr b="1" lang="pt-PT" sz="3200" spc="-1" strike="noStrike">
                <a:solidFill>
                  <a:srgbClr val="ff0000"/>
                </a:solidFill>
                <a:latin typeface="Times New Roman"/>
              </a:rPr>
              <a:t>Sistema de Informação para a Saú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ulela Julho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E9229-6943-4EA0-B214-4564C0EA17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30592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000000"/>
                </a:solidFill>
                <a:latin typeface="Arial"/>
                <a:ea typeface="Arial"/>
              </a:rPr>
              <a:t>9. O que se deve fazer quando se detectam erros</a:t>
            </a:r>
            <a:r>
              <a:rPr b="0" lang="pt-PT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</a:rPr>
              <a:t>Identifique a causa do er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</a:rPr>
              <a:t>Corrija o erro (se possível</a:t>
            </a:r>
            <a:r>
              <a:rPr b="1" lang="pt-PT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  <a:ea typeface="Arial"/>
              </a:rPr>
              <a:t>Previna que o erro volte a ocorrer</a:t>
            </a:r>
            <a:r>
              <a:rPr b="0" lang="pt-P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ulela Julho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8D04A-3899-4056-B31F-4886F45A33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30592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000000"/>
                </a:solidFill>
                <a:latin typeface="Arial"/>
              </a:rPr>
              <a:t>10. Procedimentos Práticos de Controle de Qualida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  <a:ea typeface="Arial"/>
              </a:rPr>
              <a:t>Verifique a completeza dos dados nos formulár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stabeleça valores mínimos e máxim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xamine os dados impressos para detectar erros usando medidas de controle gerais e específ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e uma sessão de feedback sobre erros</a:t>
            </a:r>
            <a:r>
              <a:rPr b="0" lang="pt-PT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ulela Julho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2857A-61AF-4A27-9348-C35E8349FF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WordArt 2"/>
          <p:cNvSpPr txBox="1"/>
          <p:nvPr/>
        </p:nvSpPr>
        <p:spPr>
          <a:xfrm>
            <a:off x="1828800" y="2057400"/>
            <a:ext cx="5267160" cy="2165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Obrigado</a:t>
            </a:r>
            <a:endParaRPr b="0" lang="en-US" sz="96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3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ulela Julho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5E84C-D30C-45C2-8FC1-447651E8CF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000000"/>
                </a:solidFill>
                <a:latin typeface="Arial"/>
                <a:ea typeface="Arial"/>
              </a:rPr>
              <a:t>1. Objectivos Didáct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104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000000"/>
                </a:solidFill>
                <a:latin typeface="Berlin Sans FB Demi"/>
                <a:ea typeface="Times New Roman"/>
              </a:rPr>
              <a:t>Valorizar a importância da Quidida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000000"/>
                </a:solidFill>
                <a:latin typeface="Berlin Sans FB Demi"/>
                <a:ea typeface="Times New Roman"/>
              </a:rPr>
              <a:t>Compreender porque ocorrem os erro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000000"/>
                </a:solidFill>
                <a:latin typeface="Berlin Sans FB Demi"/>
                <a:ea typeface="Times New Roman"/>
              </a:rPr>
              <a:t>Adquirir habilidades necessárias para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000000"/>
                </a:solidFill>
                <a:latin typeface="Berlin Sans FB Demi"/>
                <a:ea typeface="Times New Roman"/>
              </a:rPr>
              <a:t>	</a:t>
            </a:r>
            <a:r>
              <a:rPr b="1" lang="pt-PT" sz="3600" spc="-1" strike="noStrike">
                <a:solidFill>
                  <a:srgbClr val="000000"/>
                </a:solidFill>
                <a:latin typeface="Berlin Sans FB Demi"/>
                <a:ea typeface="Times New Roman"/>
              </a:rPr>
              <a:t>	</a:t>
            </a:r>
            <a:r>
              <a:rPr b="1" lang="pt-PT" sz="3600" spc="-1" strike="noStrike">
                <a:solidFill>
                  <a:srgbClr val="000000"/>
                </a:solidFill>
                <a:latin typeface="Berlin Sans FB Demi"/>
                <a:ea typeface="Times New Roman"/>
              </a:rPr>
              <a:t>Detectar err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000000"/>
                </a:solidFill>
                <a:latin typeface="Berlin Sans FB Demi"/>
                <a:ea typeface="Times New Roman"/>
              </a:rPr>
              <a:t>	</a:t>
            </a:r>
            <a:r>
              <a:rPr b="1" lang="pt-PT" sz="3600" spc="-1" strike="noStrike">
                <a:solidFill>
                  <a:srgbClr val="000000"/>
                </a:solidFill>
                <a:latin typeface="Berlin Sans FB Demi"/>
                <a:ea typeface="Times New Roman"/>
              </a:rPr>
              <a:t>	</a:t>
            </a:r>
            <a:r>
              <a:rPr b="1" lang="pt-PT" sz="3600" spc="-1" strike="noStrike">
                <a:solidFill>
                  <a:srgbClr val="000000"/>
                </a:solidFill>
                <a:latin typeface="Berlin Sans FB Demi"/>
                <a:ea typeface="Times New Roman"/>
              </a:rPr>
              <a:t>Corrigir err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000000"/>
                </a:solidFill>
                <a:latin typeface="Berlin Sans FB Demi"/>
                <a:ea typeface="Times New Roman"/>
              </a:rPr>
              <a:t>	</a:t>
            </a:r>
            <a:r>
              <a:rPr b="1" lang="pt-PT" sz="3600" spc="-1" strike="noStrike">
                <a:solidFill>
                  <a:srgbClr val="000000"/>
                </a:solidFill>
                <a:latin typeface="Berlin Sans FB Demi"/>
                <a:ea typeface="Times New Roman"/>
              </a:rPr>
              <a:t>Prevenir futuros err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000000"/>
                </a:solidFill>
                <a:latin typeface="Berlin Sans FB Demi"/>
                <a:ea typeface="Times New Roman"/>
              </a:rPr>
              <a:t>Logística do Controle de Qualida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ulela Julho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B5D1E-9DB8-4DA5-9903-859F871F76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000000"/>
                </a:solidFill>
                <a:latin typeface="Arial"/>
              </a:rPr>
              <a:t>2. Porque Razão dos Dados Estão Cheios de Erros</a:t>
            </a:r>
            <a:r>
              <a:rPr b="0" lang="pt-PT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ados COLHIDOS inadequadament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ados PROCESSADOS inadequadament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rros nos dados não detectados e corrigidos</a:t>
            </a:r>
            <a:r>
              <a:rPr b="1" lang="pt-PT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ulela Julho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06652-8EA2-4A0A-A9E4-2BC965F3DE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000000"/>
                </a:solidFill>
                <a:latin typeface="Arial"/>
              </a:rPr>
              <a:t>3. Porque os Dados Devem ser Correc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</a:rPr>
              <a:t>Uso de Dados Fidedignos é Perigo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</a:rPr>
              <a:t>Produção de dados é Ca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ados incorrectos são dados inúte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</a:rPr>
              <a:t>Produzir dados incorrectos é desperdício de tempo e dinhei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</a:rPr>
              <a:t>Melhor </a:t>
            </a:r>
            <a:r>
              <a:rPr b="1" lang="pt-PT" sz="3200" spc="-1" strike="noStrike">
                <a:solidFill>
                  <a:srgbClr val="000000"/>
                </a:solidFill>
                <a:latin typeface="Arial"/>
              </a:rPr>
              <a:t>NÃO</a:t>
            </a:r>
            <a:r>
              <a:rPr b="1" lang="pt-PT" sz="3200" spc="-1" strike="noStrike">
                <a:solidFill>
                  <a:srgbClr val="000000"/>
                </a:solidFill>
                <a:latin typeface="Arial"/>
              </a:rPr>
              <a:t> ter dados do que ter dados incorrec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ulela Julho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76524-75E2-4224-A0D1-A30E72BCA8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777240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4. Em que medida os dados devem ser correctos?</a:t>
            </a:r>
            <a:r>
              <a:rPr b="0" lang="pt-PT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142640" y="2971440"/>
            <a:ext cx="65530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Os Dados devem ser o mais correctos possíveis de acordo com o propósito para que são process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ulela Julho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8768A-9672-4AA9-96CC-6C90809FF1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5. Princípios que enfatizam a qualida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  <a:ea typeface="Arial"/>
              </a:rPr>
              <a:t>Formação/Capacitaçã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  <a:ea typeface="Arial"/>
              </a:rPr>
              <a:t>Instrumentos de recolha/processamento amigáve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  <a:ea typeface="Arial"/>
              </a:rPr>
              <a:t>Feedback sobre Erros dos Dad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  <a:ea typeface="Arial"/>
              </a:rPr>
              <a:t>Feedback sobre Informação Analis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  <a:ea typeface="Arial"/>
              </a:rPr>
              <a:t>Uso da Informaçã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ulela Julho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4304C-4C99-4C47-BFD7-DED8A26CE7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000000"/>
                </a:solidFill>
                <a:latin typeface="Arial"/>
                <a:ea typeface="Arial"/>
              </a:rPr>
              <a:t>6. Como se Podem Detectar os Erros?</a:t>
            </a:r>
            <a:r>
              <a:rPr b="0" lang="pt-PT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  <a:ea typeface="Arial"/>
              </a:rPr>
              <a:t>Medidas gerais de Controle de Qualida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  <a:ea typeface="Arial"/>
              </a:rPr>
              <a:t>Medidas específicas de Controle de Qualida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ulela Julho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DA7A1-DECD-4559-88E6-95507D7A0E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000000"/>
                </a:solidFill>
                <a:latin typeface="Arial"/>
                <a:ea typeface="Arial"/>
              </a:rPr>
              <a:t>7. Medidas Gerais de Controle de Qualida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  <a:ea typeface="Arial"/>
              </a:rPr>
              <a:t>Completez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  <a:ea typeface="Arial"/>
              </a:rPr>
              <a:t>Locais apropriad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  <a:ea typeface="Arial"/>
              </a:rPr>
              <a:t>Instrumentos amigávei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  <a:ea typeface="Arial"/>
              </a:rPr>
              <a:t>Aritmétic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ulela Julho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D8A94-54DB-4113-8289-3858553A95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000000"/>
                </a:solidFill>
                <a:latin typeface="Arial"/>
                <a:ea typeface="Arial"/>
              </a:rPr>
              <a:t>8. Medidas Específicas de Controle de Qualida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  <a:ea typeface="Arial"/>
              </a:rPr>
              <a:t>Consistência de Tendência Tempo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  <a:ea typeface="Arial"/>
              </a:rPr>
              <a:t>Tendência Tempora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  <a:ea typeface="Arial"/>
              </a:rPr>
              <a:t>Mini/Max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  <a:ea typeface="Arial"/>
              </a:rPr>
              <a:t>Realism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  <a:ea typeface="Arial"/>
              </a:rPr>
              <a:t>Comparaçõ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  <a:ea typeface="Arial"/>
              </a:rPr>
              <a:t>Partes vs Tod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  <a:ea typeface="Arial"/>
              </a:rPr>
              <a:t>Dígitos Preferenciai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ulela Julho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E5B30-3719-4FE2-833E-F6D9C3C2F5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4T20:14:06Z</dcterms:created>
  <dc:creator>António Sitói</dc:creator>
  <dc:description/>
  <dc:language>en-US</dc:language>
  <cp:lastModifiedBy>cfsm-m</cp:lastModifiedBy>
  <dcterms:modified xsi:type="dcterms:W3CDTF">2015-07-23T08:40:03Z</dcterms:modified>
  <cp:revision>31</cp:revision>
  <dc:subject/>
  <dc:title>Qualidade</dc:title>
</cp:coreProperties>
</file>