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E09-D7FB-40E2-9846-B9D8F590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79B-C6E8-48BC-A7C2-EBDBE5B2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B9A-18F5-4D0B-ABDA-BA5BBE2B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35E-B350-4B1D-B80E-043EA5AA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6938-4C72-462F-9081-1648A91E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6CF1-BC75-484D-9A72-30EC25F2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7385-7830-410F-BA32-518C6D93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B7C2-0D8C-4D1D-BF53-7B198B96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0E91-8D07-4AB0-ADCD-B3FFC749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2DE8-AB78-4E5A-B9AF-9DF5F3EA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19CD-1830-42B7-9292-DE80DB32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55A-1DA3-4941-AEAB-B528F848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DC96-2155-419F-9D41-108CED4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DCCF-55F8-431E-8305-8D6EAB3C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C9A0-C456-4601-AEA5-7FDFD98C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CC37-574E-43F9-9EE7-812CDA96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2DD2-097C-4E28-AB4C-21118411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F5C-4DB1-4995-90F3-057BBA12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91C-7693-4F35-8E06-E6EABB2D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452-046A-4729-8ED4-3C7A900E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26C-4A36-4EB0-97FD-283C22C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52A-BED6-493F-AB07-D0A3191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64B-3D02-408F-A6A1-C7B6F58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592-4956-4C68-8E61-DFE6DDCF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AADF-6A82-4849-A68A-41AE18D95E83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2498-3C1D-4E5F-8C93-B80FB02B07F2}" type="slidenum">
              <a:rPr b="0" lang="en-US" sz="1400" spc="-1" strike="noStrike">
                <a:solidFill>
                  <a:srgbClr val="27277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Сжатие информаци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ourier New"/>
              </a:rPr>
              <a:t>Алгоритм Хаффмана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Алгоритм Хаффмана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0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ourier New"/>
              </a:rPr>
              <a:t>Алгоритм Хаффмана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 — адаптивный алгоритм оптимального       префиксного кодирования алфавита с минимальной избыточностью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Был разработан 1952 году аспирантом Массачусетского технологического института Дэвидом Хаффманом при написании им курсовой работы. В настоящее время используется во многих программах сжатия данных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. Символы исходного алфавита образуют вершины. Вес каждой вершины вес равен количеству вхождений данного символа в сжимаемое сообщение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. Среди вершин выбираются две с наименьшими весами (если таких пар несколько, выбирается любая из них)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. Создается следующая вершина графа, из которой выходят две дуги к выбранным вершинам; одна дуга помечается цифрой 0, другая — символом 1.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Вес созданной вершины равен сумме весов, выбранных на втором шаге вершин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. К новым вершинам применяются шаги 2 и 3 до тех пор, пока не останется одна вершина с весом, равным сумме весов исходных символов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ourier New"/>
              </a:rPr>
              <a:t>НА_ДВОРЕ_ТРАВА,_НА_ТРАВЕ_ДРОВА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48309" r="0" b="0"/>
          <a:stretch/>
        </p:blipFill>
        <p:spPr>
          <a:xfrm>
            <a:off x="1403280" y="2276640"/>
            <a:ext cx="6048360" cy="21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042920" y="1268280"/>
          <a:ext cx="6934320" cy="1035360"/>
        </p:xfrm>
        <a:graphic>
          <a:graphicData uri="http://schemas.openxmlformats.org/drawingml/2006/table">
            <a:tbl>
              <a:tblPr/>
              <a:tblGrid>
                <a:gridCol w="692280"/>
                <a:gridCol w="695160"/>
                <a:gridCol w="692280"/>
                <a:gridCol w="695160"/>
                <a:gridCol w="692280"/>
                <a:gridCol w="692280"/>
                <a:gridCol w="695160"/>
                <a:gridCol w="692280"/>
                <a:gridCol w="69516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в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д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,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_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6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5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32000" y="5137200"/>
            <a:ext cx="6553080" cy="1244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50640" y="452772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Составим таблицу кодов символов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374760"/>
            <a:ext cx="79930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Найдем объем сообщения после кодирования кодом Хаффмана: 2·6 + 3·4 + 4·2 + 4·1 + 4·2 + 4·2 + 3·4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·2 + 4·2 + 3·5 = 95 бит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Теперь подсчитаем объем этого сообщения, если каждый его символ кодировать цепочкой из 0 и 1 равной длины. Т.к. в сообщении 10 различных символов вес одного символа 4 бита. Поэтому после кодирования получится сообщение объемом 4·3 = 120 бит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Коэффициент сжатия равен 120/95 =1,26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Сообщение в памяти компьютера закодировано с помощью ASCII-кодов, каждый символ весит 8 бит. Значит, объем исходного сообщения 240 бит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Коэффициент сжатия равен 240/95 = 2,53. 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11280" y="156204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Математики доказали, что среди алгоритмов, кодирующих каждый символ по отдельности и целым количеством бит, алгоритм Хаффмана обеспечивает наилучшее сжатие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197000"/>
            <a:ext cx="828036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Для кодирования сообщения, состоящего из букв А, Б, В, Г и Д, используется неравномерный двоичный код, позволяющий однозначно декодировать полученную двоичную последовательность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А–00, Б–010, В–011, Г–101, Д–111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Можно ли сократить для одной из букв длину кодового слова так, чтобы код по-прежнему можно было декодировать однозначно?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Выберите правильный вариант ответа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) для буквы Б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) это невозможно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) для буквы В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) для буквы Г – 01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271520" y="3789360"/>
            <a:ext cx="6350040" cy="2450880"/>
            <a:chOff x="1271520" y="3789360"/>
            <a:chExt cx="6350040" cy="2450880"/>
          </a:xfrm>
        </p:grpSpPr>
        <p:sp>
          <p:nvSpPr>
            <p:cNvPr id="118" name=""/>
            <p:cNvSpPr/>
            <p:nvPr/>
          </p:nvSpPr>
          <p:spPr>
            <a:xfrm>
              <a:off x="1293840" y="5540400"/>
              <a:ext cx="96660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0080" y="5540400"/>
              <a:ext cx="96696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48120" y="5540400"/>
              <a:ext cx="96696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6160" y="5540400"/>
              <a:ext cx="96696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73360" y="4829040"/>
              <a:ext cx="1780920" cy="7002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2320" y="4829040"/>
              <a:ext cx="1781280" cy="7002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5440" y="4143240"/>
              <a:ext cx="3557520" cy="7002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70400" y="4089240"/>
              <a:ext cx="1303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960" y="4243320"/>
              <a:ext cx="234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62000" y="4987800"/>
              <a:ext cx="235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152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008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34080" y="5740200"/>
              <a:ext cx="2332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1816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876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8648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5092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688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03560" y="4987800"/>
              <a:ext cx="235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00800" y="4987800"/>
              <a:ext cx="234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80160" y="4987800"/>
              <a:ext cx="233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45200" y="4243320"/>
              <a:ext cx="234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87840" y="3789360"/>
              <a:ext cx="1503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72776"/>
                  </a:solidFill>
                  <a:latin typeface="Courier New"/>
                </a:rPr>
                <a:t>корень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. Решение.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217520"/>
            <a:ext cx="831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Построим двоичное дерево, в котором от каждого узла отходит две ветки: 0 или 1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Разместим на дереве буквы А, Б, В, Г и Д так, чтобы их код получался как последовательность чисел на рёбрах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547640" y="5013360"/>
            <a:ext cx="6256440" cy="1147680"/>
            <a:chOff x="1547640" y="5013360"/>
            <a:chExt cx="6256440" cy="1147680"/>
          </a:xfrm>
        </p:grpSpPr>
        <p:sp>
          <p:nvSpPr>
            <p:cNvPr id="144" name=""/>
            <p:cNvSpPr/>
            <p:nvPr/>
          </p:nvSpPr>
          <p:spPr>
            <a:xfrm>
              <a:off x="1547640" y="5013360"/>
              <a:ext cx="42552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А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3280" y="5742000"/>
              <a:ext cx="42372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Б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17800" y="5742000"/>
              <a:ext cx="42408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В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08800" y="5742000"/>
              <a:ext cx="42696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Г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78560" y="5742000"/>
              <a:ext cx="42552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Д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. Решение.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793800" y="1341360"/>
            <a:ext cx="788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По дереву определим, что для букв Г и Д код можно сократить. Выберем ответ из предложенных вариантов: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) для буквы Б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) это невозможно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) для буквы В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) для буквы Г – 01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94680" y="3284640"/>
            <a:ext cx="7307640" cy="3115080"/>
            <a:chOff x="994680" y="3284640"/>
            <a:chExt cx="7307640" cy="3115080"/>
          </a:xfrm>
        </p:grpSpPr>
        <p:sp>
          <p:nvSpPr>
            <p:cNvPr id="152" name=""/>
            <p:cNvSpPr/>
            <p:nvPr/>
          </p:nvSpPr>
          <p:spPr>
            <a:xfrm>
              <a:off x="5284440" y="5051880"/>
              <a:ext cx="475560" cy="4845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988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0744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644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8580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55200" y="4488120"/>
              <a:ext cx="1993320" cy="8100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37880" y="4488120"/>
              <a:ext cx="1993320" cy="8100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3120" y="3694320"/>
              <a:ext cx="3980160" cy="8100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61120" y="3631320"/>
              <a:ext cx="145080" cy="14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1320" y="3810240"/>
              <a:ext cx="2624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6160" y="4671360"/>
              <a:ext cx="262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468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0744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9160" y="5542920"/>
              <a:ext cx="2606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56840" y="5542920"/>
              <a:ext cx="2624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9948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3648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6660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6352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4160" y="4671360"/>
              <a:ext cx="262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25440" y="4671360"/>
              <a:ext cx="262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45920" y="4671360"/>
              <a:ext cx="260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39240" y="3810240"/>
              <a:ext cx="2628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23360" y="5072040"/>
              <a:ext cx="475560" cy="48420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А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52200" y="5915160"/>
              <a:ext cx="4755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Б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42280" y="5915160"/>
              <a:ext cx="4755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В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7480" y="5915160"/>
              <a:ext cx="4773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Г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26760" y="5915160"/>
              <a:ext cx="4755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Д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97200" y="3284640"/>
              <a:ext cx="16819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658560" y="342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Ответ: 4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98560" y="1557360"/>
            <a:ext cx="77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Для передачи по каналу связи сообщения, состоящего только из букв А, Б, В, Г, решили использовать неравномерный по длине код: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A=0, Б=10, В=110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Как нужно закодировать букву Г, чтобы длина кода была минимальной и допускалось однозначное разбиение кодированного сообщения на буквы?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) 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) 1110 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) 111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) 11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Courier New"/>
              </a:rPr>
              <a:t>Для самостоятельной работы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12682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Для 5 букв латинского алфавита заданы их двоичные коды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Эти  коды представлены в таблице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2768760"/>
          <a:ext cx="7715160" cy="1380960"/>
        </p:xfrm>
        <a:graphic>
          <a:graphicData uri="http://schemas.openxmlformats.org/drawingml/2006/table">
            <a:tbl>
              <a:tblPr/>
              <a:tblGrid>
                <a:gridCol w="1542960"/>
                <a:gridCol w="1544760"/>
                <a:gridCol w="1539720"/>
                <a:gridCol w="1544760"/>
                <a:gridCol w="1542960"/>
              </a:tblGrid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B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D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E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000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01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011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26920" y="4437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Определить, какой набор букв закодирован двоичной строкой 0110100011000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Сжатие информаци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4760" y="4508640"/>
            <a:ext cx="75819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ourier New"/>
              </a:rPr>
              <a:t>Сжатие данных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 – сокращение объема данных при сохранении закодированного в них содержания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11280" y="1555920"/>
            <a:ext cx="4032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8560" y="1557360"/>
            <a:ext cx="77058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Для передачи по каналу связи сообщения, состоящего только из букв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 А, Б, В, Г, решили использовать неравномерный по длине код: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A=0, Б=10, В=110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Как нужно закодировать букву Г, чтобы длина кода была минимальной и допускалось однозначное разбиение кодированного сообщения на буквы?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Сжатие информаци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Сжатие происходит за счет устранения избыточности кода, например, за счет упрощения кодов, исключения из них постоянных битов или представления повторяющихся символов в виде коэффициента повторения.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Важнейшая характеристика процесса сжатия – коэффициент сжатия.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ourier New"/>
              </a:rPr>
              <a:t>Коэффициент сжатия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 – отношение объема исходного сообщения к объему сжатого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Алгоритмы сжатия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341360"/>
            <a:ext cx="7777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. Равномерное сжатие с использованием кодов одной длины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Этот метод используется, если в записи сообщения присутствует небольшая часть алфавита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. Сжатие с использованием кодов переменной длины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Сокращение объёма данных достигается за счёт замены часто встречающихся данных короткими кодовыми словами, а редких — длинными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Courier New"/>
              </a:rPr>
              <a:t>Сжатие с использованием кодов переменной длины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581120"/>
            <a:ext cx="7848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В этом случае возникает проблема отделения кодов символов друг от друга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Решить эту проблему позволяет условие, достаточное для однозначного декодирования сообщений с переменной длиной кодовых слов, </a:t>
            </a:r>
            <a:r>
              <a:rPr b="0" i="1" lang="ru-RU" sz="2400" spc="-1" strike="noStrike">
                <a:solidFill>
                  <a:srgbClr val="272776"/>
                </a:solidFill>
                <a:latin typeface="Courier New"/>
              </a:rPr>
              <a:t>условие Фано</a:t>
            </a: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Никакое кодовое слово не является началом другого кодового слова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По-другому условие Фано называют </a:t>
            </a:r>
            <a:r>
              <a:rPr b="0" i="1" lang="ru-RU" sz="2400" spc="-1" strike="noStrike">
                <a:solidFill>
                  <a:srgbClr val="272776"/>
                </a:solidFill>
                <a:latin typeface="Courier New"/>
              </a:rPr>
              <a:t>свойством префиксности</a:t>
            </a: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, а код, удовлетворяющий этому условию, называют </a:t>
            </a:r>
            <a:r>
              <a:rPr b="0" i="1" lang="ru-RU" sz="2400" spc="-1" strike="noStrike">
                <a:solidFill>
                  <a:srgbClr val="272776"/>
                </a:solidFill>
                <a:latin typeface="Courier New"/>
              </a:rPr>
              <a:t>префиксным кодом</a:t>
            </a: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577880"/>
            <a:ext cx="7704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Чтобы понять, как строятся префиксные коды, рассмотрим, как построить ориентированный граф, определяющий этот код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Например, кодовые слова 00, 01, 10, 011, 100, 101, 1001, 1010, 1111, кодируют соответственно буквы: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677960"/>
            <a:ext cx="7704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Построим граф этого кода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Из начальной вершины выходят две дуги, помеченные 0 и 1. Затем из конца каждой такой дуги входят новые дуги, помеченные 0 и 1 так, чтобы, идя по этим дугам от корня, читалось начало какого-либо кодового слова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84280"/>
            <a:ext cx="439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72776"/>
                </a:solidFill>
                <a:latin typeface="Courier New"/>
              </a:rPr>
              <a:t>Если при этом какое-то последовательность оказывается прочитанным полностью, то у конца последней дуги пишется кодируемый символ. </a:t>
            </a:r>
            <a:endParaRPr b="0" lang="en-US" sz="26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025880" cy="274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454644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72776"/>
                </a:solidFill>
                <a:latin typeface="Courier New"/>
              </a:rPr>
              <a:t>Из получившихся вершин снова проводятся дуги — и так далее, до тех пор, пока не будут исчерпаны все коды. </a:t>
            </a:r>
            <a:endParaRPr b="0" lang="en-US" sz="2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268280"/>
            <a:ext cx="8137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Если известен граф, созданный по префиксному коду, то по этому графу легко восстанавливается код каждого символа — надо просто, идя от корня к листу, помеченному данным символом, выписать 0 и 1 в порядке их прочтения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Идея префиксного кодирования была использована американским ученым Д.Хаффманом для создания эффективного алгоритма сжатия символьной информации. 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5:57:29Z</dcterms:created>
  <dc:creator>Serg</dc:creator>
  <dc:description/>
  <dc:language>en-US</dc:language>
  <cp:lastModifiedBy>Serg</cp:lastModifiedBy>
  <dcterms:modified xsi:type="dcterms:W3CDTF">2013-10-05T16:45:15Z</dcterms:modified>
  <cp:revision>28</cp:revision>
  <dc:subject/>
  <dc:title>Сжатие информации</dc:title>
</cp:coreProperties>
</file>