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F4978-9042-4DB2-8E8C-FE2A3576D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A6E10-D1DA-428C-8980-5B909027A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B9C9C-ACC0-4FAE-A7A8-04698D67C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1F6B-0D2A-46A9-8C13-03581F72C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A747-5960-40D5-89BA-0DC14B6AA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E648E-81D5-4176-9BCA-0D5A0FD57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7A57-DABC-4E3D-80B8-DBBF90BAE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F4115-7D2C-4305-968B-EE6DF5496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6038-9463-4497-9B69-C6E8DD481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70F5-9497-421D-A712-4C52DF2A1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ACF1-E1C3-42DE-B46B-E0B1FB541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BCEE-F20F-4043-A283-77EF9E617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D392-8F84-4267-ABC6-75104CF16C1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Jhpiego_logo"/>
          <p:cNvPicPr/>
          <p:nvPr/>
        </p:nvPicPr>
        <p:blipFill>
          <a:blip r:embed="rId2"/>
          <a:stretch/>
        </p:blipFill>
        <p:spPr>
          <a:xfrm>
            <a:off x="7772400" y="2286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FUNDAMENTOS DE ENFERMAGEM</a:t>
            </a:r>
            <a:br>
              <a:rPr sz="36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EPARACAO DO CORPO(MUMI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520" y="4800240"/>
            <a:ext cx="6172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Sub-modulo 18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 fim da discussao o estudante deve ser capaz de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itar os objectivos e a importância dos cuidados após a mor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Nomear os componentes dos cuidados pós mor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Descrever a técnica de prestação de cuidados de enfermagem pós mor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Prestar os Cuidados de enfermagem após a mor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12D7-BF1E-448C-AEEE-F3649BB76EC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5"/>
          <p:cNvSpPr/>
          <p:nvPr/>
        </p:nvSpPr>
        <p:spPr>
          <a:xfrm>
            <a:off x="4038480" y="1981080"/>
            <a:ext cx="484200" cy="5968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 DA  MOR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 morte ou óbito significa a cessação de vida, com interrupção irreversível das funções vitais do organismo e, legalmente deve ser confirmado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C15A-0DD1-4625-B894-6FAB8782F00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CIA DOS CUIDADOS COM O CORP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E para permitir que o enfermeiro inicia a preparação do corpo,realizando a limpeza e desinfecção,para  evitar os odores desagradáveis e saída de secreções, sangue e adequar a posição do corpo antes que ocorra a rigidez cadavéric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Permite que a família encontre o corpo devidamente preparado e conservado em lugar seguro,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Permite  os familiares encontrar os pertences do morto, arrolados e guardados em local apropriado e seguro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13EA-A33F-4376-A195-53C1D9D7C53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mite que o enfermeiro após a morte do paciente, observe o esfriamento do corpo, manchas generalizadas,  cor da pele,relaxamento dos esfíncteres e rigidez do corpo/cadavér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mite a  preparação do corpo que consiste na limpeza e desinfecção deixar o corpo preparado e conservado, adequando a posição do corpo antes que ocorra a rigidez cadavérica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E234-0A55-48B9-8FF7-ACD0BB7E7F1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676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acao do Corp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9047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Enfermeiro antes da  preparacao do material a ser utilizado,deve verificar se há necessidade de realizar a higiene do corpo;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videnciar o seguinte material (algodão,pinça,ligadura,benzina para remover adesivo, maca, lençóis, biombo (se houver outros pacientes no quarto) e etiquetas de identificação preenchida e assinada pelo enfermeir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pós a limpeza do corpo e retirada de drenos, sondas, cateteres e outros objectos, realizar o tamponamento de cavidades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879A-66F7-4417-9C8C-97B3F756216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acao do Corp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Enfermeiro deve estar atento antes que ocorra rigidez cadavérica, fechar os olhos do morto, colocar a prótese dentária ou outras próteses (se houver) e com o auxílio de atadura imobilizar o queixo, os pés e os brac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tiqueta de identificação deve ficar presa ao pulso, o corpo mantido em posição anatómica decúbito dorsal e braços sobre o tórax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corpo deve ser transferido para maca forrada com lençol disposto a diagonal, com o qual será enrolado, coberto e transportado a morgu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7026-C214-4356-A84D-FC352047C3B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acao do Corp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s valores e pertences devem ser entregue  aos familiares e na ausência dos mesmos, arrolados e guardados em local apropriado e segur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unca  descartar pertences que aparentemente não possuem valor, como papel de orações, revistas, entre outros, deixar que os familiares seleccionem o que achar desprezi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pós os procedimentos, lavar e desinfectar os aparelhos e materiais utilizados na reanimação e providenciar a limpeza da unidade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056C-5230-405A-BF6C-12349464D04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  E EPI NECESSAR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terial Necessario para preparação do corpo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Bacia, água, sabão, algodão, compressas, toalha, éter ou benzina, ataduras e adesiv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Dois lençói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Biombo, quando necessári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Recipiente com casos plásticos identificados para o lixo comum e o lixo infeccioso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Procedimento: Ver Pág: 11- Guião de procedimentos básicos de enfermage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EPI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máscara, óculos, barrete, luvas de procedimentos, avental plástico e sapatos impermeáveis fechado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E3E5-040E-40A8-B151-42D1CB93152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2-01-16T12:16:27Z</dcterms:modified>
  <cp:revision>846</cp:revision>
  <dc:subject/>
  <dc:title>ANATOMIA E FISIOLOGIA HUMANA</dc:title>
</cp:coreProperties>
</file>