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  <p:sldId id="274" r:id="rId45"/>
    <p:sldId id="275" r:id="rId46"/>
    <p:sldId id="276" r:id="rId47"/>
    <p:sldId id="277" r:id="rId48"/>
    <p:sldId id="278" r:id="rId49"/>
    <p:sldId id="279" r:id="rId50"/>
    <p:sldId id="280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slide" Target="slides/slide19.xml"/><Relationship Id="rId46" Type="http://schemas.openxmlformats.org/officeDocument/2006/relationships/slide" Target="slides/slide20.xml"/><Relationship Id="rId47" Type="http://schemas.openxmlformats.org/officeDocument/2006/relationships/slide" Target="slides/slide21.xml"/><Relationship Id="rId48" Type="http://schemas.openxmlformats.org/officeDocument/2006/relationships/slide" Target="slides/slide22.xml"/><Relationship Id="rId49" Type="http://schemas.openxmlformats.org/officeDocument/2006/relationships/slide" Target="slides/slide23.xml"/><Relationship Id="rId50" Type="http://schemas.openxmlformats.org/officeDocument/2006/relationships/slide" Target="slides/slide24.xml"/><Relationship Id="rId51" Type="http://schemas.openxmlformats.org/officeDocument/2006/relationships/slide" Target="slides/slide25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dt" idx="4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5"/>
          <p:cNvSpPr>
            <a:spLocks noGrp="1"/>
          </p:cNvSpPr>
          <p:nvPr>
            <p:ph type="ftr" idx="4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6"/>
          <p:cNvSpPr>
            <a:spLocks noGrp="1"/>
          </p:cNvSpPr>
          <p:nvPr>
            <p:ph type="sldNum" idx="4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BED0D-622D-4185-9789-0C6D851AC46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7F258-36BE-46F6-BE36-58C3E30E80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A5C8A-039C-40CF-A548-6ED5020572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C5B7C-17C6-4F89-8DD0-E20A48B29E5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4BAC7B-5B03-459F-BAA5-7EB2D36070E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C38487-F49C-4A3B-AFD1-EB628970983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B57493-C2CE-4A9E-968B-A3EA625C402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70E579-2631-4C09-BBBF-10FEACB3F90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95DEF7-2F93-470B-8486-3117C8D5F7D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32C577-B9E0-4502-9AAA-893DA5D6C44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8B8246-8C36-4494-9BA7-AC9C653EDFD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AD3D76-0F9B-41A4-B1CE-35C9B66AD31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57C449-A562-4B0E-B531-4B82F05E07E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0D9D82B-BB75-456A-A250-CB6DE6F32E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C394D-386F-4527-BCEC-4BD716DDD33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E2C3FA-284B-43B6-A8BF-F6449C35FD3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FA5AAE9-A34C-4443-B8F7-D0B2A87105E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A07CA93-AC9F-43B9-8AFF-889CA67B842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769592E-7AE9-45DC-99F6-8977B1DD672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462B882-D794-4541-A6A2-23B9AC4CF0D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06ECAFF-2365-437D-9FB7-1BEB2DA6800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6C4EB4C-8197-48D3-A1BF-CF9E24BD775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D19ACFA-962A-49A5-AA55-BAE2F373551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C1CCB0F-AB8A-40E9-9DEC-C92C14E4A3A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C91B5B0-A2D9-47D1-B8E5-05FC859FB3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E6F5E-3BB8-45E8-8562-31CBDA5FBBD5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2A1457-B143-4128-98A4-A3AFA4B1CB3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D75748-1607-4B34-A349-F5A9E67C7B2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13CDF9-F0B7-4E2F-B203-67C25FBD1B3E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0484A-2E28-4988-AFF0-8FB148A12B9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1C289-56C3-4DE0-BFB1-92F67FE352BC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01D41E-147F-416D-87ED-8DEF3B5F89F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A5841-B4AD-444B-A18C-09E1AB008BB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3F298-0A99-40C9-94D3-E63A4EDADAE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F54D62-B082-4392-9BD7-73405339029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318B04-1473-4C91-ABBC-AAD194BC41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509733-D500-4250-B8A2-5E8888CBA6B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3B2917-2544-4068-99EB-3506A773284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903FF3-F9EB-4B19-9D76-CE3E9986AE8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061289-617F-4DF2-811C-B5F599C0CC13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92C6D1-ED2B-4FF9-A2EE-179E90DD79F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3A5B15-E8B2-4B57-B7B6-0146CDAADB39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348E22-33C4-4333-B45C-34FDB88C243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AB8DF1-60D3-4E4B-810C-DF68B9D1326E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AB5CF8-A041-4A55-9AFD-70080F13CAA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734A47-D6DC-4426-97E7-9A6F4B45B5BC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A058B9-A8C0-439B-A4A9-98B58840E5B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1ED683-2DFA-4892-A73D-1B4D45FA3AEE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285F16-FF94-404D-A805-542BA37CC99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52F409-14A8-4C25-8B09-57D59FFEA09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A7C6FD-5E01-4B6B-A362-81A157846C2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45C60C-6891-4FD3-9D6D-82F3A3C9B5E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AFC3ED-98BC-4410-8C32-D6EDF1224EEC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DFF251-F8D5-4A7B-BC15-C481BBFEF247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CE5270-4EAF-4831-9EB1-357330D7C717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00D297-9751-4DF1-99D4-C73315F572D3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0F2601-0A84-414C-9D1F-6798C30A5F3B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D707B3-EFAA-4D63-9E10-4E4AF3CE091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07DA44-0BFC-4B40-9D13-6302F6208CFA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B2B971-0202-47BF-9A48-D9C779E3608C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28D135-DF50-4372-8D92-2401097FA02E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E09C4F-B78F-4E29-A440-BCA110D2368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B23312-93F8-4006-923C-B0E745BF28A5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5CDAD4-15C2-413C-A6B6-402C39527D4E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2AF50E-5480-4676-8C35-114EF8BC03F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1B38B9-ACF5-4883-A881-BA51094B5E1A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05EABB-68F1-4D28-A6FD-6D0DBAB709B1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6E1D99-FEBE-4F66-A44C-01FF6C712A6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10F0D0-3157-4104-BFA9-818C31A478A0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18A48A-14A0-4801-9126-1050A4AF9395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0917ED-15AF-4E2E-A56D-620708B174C2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829BC2-F0CA-4C9A-9D74-AE675FDF5AC3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4FA2DA-C6D3-4BDD-A786-74BB46367CAB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00DF23-E18E-48C4-90A4-AC85CEA1BC8E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0AF9CB-941E-4360-B621-8C0CAFCE89FF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C2034E-B1DF-4099-A675-5EBA640543A6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A2B13E-1119-4808-ABD8-FB092CA639F4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6A91B5-6AED-42DF-8646-6DD0CB6DEAE1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29C093-ECBB-4AED-92AC-FB5D31544B6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90DA36-242E-4FC4-9AED-CDCF90D5DAC3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C16CB4-181C-4E44-9B56-CAA0EB8707D7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ABA659-7F77-4D44-B451-58B3B8DCAAEA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81F47E-7805-42C7-821F-C05C29429C40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D3B1B2-504A-437B-84A7-50B4500F3311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FE4EAD-A14A-436A-9E78-DFA09ECFFD22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0A2C5F-230C-448A-A50A-017A56224562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8E0FDA-F42A-4E95-993C-75F08808FEED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8AAF0F-C250-4D9B-AFE4-BB19E3EF23CD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384480-C16C-4DBD-A722-805554693770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2BD21A-1037-4B8E-A4DD-DDBAB7BAFA4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68DBAB-E1C6-4336-9FDE-9CACF43576B7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1DC29B-7792-4CD7-A049-E3BD6243785C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1B7353-76BC-4625-BFC8-2D69C9079DBE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A09DB4-EB9B-4FB7-AC21-5D1FF54DE39B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36A2B47-33E0-4533-A614-E5E2FC4EC4E4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084EEB4-AEBD-4200-9870-43F42F71A810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57C76AB-C4AE-4A47-B310-09EE1AD5AE95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481CB16-03B7-4295-8155-3E7E136A757D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475D1AD-C1BA-402C-87C5-DB5E06BB55C5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071D72B-DC44-449A-87AF-608ECAF8C441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7071064-BB2B-4C9B-82B4-6815B91CEE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EB6C3-EB97-4E7B-9D72-924DE8A8F9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9F976B-A5D5-4313-B8DD-6465EE54EE9B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322E642-EE3B-4AB2-BBFF-6ABA424514B8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8496AD0-B5C9-48FA-8F8A-F4CB4E85860C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F78444C-E9A0-4568-870A-A20CB8B8F744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DBA4F90-FADB-4FA1-93F6-9233A4D6E44B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1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2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E41A291-D6AB-43A1-A445-280BEDEE8F20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B69CB5-C4A1-49CB-A72C-83F467DE9C59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E867E3-2715-453B-AD69-EB21820B1B8A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E0955C-F37C-408F-B0E6-7D52B28EC4E7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54CE1A-5BD0-40BB-AAB4-BF70967E4945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F83404-2C29-45E9-8993-76552C911C1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68A217-EC56-49FC-9D81-24FA47D8C402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C7FF02-6FE9-4036-A122-711E950787D6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FACA50-6485-4180-A052-DE5D218BA745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E5E918-593B-4BD0-A59D-0463F08863B9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DD086E-B162-4E13-96F8-4FD74D095F38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A60494-9406-4923-8F5D-A6A563CED2D4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B7FD21-97D3-4F13-9A90-EA023C6DC679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2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3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CDA48C-3393-421C-8865-8C1134344A60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2FA8A3-0188-4F43-AE05-A16D08B2E36F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987ECE-E75F-4E93-B565-4667928CD9AB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368EEA-5470-44CB-8560-265A5DE2468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F25C6D-7F47-48FC-B87F-97AE8D5D991C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F03A6E-D049-4FBA-AE18-EDFD4B265FBD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EA69CD-C7A6-4115-B2C2-01646A8B3D8D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88FBF6-FF5B-4903-994B-4E7E11A54DBF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23889D-7212-42D6-BD07-1A3028D73C6F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1C25B5-C2B9-47CE-879C-421E6F9E2F21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D757F3-0D1A-4B21-92A8-8CC441AFEBB2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2327D9-6A89-46BF-96AE-3601E11B083F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5E3671-26B6-4D84-9C44-98114CD85275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3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4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474500-66E0-4451-9521-F1848A0452FB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66DE15B-A805-4B33-B280-9869EFD9B2C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3CB75D-4FA8-4702-8271-010250340E8B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016CD64-67CB-4984-AB84-92DE9C212280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FAD8765-025B-4BFA-8DC1-57DA18F35766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9FC54F2-4E65-49BF-B8E1-0E9699B09631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A9F858C-EDCA-47C4-AE0C-FEA2BB76B9A8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45E2A52-A1E8-43CF-B0F1-68B293C3812C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5885CC7-8191-49F4-9616-130966E6B31F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EEEB1F8-A12F-4436-8862-44DE77746F5E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8B4593B-0B78-44AC-9052-DDEEA789DDF9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1F1D3F6-4260-4A54-A56A-31DE5FA08A17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43E24FD-0027-44EE-BD88-CA1FF5500CC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F9C1A8-5AD5-40F7-AAEF-3584CA72E755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4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5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957C7CE-AA76-4C46-9D75-5AB429CE6167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F9E092F-AC61-47FA-873D-616E9A22AD39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7E73EF6-5F12-4F7B-B90E-A957E4CFE64A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EB96129-3E58-4243-9491-B66BC331CAB3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C883A9E-79B9-4AB1-A313-FE2AA343AD51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CB44485-8F5C-416B-B660-BCC6274152EF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746EA2F-D6E4-4144-846E-A171C1EA985E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46FA12A-EBA2-4CC4-AD33-C5099034B417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E2B3367-E699-45D9-AA3F-51329777A932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053C805-ED1E-4765-BCED-F6DAE18772F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F3CCEF6-18C2-4D9F-98E4-8D35A0E68DAD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BDC5800-02D0-44CE-86BE-D732423EB3B0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A0D70B5-850E-410F-BC76-7DC59B241372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6545DE-8DBB-41C6-825E-887CD3326307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542148-5115-41BF-96D7-8353E01DCE43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AB2BC0-7E3E-4565-A93A-E8C8BEAFCDA9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66D2CC-246B-4DC9-A537-AE2FC1660ED7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442993-D76B-4359-9FC2-DEA173B2B01C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3F4809-1181-4556-A60C-D671222C237A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348267-17BF-49B2-9C04-5C6B5D3502F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63EA0C-365B-4A2E-916C-650B22151EDF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13F75E-22A3-4C14-8A06-80AA7309DC2B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00A680-0357-477E-A5AD-BA89C855F4D1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D12321-006E-4879-9A39-FE3AFE9F999A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06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07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ABFA01-C1B3-4AD3-B15F-584CCA2DC166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9947BC3-BFD6-443B-BE4F-446513C4B252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BFD6C9D-CD6B-4CD4-93A6-376048D8B2AB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C737D2F-B122-43BA-875B-5D74A57A234E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D3E28D5-0448-4409-805D-F09B52EDCA6F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CD2F828-FB47-42FA-9209-CD1625E96ED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7FD7B7A-33FD-4BA8-B955-5102B6D3914E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187FBD9-1F8C-442A-BE7B-FDB30D865511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6010D7F-1966-4FEF-9A15-6E74DFC402A9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B7B6B3B-755D-43A8-A48F-1787BC2BF3EB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7AA82BA-D4FF-4B9A-B675-03E7A57A3044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7AE65F9-5A58-42A7-BB84-7C0B5F2E5302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47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48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DB7808E-CC29-4AA6-921F-134847AA9132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17C1339-32FB-457F-B443-B63B24FD329D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3230D18-3DE5-4657-96E5-C467A23DDDE8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65720D0-0098-4353-85E0-430CA032EEA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CA2F7F1-4876-4CC2-8132-C5B426AB86D3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02BDF3C-DFD7-4B18-95A7-0D0302068263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CCCF590-8F25-4687-901B-CAF9B9F18FE9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B072A47-AF34-45CE-AB3A-711A6926B8AF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01A482A-BF7E-4965-AC2D-A6AB88FBE29D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64284BD-01BE-4C2C-AF64-3B2742370E66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CED88B6-387A-4C22-8AC0-8535F5A79011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20B62F4-BB32-413B-95CB-52B0CE939809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88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89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C322D54-7446-4443-BF2A-7EA569DD810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AC05F-FF8A-4A1D-96B2-BDBED1A0DC6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BAF8C9-C172-4044-A55F-DAAF3EBB7AB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74D68B-FC9C-46FB-B369-2249EC0AFEA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C122F8-C4FF-43E8-A8E1-94F2256C8F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2CFD3-D068-40C4-B3AA-97D0C684E9E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00DD93-6786-4E86-B6E5-FE1564021D7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49151F-7398-40C2-8084-71D94D8CEBB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772DBD-65A5-4A1C-8E6A-9ACF0013475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61A696-8E62-43E8-AF47-1ECB3626623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525CD4-626F-4FDC-87D6-0E7B3A0BC67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5CD1B5-3446-46F2-AA99-136DC87EC17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9FE8ED-8137-4FA4-9659-E3EE1E52ABD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AC126C-432A-4FDA-9BAC-A02441F4801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BF1F07-F61F-48BA-A761-A2A0BBCDC3B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E1A94-49D3-4A02-8378-9375A72FFB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8261F-85A7-435C-BBC7-F2DC6D1F27C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B04CD-8B6E-45F7-AB8F-3AC73EF55AC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4F510-8022-4431-9BE3-106C52DF7E0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3F5D0-3CE6-42A6-89E7-5945BB4775A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C3280-FB47-48A4-A9EE-CA873F0F244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5C18F-2442-4B53-9B0F-4EB48F47DC4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0660D-AD03-4B56-9ABF-FF3D175EDB9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67DE7-F338-4ACB-8567-AF3055D37F4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99EA4-474D-406D-8406-590396B4DFB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A84DD-B7C6-4BCA-896E-2F0FBE2412C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72877-935D-41CB-8557-36B739BBEC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C9320-11AE-4083-83BA-3084A9AB61B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754F6-78E1-49E3-B546-D2B025E090B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E6B670-1CC5-41E4-836E-39AFF814157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DCB34D-6656-4883-9197-DF2E51E515F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3A41D9-B760-4F73-8889-23E01C452C7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CBABF2-E6F8-4390-A913-098F5104112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7FFAFC-02B0-4407-A27C-0090A4F0894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F3FBA0-AA97-4E01-A616-BA906DCA1A2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159F16-535E-408C-A11E-D4D56B1E3AF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FC5A9D-C22C-4DE1-957F-1B8C072F44D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DD71A1-24BC-4B7F-87D8-40FBCAF564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E9DD5-94B4-4369-AC98-FB76B9D18D6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84FBE9-60D7-4B74-B467-DB8A3756221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5813AA-72EF-4793-9151-80CDDDA39E3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25AD28-5C91-4380-88EF-5D6FCD485EB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C3940B-4344-48D6-829E-662AF01ED74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AFBA82-F15E-495E-A118-1F4CA5313CE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D0B0FD-45AB-4602-9C31-FAF2BC4F36C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31BA86-06C8-4282-969E-64CD8EB4548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AA7676-AD69-4D3E-8A15-CF1FD9AABB4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4B7C08C-F4AE-48F3-9ECC-DB9C6C7D644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7F9D91-2B57-459C-B131-3F7D1AC665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EF7E9-7786-439B-BB8F-A3FE260B9A6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7680CD-C55F-4559-B596-7155835FF4D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B7AFEF-AE82-4E15-A87C-5F38B95CFB8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52F00C-87F8-436B-BD09-CF130E8FB92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FCE7EB-8E40-40E0-9122-467E6572577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AFBBAF-8059-45BA-A5E2-CF250C18762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C8EC4-A0B4-4799-8C16-03E36E9D816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6D7E6-D37B-4BAC-9021-D33A6E1A777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7FCB0-2DC7-4597-95D9-8A5A0EC78CC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B1336-51FC-4AA5-BAAA-A918A89D668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1A8BC-BECF-4971-B462-7C940B6D37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FFD40-9453-44C1-ABC9-6A4807A7ED6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71D4E-D1F7-40DF-9543-4BD2519807E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E88E3-CB58-4B97-8E19-97932D3E84D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D6DFF-D9AA-4914-84C6-5A752FB5451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4FA31-44A0-4033-B781-845E9C63C3F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744E9-0AF3-4C05-9550-7C8E0D712F9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CCEE6-C141-4CCB-A9A1-81A539DC086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4D390-E075-430A-BB7E-F29DEEC3D7C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748835-E443-4FC4-9998-B3A9FB33F74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643980-4D99-4064-9175-91A59E33257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C48135-3772-43D6-86BF-CB2354D9E1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6F3FB-B1A6-441A-A986-D8DDD48EDC64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ftr" idx="18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sldNum" idx="19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EA85E-EEBD-431A-BD8D-98162BA88451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ftr" idx="20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sldNum" idx="21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614ED-E018-4E5A-973B-5FF5C3478456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ftr" idx="22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3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B5BBB-BC0B-4DA1-B752-BCA09E15579E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ftr" idx="24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sldNum" idx="25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39FCC-0522-45EB-820C-13A66C4FABB0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23"/>
          <p:cNvSpPr/>
          <p:nvPr/>
        </p:nvSpPr>
        <p:spPr>
          <a:xfrm>
            <a:off x="914400" y="205740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1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37"/>
          <p:cNvSpPr/>
          <p:nvPr/>
        </p:nvSpPr>
        <p:spPr>
          <a:xfrm>
            <a:off x="2971800" y="16765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ftr" idx="26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ftr" idx="27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sldNum" idx="28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8F74B-892F-4246-9089-1E87367C321E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ftr" idx="29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sldNum" idx="30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8E924-9DBD-4C49-9C28-046C366B086C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ftr" idx="31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sldNum" idx="32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71818-FAB9-45C0-8450-800B8EB7A765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ftr" idx="33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 type="sldNum" idx="34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BFE19-6AD1-4AE7-8FC6-D09DD8B5A6F0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ftr" idx="35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sldNum" idx="36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BDFE1-AE6C-4CE3-96A8-F0176764B451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3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44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A78A8-127E-49C4-8D2E-C2C1798DB14D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 type="ftr" idx="37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 type="sldNum" idx="38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4A99C-71A5-4386-9FC3-814652194551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6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 type="ftr" idx="39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 type="sldNum" idx="40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05F21-E1E5-4E56-A1E7-60F7EF8149E9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 type="ftr" idx="41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 type="sldNum" idx="42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1918-89A1-42DA-B74A-A7C6B15CACE5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8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 type="ftr" idx="43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 type="sldNum" idx="44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BB6D1-8C42-407E-A9B2-B9674F7297C6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 type="ftr" idx="45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 type="sldNum" idx="46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444F2-632B-406B-B95D-37006EBBC23D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3"/>
          <p:cNvSpPr/>
          <p:nvPr/>
        </p:nvSpPr>
        <p:spPr>
          <a:xfrm>
            <a:off x="914400" y="205740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7"/>
          <p:cNvSpPr/>
          <p:nvPr/>
        </p:nvSpPr>
        <p:spPr>
          <a:xfrm>
            <a:off x="2971800" y="16765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6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7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C7B5B-63E4-4BDE-80BF-E75D1515F089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ftr" idx="8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9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FB759-D65D-486F-A497-E74AFD9E57F1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ftr" idx="10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sldNum" idx="11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42C8D-9FD6-474F-9080-E1FA4F202D04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ftr" idx="12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sldNum" idx="13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83A03-732D-4AFF-963F-85C5F3EDCBD7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ftr" idx="14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sldNum" idx="15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7E20B-DC75-4455-A040-A10BAC32C434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ftr" idx="16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sldNum" idx="17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58802-C8E1-4D19-B50E-A3927CB5AA67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Rectangle 2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2067"/>
          <p:cNvSpPr/>
          <p:nvPr/>
        </p:nvSpPr>
        <p:spPr>
          <a:xfrm>
            <a:off x="1116000" y="2133720"/>
            <a:ext cx="74167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  <a:ea typeface="Arial"/>
              </a:rPr>
              <a:t>PREVENÇÃO DE ÚLCERAS POR PRESSÃO: MEDIDAS DE PREVENÇÃO, ORIENTAÇÕES AOS UTENTES E FAMILIARES, EPI E REGISTOS DE ENFERMAG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Rectangle 2065"/>
          <p:cNvSpPr/>
          <p:nvPr/>
        </p:nvSpPr>
        <p:spPr>
          <a:xfrm>
            <a:off x="533520" y="4724280"/>
            <a:ext cx="815328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Verdana"/>
                <a:ea typeface="Arial"/>
              </a:rPr>
              <a:t>Módulo 7: Bases científicas para prática de Enfermagem II – Fundamentos de Enfermag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Espaço Reservado para Rodapé 3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Medidas de prevenção das úlceras por press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035" name=""/>
          <p:cNvGraphicFramePr/>
          <p:nvPr/>
        </p:nvGraphicFramePr>
        <p:xfrm>
          <a:off x="228600" y="1295280"/>
          <a:ext cx="8763120" cy="5351760"/>
        </p:xfrm>
        <a:graphic>
          <a:graphicData uri="http://schemas.openxmlformats.org/drawingml/2006/table">
            <a:tbl>
              <a:tblPr/>
              <a:tblGrid>
                <a:gridCol w="1407960"/>
                <a:gridCol w="2478240"/>
                <a:gridCol w="2666880"/>
                <a:gridCol w="22100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dica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o de us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119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ntem o leito da ferida húmido e acelera o processo de granulaçã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sões abertas não infectadas e profilaxia de úlceras por press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licar utilizando uma compressa embebida. Trocar a cada 12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lme transpa-re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ntém o leito da ferida húmido e apresenta permeabilidade seletiva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bertura de incisões cirúrgicas; prevenção de úlceras por pressão e fixação de catéter vascula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erir sobre a área. Troca em média a cada sete dias ou quando suj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idroco-lói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rreira protetora, isolamento térmico, meio húmido, promove desbridamento autolítico, granulação e epiteliza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ridas limpas, prevenção de úlcera por pressão,</a:t>
                      </a:r>
                      <a:br>
                        <a:rPr sz="1800"/>
                      </a:b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eimadura de segundo grau, suturas cirúrgicas e feridas cavitária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erir sobre a área. Troca com a saturação do produto em média no 5º ou 6º 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"/>
          <p:cNvSpPr txBox="1"/>
          <p:nvPr/>
        </p:nvSpPr>
        <p:spPr>
          <a:xfrm>
            <a:off x="228600" y="1219320"/>
            <a:ext cx="45720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Lesões da pele devido a fricção e força de cisalhamento (arrastão) devem ser minimizadas através do posicionamento adequado para transferência e mudança de decúbito do utent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Recomenda-se que os utentes não sejam "arrastados" durante a movimentação, mas que sejam "erguidos" utilizando-se o lençol móvel .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37" name="Espaço Reservado para Rodapé 3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8" name="Picture 2" descr="http://3.bp.blogspot.com/_ovvF2ZTWNI8/S6ZQk1U3khI/AAAAAAAAAN0/pFGwh9uZXsQ/s320/tracado+para+mudar+de+decubito.jpg"/>
          <p:cNvPicPr/>
          <p:nvPr/>
        </p:nvPicPr>
        <p:blipFill>
          <a:blip r:embed="rId1"/>
          <a:stretch/>
        </p:blipFill>
        <p:spPr>
          <a:xfrm>
            <a:off x="4842000" y="1828800"/>
            <a:ext cx="4157640" cy="3733920"/>
          </a:xfrm>
          <a:prstGeom prst="rect">
            <a:avLst/>
          </a:prstGeom>
          <a:ln w="0">
            <a:noFill/>
          </a:ln>
        </p:spPr>
      </p:pic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Medidas de prevenção das úlceras por press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Medidas de prevenção das úlceras por press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1" name=""/>
          <p:cNvSpPr txBox="1"/>
          <p:nvPr/>
        </p:nvSpPr>
        <p:spPr>
          <a:xfrm>
            <a:off x="380880" y="1523880"/>
            <a:ext cx="83822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iminuir os fatores ambientais que levam ao ressecamento da pele, como a exposição ao frio, pois leva ao ressecamento e descamação. A pele deve ser hidratada com creme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vitar massagens nas proeminências ósseas. Acreditava-se que a massagem em regiões com hiperemia auxiliavam a melhorar o fluxo sanguíneo. As evidências atuais sugerem que massagem pode causar mais danos 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42" name="Espaço Reservado para Rodapé 3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"/>
          <p:cNvSpPr txBox="1"/>
          <p:nvPr/>
        </p:nvSpPr>
        <p:spPr>
          <a:xfrm>
            <a:off x="456840" y="1599840"/>
            <a:ext cx="8381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onitorar as condições predisponentes controláveis, com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Tabagism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esnutrição ou obesidad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Uso de esteróide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Tensão na ferid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Nível glicêmico em utentes diabétic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Nível tensional em utentes hipertens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44" name="Espaço Reservado para Rodapé 3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Medidas de prevenção das úlceras por press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"/>
          <p:cNvSpPr txBox="1"/>
          <p:nvPr/>
        </p:nvSpPr>
        <p:spPr>
          <a:xfrm>
            <a:off x="456840" y="12949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Quando indivíduos aparentemente bem nutridos desenvolvem uma ingestão inadequada de proteínas ou calorias, os profissionais devem tentar descobrir os fatores que estão comprometendo a ingestão e então oferecer uma ajuda na alimentação. Às vezes outros suplementos nutricionais podem ser necessários.  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e a ingestão dietética continuar inadequada, intervenções nutricionais como alimentação parenteral ou enteral devem ser considerada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ara indivíduos comprometidos nutricionalmente um plano de suplementação nutricional deve ser implementad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47" name="Espaço Reservado para Rodapé 3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Medidas de prevenção das úlceras por press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"/>
          <p:cNvSpPr txBox="1"/>
          <p:nvPr/>
        </p:nvSpPr>
        <p:spPr>
          <a:xfrm>
            <a:off x="456840" y="12952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Uso de colchões para o alívio da pressã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50" name="Espaço Reservado para Rodapé 3"/>
          <p:cNvSpPr/>
          <p:nvPr/>
        </p:nvSpPr>
        <p:spPr>
          <a:xfrm>
            <a:off x="2514600" y="6248520"/>
            <a:ext cx="47242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Medidas de prevenção das úlceras por press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2" name="AutoShape 4"/>
          <p:cNvSpPr/>
          <p:nvPr/>
        </p:nvSpPr>
        <p:spPr>
          <a:xfrm>
            <a:off x="76320" y="-731880"/>
            <a:ext cx="15811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AutoShape 6"/>
          <p:cNvSpPr/>
          <p:nvPr/>
        </p:nvSpPr>
        <p:spPr>
          <a:xfrm>
            <a:off x="76320" y="-731880"/>
            <a:ext cx="15811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AutoShape 8"/>
          <p:cNvSpPr/>
          <p:nvPr/>
        </p:nvSpPr>
        <p:spPr>
          <a:xfrm>
            <a:off x="76320" y="-731880"/>
            <a:ext cx="15811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5" name="Picture 12" descr="http://www.fisiomed.com.br/images/product/938_g.jpg"/>
          <p:cNvPicPr/>
          <p:nvPr/>
        </p:nvPicPr>
        <p:blipFill>
          <a:blip r:embed="rId1"/>
          <a:stretch/>
        </p:blipFill>
        <p:spPr>
          <a:xfrm>
            <a:off x="5791320" y="1752480"/>
            <a:ext cx="2438280" cy="243864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4" descr="http://www.souzalins.com.br/images/colchao%20D%20agua.jpg"/>
          <p:cNvPicPr/>
          <p:nvPr/>
        </p:nvPicPr>
        <p:blipFill>
          <a:blip r:embed="rId2"/>
          <a:stretch/>
        </p:blipFill>
        <p:spPr>
          <a:xfrm>
            <a:off x="5257800" y="3886200"/>
            <a:ext cx="2895480" cy="2171880"/>
          </a:xfrm>
          <a:prstGeom prst="rect">
            <a:avLst/>
          </a:prstGeom>
          <a:ln w="0">
            <a:noFill/>
          </a:ln>
        </p:spPr>
      </p:pic>
      <p:sp>
        <p:nvSpPr>
          <p:cNvPr id="1057" name="AutoShape 16"/>
          <p:cNvSpPr/>
          <p:nvPr/>
        </p:nvSpPr>
        <p:spPr>
          <a:xfrm>
            <a:off x="76320" y="-738360"/>
            <a:ext cx="2057400" cy="15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AutoShape 18"/>
          <p:cNvSpPr/>
          <p:nvPr/>
        </p:nvSpPr>
        <p:spPr>
          <a:xfrm>
            <a:off x="76320" y="-738360"/>
            <a:ext cx="2057400" cy="15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9" name="Picture 20" descr="http://www.lenilson.com.br/wp-content/uploads/2010/10/casca.jpg"/>
          <p:cNvPicPr/>
          <p:nvPr/>
        </p:nvPicPr>
        <p:blipFill>
          <a:blip r:embed="rId3"/>
          <a:stretch/>
        </p:blipFill>
        <p:spPr>
          <a:xfrm>
            <a:off x="380880" y="2057400"/>
            <a:ext cx="4470480" cy="3352680"/>
          </a:xfrm>
          <a:prstGeom prst="rect">
            <a:avLst/>
          </a:prstGeom>
          <a:ln w="0">
            <a:noFill/>
          </a:ln>
        </p:spPr>
      </p:pic>
      <p:sp>
        <p:nvSpPr>
          <p:cNvPr id="1060" name="CaixaDeTexto 16"/>
          <p:cNvSpPr/>
          <p:nvPr/>
        </p:nvSpPr>
        <p:spPr>
          <a:xfrm>
            <a:off x="685800" y="54100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Colchão caixa de o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CaixaDeTexto 18"/>
          <p:cNvSpPr/>
          <p:nvPr/>
        </p:nvSpPr>
        <p:spPr>
          <a:xfrm>
            <a:off x="5334120" y="56386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Colchão d’á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CaixaDeTexto 19"/>
          <p:cNvSpPr/>
          <p:nvPr/>
        </p:nvSpPr>
        <p:spPr>
          <a:xfrm>
            <a:off x="5562720" y="39625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Colchão inflá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"/>
          <p:cNvSpPr txBox="1"/>
          <p:nvPr/>
        </p:nvSpPr>
        <p:spPr>
          <a:xfrm>
            <a:off x="456840" y="11430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Uso de almofadas anti-úlceras por pressão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64" name="Espaço Reservado para Rodapé 3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5" name="Picture 2" descr="http://2.bp.blogspot.com/_HopVoRhiIBk/SoXx-AUq5cI/AAAAAAAAAL0/Z2_SGPUKFPs/s320/zz+almofadas+AE.jpg"/>
          <p:cNvPicPr/>
          <p:nvPr/>
        </p:nvPicPr>
        <p:blipFill>
          <a:blip r:embed="rId1"/>
          <a:stretch/>
        </p:blipFill>
        <p:spPr>
          <a:xfrm>
            <a:off x="1476360" y="1628640"/>
            <a:ext cx="6095880" cy="4686480"/>
          </a:xfrm>
          <a:prstGeom prst="rect">
            <a:avLst/>
          </a:prstGeom>
          <a:ln w="0">
            <a:noFill/>
          </a:ln>
        </p:spPr>
      </p:pic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Medidas de prevenção das úlceras por press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"/>
          <p:cNvSpPr txBox="1"/>
          <p:nvPr/>
        </p:nvSpPr>
        <p:spPr>
          <a:xfrm>
            <a:off x="456840" y="1142640"/>
            <a:ext cx="83818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Uso de protector para o calcanhar e cotovelos. Podem ser improvisados com luva de procedimento cheia de água ou uma almofada feita com algodão e compress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68" name="Espaço Reservado para Rodapé 3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9" name="Picture 2" descr="http://4.bp.blogspot.com/_HopVoRhiIBk/SoX0km0aGEI/AAAAAAAAAMM/7qws1Il7pKk/s320/zz+calcanheiras.bmp"/>
          <p:cNvPicPr/>
          <p:nvPr/>
        </p:nvPicPr>
        <p:blipFill>
          <a:blip r:embed="rId1"/>
          <a:stretch/>
        </p:blipFill>
        <p:spPr>
          <a:xfrm>
            <a:off x="762120" y="2895480"/>
            <a:ext cx="3446280" cy="3429000"/>
          </a:xfrm>
          <a:prstGeom prst="rect">
            <a:avLst/>
          </a:prstGeom>
          <a:ln w="0">
            <a:noFill/>
          </a:ln>
        </p:spPr>
      </p:pic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Medidas de prevenção das úlceras por press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1" name="AutoShape 4"/>
          <p:cNvSpPr/>
          <p:nvPr/>
        </p:nvSpPr>
        <p:spPr>
          <a:xfrm>
            <a:off x="76320" y="-563400"/>
            <a:ext cx="118116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AutoShape 6"/>
          <p:cNvSpPr/>
          <p:nvPr/>
        </p:nvSpPr>
        <p:spPr>
          <a:xfrm>
            <a:off x="76320" y="-563400"/>
            <a:ext cx="118116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AutoShape 8"/>
          <p:cNvSpPr/>
          <p:nvPr/>
        </p:nvSpPr>
        <p:spPr>
          <a:xfrm>
            <a:off x="76320" y="-563400"/>
            <a:ext cx="118116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AutoShape 10"/>
          <p:cNvSpPr/>
          <p:nvPr/>
        </p:nvSpPr>
        <p:spPr>
          <a:xfrm>
            <a:off x="76320" y="-563400"/>
            <a:ext cx="118116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5" name="Picture 12" descr="http://www.fisiostore.com.br/images/product/SALV-09402_298.jpg"/>
          <p:cNvPicPr/>
          <p:nvPr/>
        </p:nvPicPr>
        <p:blipFill>
          <a:blip r:embed="rId2"/>
          <a:stretch/>
        </p:blipFill>
        <p:spPr>
          <a:xfrm>
            <a:off x="4896000" y="2819520"/>
            <a:ext cx="327636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61976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Orientações aos utentes, acompanhantes e familiar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7" name=""/>
          <p:cNvSpPr txBox="1"/>
          <p:nvPr/>
        </p:nvSpPr>
        <p:spPr>
          <a:xfrm>
            <a:off x="456840" y="1676160"/>
            <a:ext cx="8381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Todo serviço que admite utente com risco para formação de úlcera por pressão deve ter um programa de educação do utente, acompanhante e familiar  voltado para prevenção deste agravo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É bem mais fácil prevenir do que tratar a úlcera por pressão;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Quando há o envolvimento de todos a prevenção é mais eficaz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78" name="Espaço Reservado para Rodapé 3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"/>
          <p:cNvSpPr txBox="1"/>
          <p:nvPr/>
        </p:nvSpPr>
        <p:spPr>
          <a:xfrm>
            <a:off x="533160" y="137124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bservar diariamente a pele do utente para detectar possíveis áreas comprometidas (áreas de coloração esbranquiçada, manchas roxas ou bolhas) e comunicar ao enfermeir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dentificadas no início, o problema é resolvido eliminando-se a pressão exercida na pele provocada pelo peso do corpo ao nível da saliência óssea;  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Hidratar a pele com creme hidratante: região glútea, face posterior das coxas, pés e artelhos. 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vitar massagens nas áreas comprometidas ou com sinais iniciais de úlcera, pois vai causar mais danos que benefícios; 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80" name="Espaço Reservado para Rodapé 3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61976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Orientações aos utentes, acompanhantes  e familiar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Conceit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1" name=""/>
          <p:cNvSpPr txBox="1"/>
          <p:nvPr/>
        </p:nvSpPr>
        <p:spPr>
          <a:xfrm>
            <a:off x="428400" y="10000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pt-PT" sz="2600" spc="-1" strike="noStrike">
                <a:solidFill>
                  <a:srgbClr val="000066"/>
                </a:solidFill>
                <a:latin typeface="Verdana"/>
              </a:rPr>
              <a:t>Úlcera por pressão é uma lesão localizada na pele ou tecidos subjacentes, normalmente sobre uma proeminência óssea, secundárias a um aumento de pressão externa, ou pressão em combinação com cisalhamento.</a:t>
            </a:r>
            <a:endParaRPr b="1" lang="en-US" sz="26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Verdana"/>
              </a:rPr>
              <a:t>A pressão sobre a proeminência óssea prejudica a circulação sanguínea favorecendo a morte celular e o conseqüente aparecimento da úlcera</a:t>
            </a:r>
            <a:r>
              <a:rPr b="1" lang="pt-PT" sz="2800" spc="-1" strike="noStrike">
                <a:solidFill>
                  <a:srgbClr val="000066"/>
                </a:solidFill>
                <a:latin typeface="Verdana"/>
              </a:rPr>
              <a:t>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02" name="Footer Placeholder 3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"/>
          <p:cNvSpPr txBox="1"/>
          <p:nvPr/>
        </p:nvSpPr>
        <p:spPr>
          <a:xfrm>
            <a:off x="533160" y="137124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Usar protetores nas áreas de maior risco (proeminências ósseas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s joelhos devem ser mantidos afastados de contato direto um com o outr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s calcanhares também devem ser protegidos com almofadas. Essas almofadas são necessárias não somente na fase preventiva como também no tratamento das escaras já existentes; 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Usar colchão anti-úlcera que apóiam o corpo de forma suave e uniforme, sem causar pressão excessiva nas áreas mais vulneráveis. 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83" name="Espaço Reservado para Rodapé 3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61976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Orientações aos utentes, acompanhantes  e familiar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"/>
          <p:cNvSpPr txBox="1"/>
          <p:nvPr/>
        </p:nvSpPr>
        <p:spPr>
          <a:xfrm>
            <a:off x="456840" y="13712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Quando deitado, o utente deve mudar de posição a, pelo menos, cada duas horas, sendo conveniente registar o horário para evitar esqueciment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utores preconizam mudanças de decúbitos de 4 em 4 horas desde que o utente seja mantido em colchão anti-úlcera e haja observação cuidadosa da pele para identificar alterações precoc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Recomenda-se evitar o lado que esteja com áreas comprometidas, ou seja, se o utente tiver uma mancha roxa na região coxofemoral direita, não deve permanecer em decúbito lateral direito; </a:t>
            </a: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86" name="Espaço Reservado para Rodapé 3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61976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Orientações aos utentes, acompanhantes e familiar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"/>
          <p:cNvSpPr txBox="1"/>
          <p:nvPr/>
        </p:nvSpPr>
        <p:spPr>
          <a:xfrm>
            <a:off x="456840" y="1752480"/>
            <a:ext cx="838188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Quando sentado em cadeira de rodas ou poltrona o utente deve usar almofadas para aliviar a pressã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anter o utente fora do leito sempre que possível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anter a cama sempre limpa com os lençóis bem esticados, sem dobra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vitar cruzar os membros do utente para não obstruir o fluxo sanguíneo desses segmentos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xercitar o utente, fazendo movimentos passivos nas articulações das mãos, braços, pés e pern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89" name="Espaço Reservado para Rodapé 3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61976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Orientações aos utentes, acompanhantes e familiar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"/>
          <p:cNvSpPr txBox="1"/>
          <p:nvPr/>
        </p:nvSpPr>
        <p:spPr>
          <a:xfrm>
            <a:off x="456840" y="15998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Não arrastar o utente na cama ou cadeir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 utente deve ingerir em torno de dois litros de líquidos por di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 alimentação deve ser diversificada (colorida), cinco a seis vêzes ao di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e possível proporcionar banho de sol nas primeiras horas da manhã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ombater o cigarro, caso o utente fum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Lavar as mãos com água e sabão ou fricção com álcool glicerinado antes e depois de realizar qualquer cuidado com o utente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92" name="Espaço Reservado para Rodapé 3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61976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Orientações aos utentes, acompanhantes e familiar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"/>
          <p:cNvSpPr txBox="1"/>
          <p:nvPr/>
        </p:nvSpPr>
        <p:spPr>
          <a:xfrm>
            <a:off x="533160" y="1904760"/>
            <a:ext cx="83055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Em geral, o enfermeiro irá precisar de luvas de procedimento e máscara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Nos casos em que o utente represente risco de contato com secreções, cabe ao enfermeiro o bom senso e adotar outros EPI como  óculos, avental de plástico e barrete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Oferecer EPI ao acompanhante ou familiar que participe do cuidado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95" name="Espaço Reservado para Rodapé 3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619760" cy="14479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EPI necessários durante os cuidados de prevenção de úlcera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Registos de Enferm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456840" y="10663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Todas as medidas de prevenção de úlceras por pressão realizadas devem ser registadas no processo do utente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ducação ou orientação do utente, acompanhante ou familiar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Inspeção de pele com enfoque nas proeminências ósseas e descrição da condição encontrad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udança de decúbito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Higiene e hidratação da pel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plicação de almofadas de alívi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Ingestão hídrica diári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Redução do tabagismo e outr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99" name="Espaço Reservado para Rodapé 3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Cont.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Verdana"/>
              </a:rPr>
              <a:t>Pessoas com sensibilidade diminuída, imobilidade prolongada, ou acamadas com idade avançada são mais susceptíveis para aquisição de úlceras por pressão. </a:t>
            </a:r>
            <a:endParaRPr b="1" lang="en-US" sz="26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 u="sng">
                <a:solidFill>
                  <a:srgbClr val="ff0000"/>
                </a:solidFill>
                <a:uFillTx/>
                <a:latin typeface="Verdana"/>
              </a:rPr>
              <a:t>Locais de maior risco</a:t>
            </a:r>
            <a:endParaRPr b="1" lang="en-US" sz="26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Verdana"/>
              </a:rPr>
              <a:t>Os locais de maior risco das úlceras são: </a:t>
            </a:r>
            <a:r>
              <a:rPr b="1" lang="pt-PT" sz="2600" spc="-1" strike="noStrike">
                <a:solidFill>
                  <a:srgbClr val="000066"/>
                </a:solidFill>
                <a:latin typeface="Verdana"/>
              </a:rPr>
              <a:t>as regiões mentoniana, occipital, escapular, cotovelo, sacral, ísqueo, trocanter, crista ilíaca, joelho, maléolo e calcâ</a:t>
            </a: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neo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05" name="Footer Placeholder 3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Factores de risc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Verdana"/>
              </a:rPr>
              <a:t>Os seguintes fatores aumentam o risco de desenvolver úlceras por pressão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pt-BR" sz="2400" spc="-1" strike="noStrike">
                <a:solidFill>
                  <a:srgbClr val="000066"/>
                </a:solidFill>
                <a:latin typeface="Verdana"/>
              </a:rPr>
              <a:t>Pessoas com perda da sensibilidade (lesado medular)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pt-BR" sz="2400" spc="-1" strike="noStrike">
                <a:solidFill>
                  <a:srgbClr val="000066"/>
                </a:solidFill>
                <a:latin typeface="Verdana"/>
              </a:rPr>
              <a:t>Idoso incapacitado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pt-BR" sz="2400" spc="-1" strike="noStrike">
                <a:solidFill>
                  <a:srgbClr val="000066"/>
                </a:solidFill>
                <a:latin typeface="Verdana"/>
              </a:rPr>
              <a:t>Pessoa incapaz ou com dificuldade de mobilidade do corpo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Verdana"/>
              </a:rPr>
              <a:t>Doenças degenerativas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pt-BR" sz="2400" spc="-1" strike="noStrike">
                <a:solidFill>
                  <a:srgbClr val="000066"/>
                </a:solidFill>
                <a:latin typeface="Verdana"/>
              </a:rPr>
              <a:t>Tolerância tecidual reduzida (pele frágil)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pt-BR" sz="2400" spc="-1" strike="noStrike">
                <a:solidFill>
                  <a:srgbClr val="000066"/>
                </a:solidFill>
                <a:latin typeface="Verdana"/>
              </a:rPr>
              <a:t>Incontinência urinária ou intestinal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Verdana"/>
              </a:rPr>
              <a:t>Desnutrição ou obesidade Em suas diretrizes internacionais de pre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08" name="Footer Placeholder 3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A escala de Braden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pt-PT" sz="2000" spc="-1" strike="noStrike">
                <a:solidFill>
                  <a:srgbClr val="000066"/>
                </a:solidFill>
                <a:latin typeface="Verdana"/>
              </a:rPr>
              <a:t>Percepção Sensorial - capacidade de responder de forma significativa a um desconforto relacionado com pressão 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pt-PT" sz="2000" spc="-1" strike="noStrike">
                <a:solidFill>
                  <a:srgbClr val="000066"/>
                </a:solidFill>
                <a:latin typeface="Verdana"/>
              </a:rPr>
              <a:t>Humidade - grau em que a pele é exposta à umidade 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1" lang="pt-PT" sz="2000" spc="-1" strike="noStrike">
                <a:solidFill>
                  <a:srgbClr val="000066"/>
                </a:solidFill>
                <a:latin typeface="Verdana"/>
              </a:rPr>
              <a:t>Actividade - grau de actividade física 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Verdana"/>
              </a:rPr>
              <a:t>Mobilidade - capacidade de mudar e controlar a posição do corpo 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pt-PT" sz="2000" spc="-1" strike="noStrike">
                <a:solidFill>
                  <a:srgbClr val="000066"/>
                </a:solidFill>
                <a:latin typeface="Verdana"/>
              </a:rPr>
              <a:t>Nutrição - padrão habitual de consumo de alimentos  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Verdana"/>
              </a:rPr>
              <a:t>Fricção e Cisalhamento - quantidade de assistência necessária para se mover, grau de deslizamento em camas ou cadeiras 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11" name="Footer Placeholder 3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Estágio I: Pele intacta com hiperemia de uma área localizada que não embranquece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Estágio II:Perda parcial da espessura dérmica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Estágio III:Perda de tecido em sua espessura tota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Estágio IV:Perda total de tecido com exposição óssea, de músculo ou tendão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14" name="Footer Placeholder 3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Medidas de prevenção das úlceras por press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6" name=""/>
          <p:cNvSpPr txBox="1"/>
          <p:nvPr/>
        </p:nvSpPr>
        <p:spPr>
          <a:xfrm>
            <a:off x="228600" y="14475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 pele deve ser limpa no momento que sujar para minimizar a exposição da pele à humidade devido a incontinência urinária, fecal, perspiração ou drenagem de ferida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Quando essas fontes de humidade não podem ser controladas, usar fraldas descartáveis ou forros feitos de materiais que absorvam a humidade e que mantenham seca a superfície em contato com a pele. 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gentes tópicos que agem como barreira para humidade como cremes, películas protetoras ou óleos também podem ser usados. 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 freqüência de limpeza da pele deve ser individualizada de acordo com a necessidade do utente. 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17" name="Espaço Reservado para Rodapé 2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"/>
          <p:cNvSpPr txBox="1"/>
          <p:nvPr/>
        </p:nvSpPr>
        <p:spPr>
          <a:xfrm>
            <a:off x="456840" y="1295280"/>
            <a:ext cx="8381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anos causados pela fricção também podem ser reduzidos pelo uso de lubrificantes (como cremes e óleos), películas protetoras (como curativos transparentes e selantes para a pele ) e curativos protetores (como hidrocolóides extra-finos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19" name="Espaço Reservado para Rodapé 3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Medidas de prevenção das úlceras por press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21" name="Picture 2" descr="http://t2.gstatic.com/images?q=tbn:ANd9GcRY49AjP2cvklzwgYvglqWjtUVss-wppfAEU1AhasHJs9FLeiv01Q"/>
          <p:cNvPicPr/>
          <p:nvPr/>
        </p:nvPicPr>
        <p:blipFill>
          <a:blip r:embed="rId1"/>
          <a:stretch/>
        </p:blipFill>
        <p:spPr>
          <a:xfrm>
            <a:off x="457200" y="3286080"/>
            <a:ext cx="2209680" cy="2209680"/>
          </a:xfrm>
          <a:prstGeom prst="rect">
            <a:avLst/>
          </a:prstGeom>
          <a:ln w="0">
            <a:noFill/>
          </a:ln>
        </p:spPr>
      </p:pic>
      <p:sp>
        <p:nvSpPr>
          <p:cNvPr id="1022" name="CaixaDeTexto 7"/>
          <p:cNvSpPr/>
          <p:nvPr/>
        </p:nvSpPr>
        <p:spPr>
          <a:xfrm>
            <a:off x="457200" y="5410080"/>
            <a:ext cx="2438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Cremes e óleos a base de Ácido Graxo Essencial (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3" name="Picture 4" descr="http://t0.gstatic.com/images?q=tbn:ANd9GcRhVZqJKN8X396VusR3SML0_RwSr8-1hUFys4wXTRM5ayGyjeiP"/>
          <p:cNvPicPr/>
          <p:nvPr/>
        </p:nvPicPr>
        <p:blipFill>
          <a:blip r:embed="rId2"/>
          <a:stretch/>
        </p:blipFill>
        <p:spPr>
          <a:xfrm>
            <a:off x="3200400" y="342900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024" name="CaixaDeTexto 9"/>
          <p:cNvSpPr/>
          <p:nvPr/>
        </p:nvSpPr>
        <p:spPr>
          <a:xfrm>
            <a:off x="3276720" y="563868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Filme transpar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CaixaDeTexto 10"/>
          <p:cNvSpPr/>
          <p:nvPr/>
        </p:nvSpPr>
        <p:spPr>
          <a:xfrm>
            <a:off x="6477120" y="525780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Hidrocoló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6" name="Picture 6" descr="http://www.lojadocurativo.com.br/produtos/foto1/pequena/797.jpg"/>
          <p:cNvPicPr/>
          <p:nvPr/>
        </p:nvPicPr>
        <p:blipFill>
          <a:blip r:embed="rId3"/>
          <a:stretch/>
        </p:blipFill>
        <p:spPr>
          <a:xfrm>
            <a:off x="6324480" y="3276720"/>
            <a:ext cx="193068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"/>
          <p:cNvSpPr txBox="1"/>
          <p:nvPr/>
        </p:nvSpPr>
        <p:spPr>
          <a:xfrm>
            <a:off x="457200" y="1142640"/>
            <a:ext cx="37339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Verdana"/>
              </a:rPr>
              <a:t>Utente em uso de filme transparente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28" name="Espaço Reservado para Rodapé 3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9" name="Picture 2" descr="http://www.proac.uff.br/esai2/sites/default/files/enfermagem_5.jpg"/>
          <p:cNvPicPr/>
          <p:nvPr/>
        </p:nvPicPr>
        <p:blipFill>
          <a:blip r:embed="rId1"/>
          <a:stretch/>
        </p:blipFill>
        <p:spPr>
          <a:xfrm>
            <a:off x="380880" y="2057400"/>
            <a:ext cx="3886200" cy="3444840"/>
          </a:xfrm>
          <a:prstGeom prst="rect">
            <a:avLst/>
          </a:prstGeom>
          <a:ln w="0">
            <a:noFill/>
          </a:ln>
        </p:spPr>
      </p:pic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Medidas de prevenção das úlceras por press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31" name="Picture 4" descr="http://www.proac.uff.br/esai2/sites/default/files/enfermagem_6.jpg"/>
          <p:cNvPicPr/>
          <p:nvPr/>
        </p:nvPicPr>
        <p:blipFill>
          <a:blip r:embed="rId2"/>
          <a:stretch/>
        </p:blipFill>
        <p:spPr>
          <a:xfrm>
            <a:off x="4495680" y="2971800"/>
            <a:ext cx="4484880" cy="2895480"/>
          </a:xfrm>
          <a:prstGeom prst="rect">
            <a:avLst/>
          </a:prstGeom>
          <a:ln w="0">
            <a:noFill/>
          </a:ln>
        </p:spPr>
      </p:pic>
      <p:sp>
        <p:nvSpPr>
          <p:cNvPr id="1032" name="Espaço Reservado para Conteúdo 2"/>
          <p:cNvSpPr/>
          <p:nvPr/>
        </p:nvSpPr>
        <p:spPr>
          <a:xfrm>
            <a:off x="4876920" y="2209680"/>
            <a:ext cx="3733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Verdana"/>
                <a:ea typeface="Arial"/>
              </a:rPr>
              <a:t>Utente em uso de hidrocoló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2T17:43:01Z</dcterms:created>
  <dc:creator>Escolastica</dc:creator>
  <dc:description/>
  <dc:language>en-US</dc:language>
  <cp:lastModifiedBy>INSTRUMENTACAO</cp:lastModifiedBy>
  <dcterms:modified xsi:type="dcterms:W3CDTF">2019-07-17T13:09:23Z</dcterms:modified>
  <cp:revision>9</cp:revision>
  <dc:subject/>
  <dc:title>Slide 1</dc:title>
</cp:coreProperties>
</file>