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9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7783-C7ED-406B-8AE5-1039E3E095E8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2488-2B4F-436C-8F36-9B7234544CD9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48E7-63A4-4A2B-9A52-035AB00DD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7FD6-F551-4C81-939C-E824BB4B3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EE2B-EC9C-4A71-A3A7-ACDFD08C3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B9BC-9810-4360-B12B-CEBA09286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D2A36-5BA6-4E24-9469-EACC3A3C2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C9526-A20F-4A46-A3F8-26AF50B115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FD4B8-A4CF-4953-9712-4067EF89B3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A125B-4BA1-44A1-A277-2B6BBD839A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6EA17-E552-48CC-BCAF-BC28B8DE18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0C380-5E4C-49D2-8790-6C239CAA49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52318-33CB-4799-9BBF-999F2C41B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D369-7B81-40DE-96EB-CDE0D5F67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83724-D810-4AD7-BE8C-194E0C0E48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52775-3669-416C-B6AD-EF7B502860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10F31-3578-4016-9AF1-299E0599FB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119CF-7529-4211-A77C-F2D9AA5300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68946-2416-4ECE-9AAC-9828032AF6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2FB4-E2B8-4932-AC4E-F58AF3C0A8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6458-9895-4603-B2FE-9B11D8A801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47FD-2071-4C99-A774-FF739C2A0C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2B90-ABBF-42F2-8D30-4AFD4EF652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9361-392C-49FB-B6DA-899B41337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737F-7117-4598-804E-7DE50A2E86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4718-0B03-4751-8AE2-DA063F26A1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7363-2938-4A37-B53D-9D1D0F74AD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B7D4-1164-4DAF-A3A9-B2ADBA4384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3C4E-8EC9-4152-95D6-A0671F54E9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0551-8AE8-4F82-A38C-B22ED77CA4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6E1C-EDDF-4CC1-B83C-AC905193D4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1A62-4DF7-41B0-A35A-2A664105C8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D926-F47E-4295-8D20-81D1A19103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4834-5849-4A79-AD6F-EAA75CE6C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4C1C-0572-4C82-82C2-DBA78550F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41C6-2CC9-49B9-A472-5183240DE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AE7A-91B0-45E9-9504-F7B4509B2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EF47-E3D9-4289-8F6A-47B773E06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7F17-9965-49BB-A450-05215FC8EEE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9DBB-59F3-4F00-AD7A-A4275DF39FC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D21B-6DBF-4D6B-A948-B924F805E45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31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320" y="1752480"/>
            <a:ext cx="678204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COM A ALIMENTAÇÃO DO UT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ula 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Especi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8600" y="990720"/>
          <a:ext cx="8610480" cy="5410080"/>
        </p:xfrm>
        <a:graphic>
          <a:graphicData uri="http://schemas.openxmlformats.org/drawingml/2006/table">
            <a:tbl>
              <a:tblPr/>
              <a:tblGrid>
                <a:gridCol w="2057400"/>
                <a:gridCol w="6553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acterís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erproteí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ém maior quantidade de proteína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imentos: leite, gelatina, carne, iogurte, queijos e ov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proteí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ém menor quantidade de proteín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bstipa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em resídu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a pacientes com diarrei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ão proibidos: verduras cruas ou cozidas, legumes, frutas cruas, frituras e alimentos gordurosos, leite e derivados, doces (só gelatinas) e sumos de frut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axativ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com resídu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a pacientes com obstipação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limentos em maior quantidade: verduras, legumes, frutas (laranja, papaia, ameixa) e líqu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gorduro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problemas de fíg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ntém pouca quantidade de gordur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ão proibidos: manteiga, margarina, queijo, iogurte, frituras e alimentos gorduro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http://crescendocomjesus.files.wordpress.com/2011/02/mac3a7a.gif"/>
          <p:cNvPicPr/>
          <p:nvPr/>
        </p:nvPicPr>
        <p:blipFill>
          <a:blip r:embed="rId1"/>
          <a:stretch/>
        </p:blipFill>
        <p:spPr>
          <a:xfrm>
            <a:off x="228600" y="152280"/>
            <a:ext cx="3579840" cy="2286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886200" y="228240"/>
            <a:ext cx="5105520" cy="617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Acompanhar os utentes de quem cuida, preparando o ambiente e auxiliando-as durante as refeiçõ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É importante verificar se os pacientes  aceitam a dieta e identificar os factores que interferem na alimentação do ut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eve familiarizar se do tipo de dieta d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rganize bem a bandeja da dieta dos pacient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star atendo as quantidades e a apresentação ou a disposição dos alimentos no prat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5" name="Picture 8" descr="http://4.bp.blogspot.com/_dKP4R4YuD08/TLSZh0UW19I/AAAAAAAAAN0/V8IU9YFLWnM/s1600/alimentacao-balanceada-70-164.jpg"/>
          <p:cNvPicPr/>
          <p:nvPr/>
        </p:nvPicPr>
        <p:blipFill>
          <a:blip r:embed="rId2"/>
          <a:stretch/>
        </p:blipFill>
        <p:spPr>
          <a:xfrm>
            <a:off x="225360" y="2968560"/>
            <a:ext cx="3517920" cy="34387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9"/>
          <p:cNvSpPr/>
          <p:nvPr/>
        </p:nvSpPr>
        <p:spPr>
          <a:xfrm>
            <a:off x="1219320" y="13320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Ú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44756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0000"/>
                </a:solidFill>
                <a:latin typeface="Arial"/>
              </a:rPr>
              <a:t>Critérios para apoio na alimentaçã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disfágic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ceg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com demênc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debilit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em co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cientes com Sonda Nasogástr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AUXILIando na alimentação.PNG"/>
          <p:cNvPicPr/>
          <p:nvPr/>
        </p:nvPicPr>
        <p:blipFill>
          <a:blip r:embed="rId1"/>
          <a:stretch/>
        </p:blipFill>
        <p:spPr>
          <a:xfrm>
            <a:off x="5308560" y="1371600"/>
            <a:ext cx="360684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sonda06.gif"/>
          <p:cNvPicPr/>
          <p:nvPr/>
        </p:nvPicPr>
        <p:blipFill>
          <a:blip r:embed="rId2"/>
          <a:srcRect l="0" t="44557" r="0" b="0"/>
          <a:stretch/>
        </p:blipFill>
        <p:spPr>
          <a:xfrm>
            <a:off x="5810400" y="3486240"/>
            <a:ext cx="25714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3712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teri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Bandej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po com água, sumo ou chá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enço de papel ou guardanap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alhe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refeição ou dieta específica para 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is para reposicionament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is para higiene das mã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Lavar as mãos antes de servir a bandej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ntregar a bandeja de refeições, observando a temperatura desejáve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nferir o nome na bandeja e comparar ao bracelete de identificaçã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locar a bandeja diante d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tirar as tampas dos alimentos e verificar o aspec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uxiliar o paciente, se necessário, a abrir as embalagens e a preparar os aliment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Substituir os alimentos indesejáveis ou solicite alimentos especiais adicionai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ervindo e retirando a Bandeja de refe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Verificar se o paciente possui outras solicitações: posicionamento, uso de óculos, etc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ertificar de que a campainha esteja ao alcance da m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Verificar a evolução do paciente periodicam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Retirar a bandeja quando o paciente concluir a refeiç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Observar a percentagem de alimentos consumid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uxiliar o paciente a escovar os dentes e a usar o fio dental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locar o paciente na posição confortável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Fazer registos: tipo de dieta, percentagem dos alimentos consumidos e a quantidade de líquidos consumido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ervindo e retirando a Bandeja de refe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Lavar as mãos antes de preparar os aliment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Obter ou limpar os utensíli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levar a cabeceira da cama para colocar o paciente sentado ou use uma cadeir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Verificar para que a dieta e a bandeja correctas sejam servidas a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brir a parte superior do peito e o colo do paciente com uma toalha ou um guardanap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Sentar-se ao lado do paciente ou diante del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tirar a tampa dos alimentos e abrir as embalagens, colocar os temper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Alimentando um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7524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stimular o paciente a colaborar o máximo, segundo as suas capacidad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vitar a press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laborar com o paciente em relação aos alimentos desejados antes de colocar a comida nos talher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Oferecer porções razoáveis de alimento a cada mordid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ar tempo para que o paciente mastigue completamente e engula o alimen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eixar o paciente indicar quando está pronto para nova porção ou novo gole de bebid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nversar agradavelmente com 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Alimentando um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na alimentação do Utente - Prática L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7524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tirar a bandeja e deixar o paciente confortável, permanecendo sentado ou semi-sentado pelo menos 30 minut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Oferecer ao paciente oportunidade para a higiene or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alcular a percentagem de alimentos ingerid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azer registos sobre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Tipo de dieta e a percentagem de alimentos ingerid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Quantidade de líquidos ingerid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Tolerância aos aliment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oblemas encontrados com o acto de mastigar e de engolir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Métodos utilizados para resolver os problema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457200" y="1228680"/>
            <a:ext cx="838188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Alimentando um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83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imentação pela Sonda Nasogástrica (Gavagem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066320"/>
            <a:ext cx="5562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  <a:ea typeface="Arial"/>
              </a:rPr>
              <a:t>Consiste na administração de alimentos por meio de uma sonda nasogástrica ou através de gastrostomia ou jejunoscopia,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conselhando se uma pausa nocturna, não superior a 4/6 hor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  <a:ea typeface="Arial"/>
              </a:rPr>
              <a:t>Esta técnica também é chamada </a:t>
            </a:r>
            <a:r>
              <a:rPr b="1" lang="pt-PT" sz="2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Gavagem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  <a:ea typeface="Arial"/>
              </a:rPr>
              <a:t>Esta alimentação também se chama de </a:t>
            </a:r>
            <a:r>
              <a:rPr b="1" lang="pt-PT" sz="2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utrição Entera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sonda06.gif"/>
          <p:cNvPicPr/>
          <p:nvPr/>
        </p:nvPicPr>
        <p:blipFill>
          <a:blip r:embed="rId1"/>
          <a:stretch/>
        </p:blipFill>
        <p:spPr>
          <a:xfrm>
            <a:off x="6191280" y="1071720"/>
            <a:ext cx="25718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26668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Reconhecer os objectivos e importância da alimentação e hidratação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Identificar os tipos de dietas hospitalar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Prestar assistência de enfermagem na alimentação do paciente, de acordo com o tipo de diet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Administrar alimentos ao paciente através de sonda nasogástrica (gavagem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  <a:ea typeface="Arial"/>
              </a:rPr>
              <a:t>Realizar cuidados especiais em relação a sonda alimentar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Down Arrow Callout 5"/>
          <p:cNvSpPr/>
          <p:nvPr/>
        </p:nvSpPr>
        <p:spPr>
          <a:xfrm>
            <a:off x="533520" y="1066680"/>
            <a:ext cx="8305560" cy="1600200"/>
          </a:xfrm>
          <a:prstGeom prst="downArrowCallout">
            <a:avLst>
              <a:gd name="adj1" fmla="val -21535"/>
              <a:gd name="adj2" fmla="val 24990"/>
              <a:gd name="adj3" fmla="val 25000"/>
              <a:gd name="adj4" fmla="val 64977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Após a discussão dest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imentação pela Sonda Nasogástrica (Gavagem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étodos de gavag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cc"/>
                </a:solidFill>
                <a:latin typeface="Arial"/>
              </a:rPr>
              <a:t>Bólus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ovoca frequentemente náuseas, vómitos, diarreia e cólicas, devendo por isso ser evit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cc"/>
                </a:solidFill>
                <a:latin typeface="Arial"/>
              </a:rPr>
              <a:t>Contínu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alimento em administrado em gotejamento gravitacional. Indicada para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acientes hemodinâmicamente instáveis e em pacientes com duodenostomia ou jejunostomia, diminuindo o risco de aparecimento de náuseas, vómitos, diarreia e cólicas.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Exige controlo rigoroso acada 30 minu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cc"/>
                </a:solidFill>
                <a:latin typeface="Arial"/>
              </a:rPr>
              <a:t>Intermitente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introdução do alimento pode ser feita por meio de seringa, com fluxo lento, para evitar náuseas, diarreia, distensão e cólicas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imentação pela Sonda Nasogástrica (Gavagem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9903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ecauçõe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Verificar as condições de higiene da son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Testar o posicionamento da sonda e sua permeabilidade antes do uso. </a:t>
            </a: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Para estimular o peristaltismo podem ser administrados pequenos bólus de alimentos (10 - 20CC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Controlar a existência de conteúdo gástrico a cada 4 em 4 horas quando a alimentação é contínu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57200" y="45115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Nos pacientes em ventilação mecânica (ventilador) durante a pausa nocturna e após ter sido digerido o conteúdo alimentar, o sistema de alimentação deve ser colocado em drenagem passiva, para se prevenir a distenção gást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imentação pela Sonda Nasogástrica (Gavagem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teriais e EPI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abuleiro co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Seringa 100cc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Copo plástico de uso único com águ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Guardanapos de papel ou similar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clamp ou pinça de Kocher (se necessário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Recipiente com alimenta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Sistema para alimentação entérica ou sistema de soro sem 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filtr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Bomba de alimentação entérica ou bomba infusor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Material para higiene or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Suporte de soros (se necessário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na Gavage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Identificar o doente e 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onferir a rescrição: tipo de </a:t>
            </a: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limentação, forma e duração da administraçã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roceder à lavagem higiénica das mão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reparar o material e transportá-lo para junto do doent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Explicar ao doente todos os </a:t>
            </a: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rocedimento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roporcionar um ambiente calmo, sem cheiros desagradáveis e apresentar os alimentos em recipientes adequado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spirar o conteúdo gástrico e reintroduzi-lo, excepto se contra-indicado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na Gavage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ntroduzir 2cc (em crianças) </a:t>
            </a: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 10cc de ar auscultando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imultaneamente a região epigástrica (aspirar de seguida), se não existir conteúdo gástrico residual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osicionar o doente em semi-Fowle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erificar a temperatura dos alimentos a administrar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eparar e conectar o sistema de alimentação à sonda. Se usar seringa de alimentação, injectar lentamente e de forma contínua, observando as reacções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gular o ritmo da administração de acordo com a prescri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Lavar a sonda injectando 5 a 30CC de água após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erminar a administra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na Gavage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avar o sistema/seringa de alimentação após cada utilização. Reutilizá-lo apenas durante 24 hor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higiene oral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uma vez por turno e S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anter o doente com 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beceira elevada pelo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enos a 30°, em decúbit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ateral direito ou decúbito semi-dorsal direito, durante 30' após a aliment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colher e dar o destino adequado a todo o materi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er à lavagem higiénica das mã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na Gavage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Registos de Enfermagem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ocedimento (data/hora)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ipo de alimentaç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Quantid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uraç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acção do doent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ata de substituição do sistema ou sering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mplicaçõe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ferência Bibliográ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imby, Barbara K.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Conceitos e Habilidades Fundamentais no Atendimento de Enfermagem.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6ª Edição. Editora Artmed, Porto Alegre – Brasil, 2001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ISAU.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Guião de Procedimentos Básicos de Enfermagem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Maputo – Moçambique,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tter &amp; Perry.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Fundamentos de Enfermagem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6ª Edição, Mosby Elsevier Editora Lda. São Paulo - Brasil, 200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niversidade Fernando Pessoa.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Fundamentos Básicos em Enfermagem. Normas e Procedimentos.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a Superior de Saúde, 2006. Brasi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http://2.bp.blogspot.com/-ZQBrszIpOoQ/TVvuxwwxUQI/AAAAAAAAAh0/QyB2rI7YdDk/s1600/Publica%25C3%25A7%25C3%25A3o4.jpg"/>
          <p:cNvPicPr/>
          <p:nvPr/>
        </p:nvPicPr>
        <p:blipFill>
          <a:blip r:embed="rId1"/>
          <a:stretch/>
        </p:blipFill>
        <p:spPr>
          <a:xfrm>
            <a:off x="5068800" y="1523880"/>
            <a:ext cx="4075200" cy="48006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imentação e Hidrat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99036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mportância da alimentaçã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ssencial para a saúde e bem-esta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ornecer nutrient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acilitar a recuperação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ntribui nos diversos processos orgânico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resciment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esenvolviment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Imunológi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icatrização 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Fornecimento de energi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imentação e Hidrat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mportância da Hidrata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venir desidrat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mento da força muscu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o balanço hídrico (reposição de per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utenção da termorregulação e volume circul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utenção da função re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http://www.coladaweb.com/files/soro.JPG"/>
          <p:cNvPicPr/>
          <p:nvPr/>
        </p:nvPicPr>
        <p:blipFill>
          <a:blip r:embed="rId1"/>
          <a:stretch/>
        </p:blipFill>
        <p:spPr>
          <a:xfrm>
            <a:off x="6802560" y="3581280"/>
            <a:ext cx="2341440" cy="3232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3.bp.blogspot.com/_pJNBsZFqf4A/SuSNUoEqeXI/AAAAAAAAACg/6EvOuJMd7cg/s200/virose_3.jpg"/>
          <p:cNvPicPr/>
          <p:nvPr/>
        </p:nvPicPr>
        <p:blipFill>
          <a:blip r:embed="rId2"/>
          <a:stretch/>
        </p:blipFill>
        <p:spPr>
          <a:xfrm>
            <a:off x="5105520" y="1066680"/>
            <a:ext cx="2708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868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ipos de dietas hospital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Dieta de Rot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935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Geral, Livre ou Voluntári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Pastos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Bran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Lev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  <a:ea typeface="Arial"/>
              </a:rPr>
              <a:t>Líquid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91120" y="12949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Dietas Espe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191120" y="1935000"/>
            <a:ext cx="449568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ocalórica/diabéticos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ercalóric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ossódic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ssódica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erproteíc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ipogorduros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Obstipa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axativ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http://www.extrabom.com.br/upld/receitas/9/caldo-verde179x137.jpg"/>
          <p:cNvPicPr/>
          <p:nvPr/>
        </p:nvPicPr>
        <p:blipFill>
          <a:blip r:embed="rId1"/>
          <a:stretch/>
        </p:blipFill>
        <p:spPr>
          <a:xfrm>
            <a:off x="6402240" y="4038480"/>
            <a:ext cx="2589480" cy="19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http://www.dicaseideias.com/wp-content/uploads/2010/11/dietas.jpg"/>
          <p:cNvPicPr/>
          <p:nvPr/>
        </p:nvPicPr>
        <p:blipFill>
          <a:blip r:embed="rId2"/>
          <a:stretch/>
        </p:blipFill>
        <p:spPr>
          <a:xfrm>
            <a:off x="5508720" y="1143000"/>
            <a:ext cx="3406680" cy="2133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de Ro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720"/>
            <a:ext cx="5715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geral, livre ou voluntári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Permite escolha ilimitada de aliment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Todo tipo de alimentos e preparação sem restrições de acordo com a tolerância do pacie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Pastosa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plicável a pacientes com dificuldades de mastigação e/ou deglutiç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limentos permitidos em consistência cremosa: Purés, sopas cremosas, arroz bem cozido, papa de bolacha, pudins, frutas cozida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de Ro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123720" y="99036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Branda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nstituída de alimentos bem cozidos, restrita de celulose e alimentos fermentávei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Usadas nos pré e pós-operatórios e em transição para a dieta geral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Lev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nsistência semi-liquida, usada nos pré e pós-operatórios e distúrbios gastrointestinai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limentos: caldos, sopas, carnes, verduras, legumes (bem cozidos e em puré), frutas macias, gelatinas e pudin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http://4.bp.blogspot.com/_Fg-ewAsidiA/SvX7PmrCBAI/AAAAAAAAAIY/_2I2ciBLdB4/s320/sopinha.JPG"/>
          <p:cNvPicPr/>
          <p:nvPr/>
        </p:nvPicPr>
        <p:blipFill>
          <a:blip r:embed="rId1"/>
          <a:stretch/>
        </p:blipFill>
        <p:spPr>
          <a:xfrm>
            <a:off x="152280" y="1139760"/>
            <a:ext cx="3060720" cy="2298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www.radio.com.pt/NR/rdonlyres/51241F6F-5B9D-417E-A376-F63B5ABA2FAB/6921/FestivalSopas.jpg"/>
          <p:cNvPicPr/>
          <p:nvPr/>
        </p:nvPicPr>
        <p:blipFill>
          <a:blip r:embed="rId2"/>
          <a:stretch/>
        </p:blipFill>
        <p:spPr>
          <a:xfrm>
            <a:off x="225360" y="4078440"/>
            <a:ext cx="29815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de Ro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80920" y="990360"/>
            <a:ext cx="5257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eta Líquida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nsistência líquida e requer mínimo de trabalho digestiv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plicável para pacientes com disfagias, desconforto gastrointestinais, dificuldades de mastigação, deglutição e pré e pós-operatóri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limentos: água, chá, gelatinas, sucos, verduras e frutas em forma de suco, caldos, sopas liquidificadas, verduras, cremes, sorvete, gelatina, cereai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://t0.gstatic.com/images?q=tbn:ANd9GcTo5UHkaAe8n78qLGlisa005Ydqdo1b2PyLyLLitfsyCq9xK7La&amp;t=1"/>
          <p:cNvPicPr/>
          <p:nvPr/>
        </p:nvPicPr>
        <p:blipFill>
          <a:blip r:embed="rId1"/>
          <a:stretch/>
        </p:blipFill>
        <p:spPr>
          <a:xfrm>
            <a:off x="457200" y="1066680"/>
            <a:ext cx="2895480" cy="2935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analgesi.co.cc/html/figura/14682b.gif"/>
          <p:cNvPicPr/>
          <p:nvPr/>
        </p:nvPicPr>
        <p:blipFill>
          <a:blip r:embed="rId2"/>
          <a:stretch/>
        </p:blipFill>
        <p:spPr>
          <a:xfrm>
            <a:off x="457200" y="3886200"/>
            <a:ext cx="323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etas Especi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s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1887480"/>
                <a:gridCol w="6723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acterís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calórica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 diabético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plicável para pacientes que não podem comer açucar e necessitam controlar os alimentos energéticos: arroz, batata, pão e massa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ão proibidos: alimentos e bebidas contendo açucar, alimentos gordurosos e frituras em excesso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ercalór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ra fornecer mais energ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comenda-se o fornecimento de maior quantidade de arroz, massa, doce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ssód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eta com controlo de sódio e sal, pode ser oferecido até 2g de sal (em 24 horas);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ão proibidos: pão, bolachas de água e sal, biscoitos, queijos salgados e embutid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ssód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eta preparada sem adição do sal no cozimento dos alimento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6-23T08:01:13Z</dcterms:modified>
  <cp:revision>808</cp:revision>
  <dc:subject/>
  <dc:title>ANATOMIA E FISIOLOGIA HUMANA</dc:title>
</cp:coreProperties>
</file>