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581C-0CD4-4DDE-A5F1-031F4D78A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0BDDD-672F-443F-B9AD-C8AAECD55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78BA-54F3-4BB0-A04C-9FED3E9D3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4D83-FCAD-4EE0-8B76-4362821CF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1EBD9-1A12-4CE0-BBD6-BA8DA0C3A2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8C97D-108A-46FE-93CF-38E91FC6F9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BE918-57FA-4008-99D5-265F6C40E9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5D370-683D-4FF4-AA58-FEA5CCE67B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8A4AB-D62B-4B6A-B1C0-3910029A77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770CB-BA12-4D5F-BC0C-4E88922A95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E5767-3D8C-4B48-A90B-25A62EFB9A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B02B7-4FDF-4D78-8496-D0D819A3E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DEB39-48DC-4CF0-AF60-5F87E0737C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E7582-CEDE-4CA3-BC0F-D23EA05AE5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BD3F2-BFFD-4C84-A43B-3285F09B5D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2CEFC-6959-46F0-91F8-5CF8198A0A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8EBB2-87D4-400D-A246-21846DA789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E6F3A-4DA9-4D56-9489-9838341F6E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3949-19AD-4F89-80ED-6425469BB3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52371-9B7E-46DB-AE45-F4D3BCBDF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76F7B-2B02-43AA-9099-34A0B3BF6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9AFF9-3DE3-4CC6-8EE3-2FF29ED18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821B-5E13-42D8-9EE6-5129C318E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3DD6-161A-477F-9988-1721DDD50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0CA3-55AA-49F7-A9F5-0C0CF60C8B1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FEB6-82A5-452B-BFC8-3F2D09695CC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127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6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DMINISTRACAO DO SANGUE E SEUS DERIVAD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Sub-modulo 09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39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tibilidade Sanguin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s Antigenios determinam o grupo sanguineo caracteristico-A,B,AB,e O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 factor Rh positivo,significa que a proteina esta presente na celul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 factor Rh negativo, significa que a proteina nao esta presente na celul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584D-4F61-4999-A698-5022CF0569C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tibilidade Sanguine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a evitar reaccoes de incompatibilidade, deve administrar o mesmo grupo sanguineo e o mesmo factor Rh, porem existem algumas excepco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O grupo “O” e considerado dador universal uma vez que nao apresenta as caracteristicas do grupo sanguineo A e B na membrana celula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9375-4FE9-4E2E-82F9-3C1E1BD0C85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tibilidade Sanguin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 sangue tipo O pode ser fornecido a qualquer pessoa porque nao ira desencadear uma reaca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pessoas com Rh positivo podem receber sangue Rh negativo e positivo, uma vez que o factor nao contem a proteina sensibiliza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 inverso nao e valido, ou seja as pessoas com Rh negativo nunca devem receber sangue Rh positivo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778A-0BBC-4510-BB67-9DF6B25A660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1067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upos Sanguineos e Tipos Compative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66680" y="1417680"/>
          <a:ext cx="7772400" cy="4373640"/>
        </p:xfrm>
        <a:graphic>
          <a:graphicData uri="http://schemas.openxmlformats.org/drawingml/2006/table">
            <a:tbl>
              <a:tblPr/>
              <a:tblGrid>
                <a:gridCol w="3502080"/>
                <a:gridCol w="427032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pos Sanguine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s Sanguineos Compativ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8ab9"/>
                    </a:solidFill>
                  </a:tcPr>
                </a:tc>
              </a:tr>
              <a:tr h="5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a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e 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ae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e 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f3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a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ae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,A, B e 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f3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(+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a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 (+) e Rh (-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dae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(-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(-) apen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f3"/>
                    </a:solidFill>
                  </a:tcPr>
                </a:tc>
              </a:tr>
            </a:tbl>
          </a:graphicData>
        </a:graphic>
      </p:graphicFrame>
      <p:sp>
        <p:nvSpPr>
          <p:cNvPr id="22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F803-057A-4D2B-82BB-1F050847041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rivados do Sang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istem varios derivados do sangue que podem ser administrados a utentes que necessitam de substancias especificas que nao tenham todos os componentes celulares do sangue integra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( ver a tabela seguinte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2229-61AF-418A-833E-33B647D0A3B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bela 2: Derivados de Sang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143000"/>
          <a:ext cx="8381880" cy="5211720"/>
        </p:xfrm>
        <a:graphic>
          <a:graphicData uri="http://schemas.openxmlformats.org/drawingml/2006/table">
            <a:tbl>
              <a:tblPr/>
              <a:tblGrid>
                <a:gridCol w="1981080"/>
                <a:gridCol w="3124440"/>
                <a:gridCol w="3276360"/>
              </a:tblGrid>
              <a:tr h="610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ivados de Sang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ca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sito da administraca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69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quet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ulares em forma de disco que promovem a coagulacao do sang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m a capacidade de controlo de sangrame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0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ulocit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s de celulas brancas do sang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horam a capacidade de combater as infecco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128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o sem celula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itui os factores coagulantes e aumenta o volume de liquidos intravascula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28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umi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as do plasm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i as doencas de coagulacao de sangue ( hemofilia)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69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o precipit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tos de factores coagulan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ta as doencas de coagulacao do sang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23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C320-95AA-4294-B3B1-2B723277CD3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 necessar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positivo para a recepcao do sangue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uvas de procediment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stema para administracao do sangue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ro fisiolog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quipamento de Proteccao Individual (EPI) necessari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dimentos e Registos; Apos o procedimento, o enfermeiro deve fazer registos do seguint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data e a hora da transfusa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 Tipo e a quantidade do produto transfundid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s sinais vitais do paciente e sua verificacao no inicio da transfusa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reacao do paciente no inicio da transfusa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6378-AABD-423D-BC0D-2850A8401EF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idados Pre-transfusio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reacções de transfusão de sangue ocorrem devido a reacção antigéno-anticorpo, podendo variar de uma reacção ligeira a um choque anafilático. Por isso, É importante a realização de prova do sangue doado e do sangue de quem vai receber-lo, pois o receptor precisa receber do doador um tipo de sangue compatível com o seu, para que não haja distruição das hemácias. (hemólise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A390-5846-4EFE-9F37-A04F28AE596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Pre-transfusion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valiar os Sinais Vitais antes e durante a transfus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tiliza uma agulha ou cateter com calibre nao inferior a numero 20, uma solucao salina normal e sistema tipo“y”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Uma unidade transfusional deve correr no máximo quatro horas de tempo (em condições normais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BE38-6687-44A8-9F34-04B20FE4384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Pre-transfusion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sangue ou seu derivado deve ter uma etiqueta de identificação com os seguintes dados: Nome completo, número da cama do paciente e sua localização, grupo ABO e Tipo do receptor, data e nome do responsável pela realização dos testes e pedido do produto e resultado de compatibil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muito importante que o enfermeiro que vai administrar o sangue ou seus componentes confira atentamente a etiqueta, para verificar se os dados estão correc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AB93-1C8B-4FE3-91D6-9187DC37B9D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Listar quatro factores que afectam a escolha do cateter utilizado para a administração de soluções intravenos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 as reacções a transfusões de sangue e seus deriva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scutir os critérios para solucionar uma veia através do qual são administrados líquidos intravenos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&amp;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Arrow 4"/>
          <p:cNvSpPr/>
          <p:nvPr/>
        </p:nvSpPr>
        <p:spPr>
          <a:xfrm>
            <a:off x="3962520" y="19810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5438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idados Intra-Transfusio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O sangue deve ser administrado mediante punção de uma veia calibrosa ou utilização de cateter venoso central, se disponíve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A transfusão deve ser sempre instalado com um sistema próprio com filtro, trocado de 4 em 4 horas ou antes, se houver sinais de saturação ou contaminação, podendo ser usado para mais de uma unidade no mesmo paciente desde que respeitados esses critérios. Se tiver que fazer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0358-9838-4448-AC43-58805721DE9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idados Intra-Transfusional 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Nos primeiros 15 minutos deve se deixar o sangue gotejar lentamente, observando as condições do paciente  para despiste da ocorrência de hemólise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umentar a velocidade se não houver contra-indic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onitorar o processo de transfusão, observando as reacções e aparecimento de sinais ou sintomas como febre, calafrios, tremores, erupção cutânea, prurido generalizado, cefaleia, hipotensão, taquicardia, dispnei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CDCF-C2F7-4E0D-89E2-D18573B4FE1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idados Intra-Transfusional – Reacção transfusio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Em caso de reacção: Interromper imediatamente a transfusão e comunicar médico ou outro técnico superior e ao banco de sangue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Acções imediata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2060"/>
                </a:solidFill>
                <a:latin typeface="Arial"/>
              </a:rPr>
              <a:t>Interromper a transfusão, mantendo a punção venosa com uma solução fisiológica a 0.9%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2060"/>
                </a:solidFill>
                <a:latin typeface="Arial"/>
              </a:rPr>
              <a:t>reexaminar cuidadosamente todas as etiquetas, rótulos e registos, conferindo novamente os dados do paciente com os do banco de sangue ou componentes em uso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D344-5C02-4437-9064-82EC1BFA616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Intra-Transfusional – Reacção transfusion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aminhar o balão contendo o resto do sangue ou componente, o sistema e a etiqueta de identificação do balão, para o banco de sangue, tendo o cuidado de não contaminar o produto durante a manipul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her amostra de sangue para exame e determinação de hemoglobi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7F17-6F6B-4BFC-A1AF-32E239AAE99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Intra-Transfusional – Reacção transfusion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aminhar o balão contendo o restante do sangue ou componente, o sistema e a etiqueta de identificação do balão, para o banco, tendo o cuidado de não contaminar o produto durante a manipul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her amostras de sangue para exame e determinação de hemoglobi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895C-E502-485E-9B72-DEB37DA40DF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idados Pos-Transfusio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ve  avaliar os sinais vitais de quinze em quinze minutos ate a situacao do utente ficar normaliza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77D9-A467-4A79-89BD-E891A9712EC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858000" cy="129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ccoes mais frequentes na administracao de sang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reaccoes ocorrem durante os primeiros 5 a 15 minutos apos o inicio da transfusa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correm reaccoes febris alergias, (rubor e dispneia), septicas, tremores, sobrecarga circulatoria, sinais de hipoglicem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usas de reaccoes na administracao de sang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ompatibilidade sanguine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recarga circulatoria(Taquicardia por hipotensa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9F4B-CB72-419F-990C-61C91053A28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as de reaccoes na administracao de sangue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ompatibilidade sanguine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recarga circulato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aquicardia por hipotensa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C548-4BE9-42BB-A6BE-3DCB73C4FF0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838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Tabela 3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eacoes a Transfusao de Sang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BEE0-B7C1-4DB9-B112-54D8840EF16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80880" y="914400"/>
          <a:ext cx="8543880" cy="6319800"/>
        </p:xfrm>
        <a:graphic>
          <a:graphicData uri="http://schemas.openxmlformats.org/drawingml/2006/table">
            <a:tbl>
              <a:tblPr/>
              <a:tblGrid>
                <a:gridCol w="1447920"/>
                <a:gridCol w="1905120"/>
                <a:gridCol w="2133360"/>
                <a:gridCol w="3057480"/>
              </a:tblGrid>
              <a:tr h="58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s de Reac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ais  Sinto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pati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otensao, pulso rapido, dificuldade repiratoria,dor nas costas e rubo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pati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ade entre o sangue do dador e do recep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de a infusao do sangu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 salina ev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 oxigen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r os p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314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re, calafrios,dor de cabeca, pulso rapido e dores muscula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as a proteinas estranhas no sangue doa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de a infusao do sang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  a salina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lia os sinais vit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e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re,tremores, hipotensa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usao do sangue com microorganis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de a infusao de sang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 a solucao salina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rda o sangue em lugar segu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ma, prurido, vermelhidao, sinais vitais estave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quena sensibilidade de substancias no sangue doa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z o volume da infusao do sang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lia os sinais vitais do pac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 o anti-histamin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eacoes a Transfusao de Sang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7EC0-F0E8-4860-98C9-D7AEB6FDF96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04920" y="1397160"/>
          <a:ext cx="8534160" cy="5029200"/>
        </p:xfrm>
        <a:graphic>
          <a:graphicData uri="http://schemas.openxmlformats.org/drawingml/2006/table">
            <a:tbl>
              <a:tblPr/>
              <a:tblGrid>
                <a:gridCol w="1523880"/>
                <a:gridCol w="2133720"/>
                <a:gridCol w="2057400"/>
                <a:gridCol w="281916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s de Reaco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ais  Sintom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s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a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mor moder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enc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usao de sangue fr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r a infusa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rir o paciente e deixar lhe confortave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brecarg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ertensao, dificuldade respiratoria, sons respiratorios ruidosos e pulso oscilante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 volume ou infusao rapida, funcao cardiaca ou renal comprometido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zir  o volume do sangue infundido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r a cabec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r oxigen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oglcem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otensao, caibras musculares e convulsoe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as transfusoes de sangue contendo agentes anticalc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pender a transfusao de sang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r a solucao sali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625760" y="5562720"/>
          <a:ext cx="6984720" cy="695160"/>
        </p:xfrm>
        <a:graphic>
          <a:graphicData uri="http://schemas.openxmlformats.org/drawingml/2006/table">
            <a:tbl>
              <a:tblPr/>
              <a:tblGrid>
                <a:gridCol w="6984720"/>
              </a:tblGrid>
              <a:tr h="69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nceito de Transfusao de Sangue</a:t>
            </a:r>
            <a:br>
              <a:rPr sz="20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Concei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ransfusao de sangu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 procedimento clinico utilizado atraves do acesso venoso, em que e  administrado sangue total ou seus derivados/componentes,tais como o plasma, concentrado de hemacias e plaquet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254D-4B5E-4BBE-959C-0B9C3EA3D72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m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pessoas com sangue tipo “O” são considerados dadores universais e as do tipo “AB” receptores univers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enfermeiro deve sempre observar se não há presença de bolhas ou alterações na cor do sangu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presença de bolhas pode indicar multiplicação de bactérias e a cor anormal ou turva podem ser indicação de hemóli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5FD4-128A-4E95-AEB8-659C4812DD2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mo       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se deve adicionar ao sangue ou a seus derivados quaisquer substâncias ou medicamentos bem como sua infusão concomitante pela mesma linha que a do sangue. Caso haja necessidade, deve se optar por soluções isotônicas ao sangue, sem cálcio de modo a evitar a hemóli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O tempo de infusão não deve exceder a 4 horas, devido ao risco de proliferação de bactér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E114-9EAF-4A12-ABA8-0542B080DE0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ibliografias;Enfermagem Basica, Teoria e Prat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ditora,RIDEEL Pag-308 a 317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itos  e habilidades fundamentais  no atendimento de Enfermagem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a edicao; Barbara K.TIMBY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gs 296 a 30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3502-6F7F-4951-8AE1-0C44400CC40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os de Administracao de Sang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umas situacoes exigem a necessidade de transfunsao de sangue e seus derivados; por ex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angueTota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;e para  repor as perdas de sangue provocadas po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to Cirurgico ou politraumatism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lasma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ara repor a perda de liquidos em grandes queimadur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ntrad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de hemaceas, para casos de anemias grav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ntrad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 plaqueta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para o controlo de hemorragi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A3D4-A640-4D98-8ADA-165743ACC6F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osicao do Sang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 Sangue e composto por duas partes distintas; Solida e Liqui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id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e constituida por celulas sanguine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iquid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; e constituida por plasm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 celulas sanguineas sao os eritrocitos ou globulos vermelhos, os leucocitos ou globulos brancos e as plaquetas, tambem chamados por tro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5B6F-8EF6-4965-A200-0A4172D7354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caucoes a serem tomadas na transfunsao sanguine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Transfusao de Sangue deve ser realizada de maneira criteriosa e por um profissional de saude competente que detenha conhecimentos sobre os procedimentos tecnicos de transfusao, natureza do produto, possiveis reaccoes adversas e cuidados com 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transfusao de sangue assim como seus derivados  devem serem realizados mediante prescricao medica, na qual devem constar;nome legivel do medico ou outro tecnico e sua assinatur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 pedido de sangue sera encaminhado  ao banco  de sangue deve conter a identificacao do receptor, o produto hemoterapeutico indicacdo sua respectiva quantidade e indicacao de transfusa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E7A7-F337-4D5B-BFF1-33D2E0B5531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caucoes a serem tomadas na transfunsao sanguine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 pedido de sangue sera encaminhado  ao banco  de sangue deve conter a identificacao do receptor, o produto hemoterapeutico indicacdo sua respectiva quantidade e indicacao de transfusa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ve-se colher uma amostra de sangue do paciente, colocar em frasco contendo anti-coagolante, devidamente identificado e encaminhado junto com pedido para banco de sangue, para determinacao do grupo sanguine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ngue Matern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DA28-C530-4129-8DC7-FEF167C6940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Preparação psicologica ao utente para transfusa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os a colheita do sangue, e testado para verificar se tem anti-corpos de sifilis, hepatite e virus da imunodeficiencia humana (HIV),para evitar a administracao do sangue capaz de transmitir doencas sanguineas ao ut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E64E-B839-4E3E-82E8-11683867C8F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tibilidade Sanguin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angu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xistem varias diferencas entre as proteinas presentes no sangue de um individuo, quer seja dador como receptor, onde cada um pode provocar  grandes ou pequenas reaccoes a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ransfusã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5e"/>
                </a:solidFill>
                <a:latin typeface="Arial"/>
              </a:rPr>
              <a:t>O grupo mais importante para a transfusao de sangue, e o sistema ABO, o qual inclui os grupos B,o antigeno 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18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 e de Saude Materno-Infant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EAB4-3078-475B-9F18-23355C72A71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Iscisa</cp:lastModifiedBy>
  <dcterms:modified xsi:type="dcterms:W3CDTF">2014-07-30T18:07:29Z</dcterms:modified>
  <cp:revision>948</cp:revision>
  <dc:subject/>
  <dc:title>ANATOMIA E FISIOLOGIA HUMANA</dc:title>
</cp:coreProperties>
</file>