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7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9.jpeg" ContentType="image/jpeg"/>
  <Override PartName="/ppt/media/image8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2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2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2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922C-723E-4AFA-949E-39BF1517659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E9E7-DDC6-4654-ADBD-B5E175501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DC518-C2EB-4E1F-AE0B-B22B032685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2043A-D517-472B-A816-46A6A58DEBA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052B50-2247-49AE-B05D-9804DCFEC03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147DC7-C1F3-4E22-AED2-B3C62685DE8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F38874-8EF6-42ED-980B-31F1B7F0DC8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E91C19-AAAF-460B-A443-78EEAB1C51C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215BD4-FD24-4F8A-A614-3022847016C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15BE30-2C2A-4E5F-9377-EC6835B6083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3F078B-7AAB-41A7-8AB4-ACBC02CA8C3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6BD97E-B1FD-4B32-954D-787B37E6825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5D7BC2-937D-4F61-8B93-6AA9F235ACB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88DADE-00BA-4BC7-98BB-2147C38A3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F9F0A-FACF-4740-A67C-343F1EACCE0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A3F048-2A32-49A9-A426-0B812C57DC6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330B81-4731-49C5-A73A-9528D7102C1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13EEAF-C70E-4734-94A3-5ADA0BE16E7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FE605D-FBE4-440D-BD12-4C057114C2D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47A24C-6154-4CFE-BFA5-2260732BE6E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BD826E-DB24-47FC-A18D-65F22615244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DAEC61-8D49-4CF9-BE12-FAF80D350AB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70ABA6-882A-4560-826D-3B453CC3808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224A6D-F1F1-4399-B856-19D9AC6FBA1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665580-BDC1-41FF-AC00-BC7582906E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A271B-A889-4124-82E4-3B0AC23636F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C92082-6479-4483-A0C4-7C86B76B341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2F401-06EF-4E92-A9A5-94CDCE2FF9D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94349-3B43-45B3-8222-9A2E2F6E33F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1CC19-E42E-4EC5-9C22-05AD1C8682F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DF641-00F8-47B5-B255-242F8F7CCF9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BDD4F-0C13-4D86-B61A-FE308AD3B6F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E8193-819F-4B58-9ED1-E44E43C674B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D9B6E-ED27-4F63-9434-459A3FC193A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31097-FB9A-4C8E-B3C2-3BEC217A1E8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D91FA-E53E-42FD-A2AD-7A805400F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CD94E-CD8B-4730-A565-048D11B146B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00263-8BC4-4F40-9F5E-6AA6D321D76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13CBB-F892-43EB-9ADD-BB3B2F60F1D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35234F-CEF2-47F8-B7FB-257E19963F2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AAC2DA-A602-409E-9ACF-08181BA9F67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5960C1-81C4-4CA5-AF26-C0AE01F1A2C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B84210-E7D1-4460-85CE-C8D0F1B0C22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993661-3D99-4F74-B03B-7D65D0A1831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2ADF58-CDF9-4AB2-BF38-54A77717F80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A442D7-CED4-4C6D-BC6F-4DBADB0FB2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EA3D02-EA31-462A-8F08-0C7D7E529B1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135A4D-28E9-48AD-B51E-F95CB3C39E5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0DF778-B9D2-4C79-9757-7B056C47857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BAF79B-5E9F-4E76-8A60-886E3214D7E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6AAB07-E836-4AB8-B692-1E914C0E41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534FD-F3D6-4A6B-B1DA-C847ADA546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75D41-D2CF-4BB1-B698-223B639377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C091A-FF4E-4ECB-8141-B7A9A945A1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20FF2-52C4-4D45-9214-98DEC71F82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D3026-9C6A-4F9A-ABE0-6AB03FAB40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40B2C-8480-414D-863D-ECBA726C38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EF5A2-DC90-4051-B363-80C1EF9CAF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04144-7B01-4114-8173-6069BD522B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4FD0B-53C0-40F5-B2CB-5185678EA3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0EA96-096B-4A97-804A-1D33783A97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74733-F0A6-44FB-9D3A-D00FEA8D5F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B09D8-7AEA-478E-844F-9B3BA18CF5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8CDEA-424B-41B0-9C30-46856299FD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C143F-9983-4069-8829-EE48EAE25E8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168E2E-4C89-4A1A-ACD4-E5421AC067F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D5AB7A-77E6-41A6-A360-7183EE5E60C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02E8A4-F0B9-42B3-842F-67B51BAD4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63E91-B4E0-40CE-87B7-2315CC914D1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286B25-7FF9-475A-A7A4-8CE560572F1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04041B-A89A-40C8-AD1C-9CB715E570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EB3BEC-0360-4820-BD0E-9C26FBD49C1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2995AF-91B9-471D-AF98-017DBA332F3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C631B5-B451-476B-BFB6-8EDE93C47A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F3074B-B7A6-4D0D-9E83-BFA6E1DECE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B1AB91-5218-4FBB-9816-70F5225BDC4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232437-47A1-4B37-B513-5B8D93A86A3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F1A7F7-9E51-45E7-8466-55C81978728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197B9-CDAF-40E0-951F-72C61E42B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BBEE4-7729-4EA8-AAE3-F9F26AD1ABC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2C332-7022-4CDD-88FC-2159AB7C997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C10B5-B33A-43BE-843F-DA15AA5E255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003E8-DD1E-455D-B905-CB97057278C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2560D-29BA-41A1-B521-05EF97D4F4D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F9D1D-525C-4158-9B81-003F6E48942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548A6-01FE-4989-B6AB-0B9659DBC8F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50DB0-C3E6-4883-806B-ECAF35C78BF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5BE8C-19E7-4CC8-92E2-C75018B67DD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873B3-4614-47AE-9681-E13A376F873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A5DFB-30D7-4CC3-A422-ABE7558A7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B8656-B7D2-4A3D-BE20-5B0B775AAC6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6B652-BE79-45AE-BE6E-BEC8CDC9788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F9C5BF-7E97-40D2-A89D-4768884E1BE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10E00E-597C-41C5-AE57-B0121EA7D8E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3746A4-E8DA-47EE-BD35-5819ABDE742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6F30BD-0015-46E1-A66F-F2778EDEE9C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7F0E6E-6770-4C83-89AC-245DF491697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0C371E-766B-4F82-A913-72AF1E577B4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6A9102-8886-4AEB-9217-37B3319E0BC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F35E81-65EF-4E59-A195-99805234019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71C56C-10D1-4616-AC2F-9E70D87FB7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2341E-3393-4C43-B29B-910D5CE32F1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2F0916-C925-4B6A-B38D-9C7F197833D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67D924-242C-4986-996B-EFE8DCC2A6B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61D955-5E00-4298-89E4-0532645DE1D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095D53-0025-41A5-86E2-CAEFC76A330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2A4A07-3357-4A50-BF15-E644FB04237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443952-C040-41B7-A7C1-6FBA174FCC6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2E77A5-F8CF-43E7-ADBC-64E760D9658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771C7A-C2B2-4412-BFE9-A084C6AAA42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E321E6-16EC-4CE5-A770-43CEB2168F1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E7A5B4-526D-484A-8C95-669AB8081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9018E-76C3-48DC-926A-A8952D2DD22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859008-B993-446F-B948-2747FE6F78F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164D5C-1EA1-43A4-BF7B-90306790753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C286ED-2180-4FE8-9A2D-0EAE70037C4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66E3F5-5A90-4284-ACF1-A6D3AF3D5E4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097AFC-E859-40CC-A3DB-3AFF00D4FDE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74AB8-F02E-4A9D-9E17-FFD34439153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B38AE-6C2D-40E5-9655-121BF20DCC4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BF4A1-389A-4EC7-AC6C-25D0D267340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8B85D-75F8-459F-91F0-23C4BB50FC4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E1587-E13C-45B3-9F02-78788DCF9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78B8F-32DD-4B10-B22F-52DF1DE49DA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4870F-B367-4619-80BE-18E3FEB4192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00331-2192-42A5-A479-B86C094F10A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82FEC-07DB-4AB4-B5FB-0896347327B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D9CA7-5490-4FF7-830E-AE9F4A8F4C4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D226E-3588-4EA5-A893-1EA7E67F998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47231-A233-4C62-885A-F6C68EAE2C5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62070-871D-4B44-83FB-EBEA386C5EA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A6E416-7030-4498-80F7-AD31C063AAC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D27303-49F3-4E9B-BF1F-4DA4D1283BD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9C4511-CB70-4C3D-B270-2CCDC3E7B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FF8D-B4F5-481F-BD16-5BD25EC678B2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18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19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D2D0-59F2-4124-90B3-1737F22BA8CC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20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21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10BD-8426-4617-BBE5-19B35F837A84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ftr" idx="22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3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A369-ED2E-4B28-B299-20780431E3DF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1440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4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5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E973-B622-4A2F-8242-21D551553FB6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6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495E-994C-4E5A-BFCD-19B423414AEC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8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9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20EE-2ADC-4EF8-8D81-84F295B0DE0B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0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93DB-5D1A-4FC8-98CF-E1BCBE27567A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2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3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AE05-2334-4652-A078-58F2B0B13A0A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ftr" idx="14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15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2F3F-7403-4E62-8FAB-01BB13713155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ftr" idx="16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sldNum" idx="17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ABC9-5BFD-44B3-B66E-5083BB769DA8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3.bp.blogspot.com/-IkHukene01c/TWQZgScvLgI/AAAAAAAAAK8/vV8tqkuqP9E/s1600/Posi&#231;&#227;o+de+Fowler.gif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067"/>
          <p:cNvSpPr/>
          <p:nvPr/>
        </p:nvSpPr>
        <p:spPr>
          <a:xfrm>
            <a:off x="1066680" y="2133720"/>
            <a:ext cx="7467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  <a:ea typeface="Arial"/>
              </a:rPr>
              <a:t>MEIOS PARA PROPORCIONAR CONFORTO AO UTENTE: POSIÇÕES DE CONFORTO DO UTENTE E MECANICA CORPO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Rectangle 2065"/>
          <p:cNvSpPr/>
          <p:nvPr/>
        </p:nvSpPr>
        <p:spPr>
          <a:xfrm>
            <a:off x="685800" y="4800600"/>
            <a:ext cx="81532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  <a:ea typeface="Arial"/>
              </a:rPr>
              <a:t>Módulo 7: Bases científicas para prática de Enfermagem II – Fundamentos de Enfermag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Litotômica: a utente é posta em decúbito dorsal, as coxas são bem afastadas uma das outras e flexionadas sobre o abdome; para manter as pernas nesta posição usam-se suportes para as pernas (perneiras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743040" indent="-343080"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sição usada para parto, toque, curetagem.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ições de conforto do utente durante exam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6" name="Picture 4" descr="http://2.bp.blogspot.com/-hEb-gmIEf7k/TWQhfJGVTkI/AAAAAAAAALM/mXKo-i_yOws/s320/Posi%25C3%25A7%25C3%25A3o+Ginecol%25C3%25B3gica.jpg"/>
          <p:cNvPicPr/>
          <p:nvPr/>
        </p:nvPicPr>
        <p:blipFill>
          <a:blip r:embed="rId1"/>
          <a:stretch/>
        </p:blipFill>
        <p:spPr>
          <a:xfrm>
            <a:off x="1619280" y="3789360"/>
            <a:ext cx="6207120" cy="2405160"/>
          </a:xfrm>
          <a:prstGeom prst="rect">
            <a:avLst/>
          </a:prstGeom>
          <a:ln w="0">
            <a:noFill/>
          </a:ln>
        </p:spPr>
      </p:pic>
      <p:sp>
        <p:nvSpPr>
          <p:cNvPr id="557" name="Espaço Reservado para Rodapé 5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456840" y="1142640"/>
            <a:ext cx="838188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redelemburg: a utente fica em decúbito dorsal, com as pernas e pé acima do nível da cabeç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sição usada para retorno venoso, cirurgia de varizes, edema.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ições de conforto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AutoShape 2"/>
          <p:cNvSpPr/>
          <p:nvPr/>
        </p:nvSpPr>
        <p:spPr>
          <a:xfrm>
            <a:off x="76320" y="-495360"/>
            <a:ext cx="17524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AutoShape 4"/>
          <p:cNvSpPr/>
          <p:nvPr/>
        </p:nvSpPr>
        <p:spPr>
          <a:xfrm>
            <a:off x="76320" y="-495360"/>
            <a:ext cx="17524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2" name="Picture 6" descr="http://www.destradeind.com.ar/img/fluo_foPosicion03.jpg"/>
          <p:cNvPicPr/>
          <p:nvPr/>
        </p:nvPicPr>
        <p:blipFill>
          <a:blip r:embed="rId1"/>
          <a:stretch/>
        </p:blipFill>
        <p:spPr>
          <a:xfrm>
            <a:off x="4716360" y="2997360"/>
            <a:ext cx="3868920" cy="23032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8" descr="http://www.dipelco.com/Imagenes/TMP26.JPG"/>
          <p:cNvPicPr/>
          <p:nvPr/>
        </p:nvPicPr>
        <p:blipFill>
          <a:blip r:embed="rId2"/>
          <a:stretch/>
        </p:blipFill>
        <p:spPr>
          <a:xfrm>
            <a:off x="684360" y="2997360"/>
            <a:ext cx="3905280" cy="2724120"/>
          </a:xfrm>
          <a:prstGeom prst="rect">
            <a:avLst/>
          </a:prstGeom>
          <a:ln w="0">
            <a:noFill/>
          </a:ln>
        </p:spPr>
      </p:pic>
      <p:sp>
        <p:nvSpPr>
          <p:cNvPr id="564" name="Espaço Reservado para Rodapé 8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6840" y="1143000"/>
            <a:ext cx="8381880" cy="20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reta ou ortostática: o utente permanece em pé com chinelos ou com o chão forrado por um tape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sição usada para exames neurológicos e certas anormalidades ortopédic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ições de conforto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7" name="Picture 2" descr="http://wmturismo.com.br/images/standing.jpg"/>
          <p:cNvPicPr/>
          <p:nvPr/>
        </p:nvPicPr>
        <p:blipFill>
          <a:blip r:embed="rId1"/>
          <a:stretch/>
        </p:blipFill>
        <p:spPr>
          <a:xfrm>
            <a:off x="971640" y="3141720"/>
            <a:ext cx="3887640" cy="3168720"/>
          </a:xfrm>
          <a:prstGeom prst="rect">
            <a:avLst/>
          </a:prstGeom>
          <a:ln w="0">
            <a:noFill/>
          </a:ln>
        </p:spPr>
      </p:pic>
      <p:sp>
        <p:nvSpPr>
          <p:cNvPr id="568" name="Espaço Reservado para Rodapé 6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CaixaDeTexto 7"/>
          <p:cNvSpPr/>
          <p:nvPr/>
        </p:nvSpPr>
        <p:spPr>
          <a:xfrm>
            <a:off x="5076720" y="3789360"/>
            <a:ext cx="3816360" cy="228852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tenção! Todas as posições apresentadas até aqui são extremamente usadas na assistência Materno-infant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921800" cy="1152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mportância da mecânica corporal no trabalho do enfermeir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78920" y="1413000"/>
            <a:ext cx="4070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O enfermeiro deve realizar boa mecânica corporal, principalmente ao cuidar de utentes acamados;</a:t>
            </a:r>
            <a:endParaRPr b="1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Orientar e supervisionar os demais membros da equipa a esse respeito;</a:t>
            </a:r>
            <a:endParaRPr b="1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Nos cuidados de enfermagem é muito comum o  levantamento de peso excessivo, incorreto ou repetitivo, que com o tempo pode vir a prejudicar a coluna vertebral do trabalhador. </a:t>
            </a:r>
            <a:endParaRPr b="1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572" name="Picture 2" descr="C:\Documents and Settings\Administrador\Meus documentos\Moçambique GERAL\enfermaria modelo\fotos enfermaria modelo jan fev 2008\serv 4 jan 2008.JPG"/>
          <p:cNvPicPr/>
          <p:nvPr/>
        </p:nvPicPr>
        <p:blipFill>
          <a:blip r:embed="rId1"/>
          <a:stretch/>
        </p:blipFill>
        <p:spPr>
          <a:xfrm>
            <a:off x="4284720" y="1981080"/>
            <a:ext cx="4681440" cy="3511800"/>
          </a:xfrm>
          <a:prstGeom prst="rect">
            <a:avLst/>
          </a:prstGeom>
          <a:ln w="0">
            <a:noFill/>
          </a:ln>
        </p:spPr>
      </p:pic>
      <p:sp>
        <p:nvSpPr>
          <p:cNvPr id="573" name="Espaço Reservado para Rodapé 5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468000" y="1916280"/>
            <a:ext cx="838188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o executar cuidados de enfermagem que requeiram esforços físicos acentuados, o trabalhador dev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licitar o auxílio de um coleg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lanear técnicas e meios que favoreçam a taref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o fazê-las, manter as costas sempre erectas e os joelhos flexionad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5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921800" cy="1152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mportância da mecânica corporal no trabalho do enfermeir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18960" y="214200"/>
            <a:ext cx="7281720" cy="797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Verdana"/>
              </a:rPr>
              <a:t>Como aplicar boa mecânica corporal</a:t>
            </a:r>
            <a:endParaRPr b="1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14200" y="1143000"/>
            <a:ext cx="8701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Mecânica corporal é o modo como o corpo se movimenta e mantém o equilíbrio pelo uso mais eficiente de suas par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Use os músculos mais longos e fortes dos braços e pernas para evitar tensão dos músculos das cost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Os músculos dos quadris, das coxas e das pernas são fortes e devem ser usados sempre que possíve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579" name="Picture 2" descr="http://imagem.vilamulher.terra.com.br/interacao/original/60/postura-correta-4-60-226.jpg"/>
          <p:cNvPicPr/>
          <p:nvPr/>
        </p:nvPicPr>
        <p:blipFill>
          <a:blip r:embed="rId1"/>
          <a:stretch/>
        </p:blipFill>
        <p:spPr>
          <a:xfrm>
            <a:off x="1643040" y="3505320"/>
            <a:ext cx="5916600" cy="3352680"/>
          </a:xfrm>
          <a:prstGeom prst="rect">
            <a:avLst/>
          </a:prstGeom>
          <a:ln w="0">
            <a:noFill/>
          </a:ln>
        </p:spPr>
      </p:pic>
      <p:sp>
        <p:nvSpPr>
          <p:cNvPr id="580" name="Espaço Reservado para Rodapé 5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Regras para prática da boa mecânica corpor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0880" y="1295280"/>
            <a:ext cx="83822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Encoraje o utente a fazer o máximo por si próprio, sempre que possíve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Proporcionará exercitar seu tônus muscular, prevenir contracturas, deformidades e articulações endurecid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Mantenha uma larga base de sustentação, ficando com os pés confortavelmente afastados, um à frente do outro e as pontas voltadas para o movimento que se vai execut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Fique junto ao utente e flexione os joelhos e quadris quando precisar inclinar-se, em vez de dobrar a cintur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3" name="Espaço Reservado para Rodapé 4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Regras para prática da boa mecânica corpor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6840" y="1600200"/>
            <a:ext cx="4800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Carregue objectos pesados junto ao corp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Movimente o utente fazendo-o rolar ou virar, sempre que possível, em vez de levantá-l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Sempre que possível, puxe o utente em sua direcção, pois tal procedimento exige menos esforço do que empurrá-l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586" name="Picture 2" descr="http://t3.gstatic.com/images?q=tbn:nVxbAd3lxKbeHM:http://www.singrafs.org.br/infografs/seguranca/2_9.jpg"/>
          <p:cNvPicPr/>
          <p:nvPr/>
        </p:nvPicPr>
        <p:blipFill>
          <a:blip r:embed="rId1"/>
          <a:stretch/>
        </p:blipFill>
        <p:spPr>
          <a:xfrm>
            <a:off x="5638680" y="1600200"/>
            <a:ext cx="2935440" cy="4071960"/>
          </a:xfrm>
          <a:prstGeom prst="rect">
            <a:avLst/>
          </a:prstGeom>
          <a:ln w="0">
            <a:noFill/>
          </a:ln>
        </p:spPr>
      </p:pic>
      <p:sp>
        <p:nvSpPr>
          <p:cNvPr id="587" name="Espaço Reservado para Rodapé 5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ições de conforto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68000" y="981000"/>
            <a:ext cx="8381880" cy="19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postura confortável é aquela que gera segurança e bem-estar no ut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 ser escolhida pelo utente, exceto quando tumores, cicatrizes, drenos, equipamentos ortopédicos, patologias o impedem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76320" y="-585720"/>
            <a:ext cx="18478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76320" y="-585720"/>
            <a:ext cx="18478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AutoShape 6"/>
          <p:cNvSpPr/>
          <p:nvPr/>
        </p:nvSpPr>
        <p:spPr>
          <a:xfrm>
            <a:off x="76320" y="-585720"/>
            <a:ext cx="18478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0" name="Picture 8" descr="http://www.comunicacao.ba.gov.br/fotos/2007/10/24/hospital-manoel-vitorino-inicia-programa-de-resposta-ao-trauma-e-a-violencia/primeira-cirurgia-do-programa-de-resposta-ao-trauma-e-a-violencia-1/image_preview"/>
          <p:cNvPicPr/>
          <p:nvPr/>
        </p:nvPicPr>
        <p:blipFill>
          <a:blip r:embed="rId1"/>
          <a:stretch/>
        </p:blipFill>
        <p:spPr>
          <a:xfrm>
            <a:off x="379440" y="3357720"/>
            <a:ext cx="4114800" cy="2735280"/>
          </a:xfrm>
          <a:prstGeom prst="rect">
            <a:avLst/>
          </a:prstGeom>
          <a:ln w="0">
            <a:noFill/>
          </a:ln>
        </p:spPr>
      </p:pic>
      <p:sp>
        <p:nvSpPr>
          <p:cNvPr id="511" name="AutoShape 12"/>
          <p:cNvSpPr/>
          <p:nvPr/>
        </p:nvSpPr>
        <p:spPr>
          <a:xfrm>
            <a:off x="76320" y="-571680"/>
            <a:ext cx="15904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AutoShape 14"/>
          <p:cNvSpPr/>
          <p:nvPr/>
        </p:nvSpPr>
        <p:spPr>
          <a:xfrm>
            <a:off x="76320" y="-571680"/>
            <a:ext cx="15904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AutoShape 16"/>
          <p:cNvSpPr/>
          <p:nvPr/>
        </p:nvSpPr>
        <p:spPr>
          <a:xfrm>
            <a:off x="76320" y="-571680"/>
            <a:ext cx="15904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4" name="Picture 18" descr="http://i2.photobucket.com/albums/y12/elvysoares/Cesariana6.jpg"/>
          <p:cNvPicPr/>
          <p:nvPr/>
        </p:nvPicPr>
        <p:blipFill>
          <a:blip r:embed="rId2"/>
          <a:stretch/>
        </p:blipFill>
        <p:spPr>
          <a:xfrm>
            <a:off x="4932360" y="3068640"/>
            <a:ext cx="3624120" cy="2719440"/>
          </a:xfrm>
          <a:prstGeom prst="rect">
            <a:avLst/>
          </a:prstGeom>
          <a:ln w="0">
            <a:noFill/>
          </a:ln>
        </p:spPr>
      </p:pic>
      <p:sp>
        <p:nvSpPr>
          <p:cNvPr id="515" name="CaixaDeTexto 14"/>
          <p:cNvSpPr/>
          <p:nvPr/>
        </p:nvSpPr>
        <p:spPr>
          <a:xfrm>
            <a:off x="1403280" y="6093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irurgia ortopéd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CaixaDeTexto 15"/>
          <p:cNvSpPr/>
          <p:nvPr/>
        </p:nvSpPr>
        <p:spPr>
          <a:xfrm>
            <a:off x="5580000" y="5732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esarea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Espaço Reservado para Rodapé 16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ições de conforto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O utente deve assumir uma postura confortável, estando em movimentação ativa ou passiva;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m movimentação passiva, cabe a equipe de enfermagem realizar a mudança de decúbito, com as seguintes finalidades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cxnSp>
        <p:nvCxnSpPr>
          <p:cNvPr id="520" name="Conector de seta reta 6"/>
          <p:cNvCxnSpPr/>
          <p:nvPr/>
        </p:nvCxnSpPr>
        <p:spPr>
          <a:xfrm flipH="1">
            <a:off x="2986920" y="3860640"/>
            <a:ext cx="793080" cy="648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1" name="Conector de seta reta 8"/>
          <p:cNvCxnSpPr/>
          <p:nvPr/>
        </p:nvCxnSpPr>
        <p:spPr>
          <a:xfrm>
            <a:off x="5076360" y="3933720"/>
            <a:ext cx="864360" cy="504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2" name="Elipse 10"/>
          <p:cNvSpPr/>
          <p:nvPr/>
        </p:nvSpPr>
        <p:spPr>
          <a:xfrm>
            <a:off x="684360" y="4581360"/>
            <a:ext cx="3671640" cy="151164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revenir esca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Elipse 11"/>
          <p:cNvSpPr/>
          <p:nvPr/>
        </p:nvSpPr>
        <p:spPr>
          <a:xfrm>
            <a:off x="4932360" y="4508640"/>
            <a:ext cx="3527280" cy="151272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roporcionar confor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Espaço Reservado para Rodapé 9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ições de conforto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6840" y="1142640"/>
            <a:ext cx="838188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enfermeiro poderá utilizar travesseiro, lençol, travessa e outros materiais improvisados para proporcionar posição de conforto ao ut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527" name="Picture 2" descr="[k1a,m.jpg]"/>
          <p:cNvPicPr/>
          <p:nvPr/>
        </p:nvPicPr>
        <p:blipFill>
          <a:blip r:embed="rId1"/>
          <a:stretch/>
        </p:blipFill>
        <p:spPr>
          <a:xfrm>
            <a:off x="2195640" y="2430360"/>
            <a:ext cx="4271760" cy="3665520"/>
          </a:xfrm>
          <a:prstGeom prst="rect">
            <a:avLst/>
          </a:prstGeom>
          <a:ln w="0">
            <a:noFill/>
          </a:ln>
        </p:spPr>
      </p:pic>
      <p:sp>
        <p:nvSpPr>
          <p:cNvPr id="528" name="Espaço Reservado para Rodapé 5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ições de conforto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6840" y="1142640"/>
            <a:ext cx="838188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deiras, colchões d’água e colchões pneumáticos, camas versáteis, ajudam a posicionar o utente, oferecendo-lhe confor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531" name="Picture 2" descr="http://catalogohospitalar.com.br/img/produtos/27532/imagem-de-poltrona-para-coleta-de-sangue-estofado-suporte-para-o-braco-suporte-para-soro-assento-com-altura-fixa-encosto-regulavel-muito-mais-confortavel_g.jpg"/>
          <p:cNvPicPr/>
          <p:nvPr/>
        </p:nvPicPr>
        <p:blipFill>
          <a:blip r:embed="rId1"/>
          <a:stretch/>
        </p:blipFill>
        <p:spPr>
          <a:xfrm>
            <a:off x="250920" y="2421000"/>
            <a:ext cx="3457440" cy="3456000"/>
          </a:xfrm>
          <a:prstGeom prst="rect">
            <a:avLst/>
          </a:prstGeom>
          <a:ln w="0">
            <a:noFill/>
          </a:ln>
        </p:spPr>
      </p:pic>
      <p:sp>
        <p:nvSpPr>
          <p:cNvPr id="532" name="CaixaDeTexto 6"/>
          <p:cNvSpPr/>
          <p:nvPr/>
        </p:nvSpPr>
        <p:spPr>
          <a:xfrm>
            <a:off x="179280" y="5516640"/>
            <a:ext cx="39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celente para Fowler e manter membros inferiores elevados ou plan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3" name="Picture 4" descr="http://catalogohospitalar.com.br/img/produtos/9660/imagem-de-camas-hospitalares-eletrica-movimento-fawler-e-elevacao-ib-545-el_g.jpg"/>
          <p:cNvPicPr/>
          <p:nvPr/>
        </p:nvPicPr>
        <p:blipFill>
          <a:blip r:embed="rId2"/>
          <a:stretch/>
        </p:blipFill>
        <p:spPr>
          <a:xfrm>
            <a:off x="6084720" y="2276640"/>
            <a:ext cx="2816280" cy="2260440"/>
          </a:xfrm>
          <a:prstGeom prst="rect">
            <a:avLst/>
          </a:prstGeom>
          <a:ln w="0">
            <a:noFill/>
          </a:ln>
        </p:spPr>
      </p:pic>
      <p:sp>
        <p:nvSpPr>
          <p:cNvPr id="534" name="CaixaDeTexto 8"/>
          <p:cNvSpPr/>
          <p:nvPr/>
        </p:nvSpPr>
        <p:spPr>
          <a:xfrm>
            <a:off x="6300720" y="4508640"/>
            <a:ext cx="25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ma que pode ajudar ao utente assumir diversas posições de modo confortáv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5" name="Picture 6" descr="Forração Orto Agua Residencial 201-26"/>
          <p:cNvPicPr/>
          <p:nvPr/>
        </p:nvPicPr>
        <p:blipFill>
          <a:blip r:embed="rId3"/>
          <a:stretch/>
        </p:blipFill>
        <p:spPr>
          <a:xfrm>
            <a:off x="3708360" y="2600280"/>
            <a:ext cx="2016000" cy="2263680"/>
          </a:xfrm>
          <a:prstGeom prst="rect">
            <a:avLst/>
          </a:prstGeom>
          <a:ln w="0">
            <a:noFill/>
          </a:ln>
        </p:spPr>
      </p:pic>
      <p:sp>
        <p:nvSpPr>
          <p:cNvPr id="536" name="CaixaDeTexto 10"/>
          <p:cNvSpPr/>
          <p:nvPr/>
        </p:nvSpPr>
        <p:spPr>
          <a:xfrm>
            <a:off x="3780000" y="4797360"/>
            <a:ext cx="194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forto e prevenção de escar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Espaço Reservado para Rodapé 11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456840" y="1143000"/>
            <a:ext cx="8381880" cy="14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Fowler: Utente fica semi sentad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408600" indent="-156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sição usada para descanso, alimentação, conforto ventilatório, patologias e cirurgias respiratóri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188640" indent="-18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7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ições de conforto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0" name="Picture 2" descr="http://3.bp.blogspot.com/-IkHukene01c/TWQZgScvLgI/AAAAAAAAAK8/vV8tqkuqP9E/s320/Posi%25C3%25A7%25C3%25A3o+de+Fowler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3003480"/>
            <a:ext cx="4681440" cy="3291120"/>
          </a:xfrm>
          <a:prstGeom prst="rect">
            <a:avLst/>
          </a:prstGeom>
          <a:ln w="0">
            <a:noFill/>
          </a:ln>
        </p:spPr>
      </p:pic>
      <p:sp>
        <p:nvSpPr>
          <p:cNvPr id="541" name="Espaço Reservado para Rodapé 6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456840" y="1142640"/>
            <a:ext cx="838188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ims: Lado direito - deitar a utente sobre o lado direito flexionando-lhe as pernas, ficando a direita semi flexionada e a esquerda mais flexionada, chegando próxima ao abdômen. Para o lado esquerdo, basta inverter o lado e a posição das pernas. 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sição usada para lavagem intestinal, exame retal e toque.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ições de conforto do utente durante exam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4" name="Picture 4" descr="http://3.bp.blogspot.com/-JnIjfDkDhjA/TWQTD88usNI/AAAAAAAAAKw/o9fun9nLwD0/s320/Posi%25C3%25A7%25C3%25A3o+de+Sims.jpg"/>
          <p:cNvPicPr/>
          <p:nvPr/>
        </p:nvPicPr>
        <p:blipFill>
          <a:blip r:embed="rId1"/>
          <a:stretch/>
        </p:blipFill>
        <p:spPr>
          <a:xfrm>
            <a:off x="2124000" y="4292640"/>
            <a:ext cx="5592960" cy="1800360"/>
          </a:xfrm>
          <a:prstGeom prst="rect">
            <a:avLst/>
          </a:prstGeom>
          <a:ln w="0">
            <a:noFill/>
          </a:ln>
        </p:spPr>
      </p:pic>
      <p:sp>
        <p:nvSpPr>
          <p:cNvPr id="545" name="Espaço Reservado para Rodapé 5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468000" y="1268280"/>
            <a:ext cx="8381880" cy="25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Genu-peitoral: Utente se mantém ajoelhada e com o peito descansando na cama. Os joelhos devem ficar ligeiramente afastado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sição usada para exames vaginais, retais (sigmoidoscopia) e cirurgias. 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ições de conforto do utente durante exam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8" name="Picture 2" descr="http://1.bp.blogspot.com/-43oDHG61p10/TWQj7O6BJeI/AAAAAAAAALU/jP7N4lRPD5k/s320/Posi%25C3%25A7%25C3%25A3o+Genu+Peitoral.jpg"/>
          <p:cNvPicPr/>
          <p:nvPr/>
        </p:nvPicPr>
        <p:blipFill>
          <a:blip r:embed="rId1"/>
          <a:stretch/>
        </p:blipFill>
        <p:spPr>
          <a:xfrm>
            <a:off x="1763640" y="3933720"/>
            <a:ext cx="5946840" cy="2303640"/>
          </a:xfrm>
          <a:prstGeom prst="rect">
            <a:avLst/>
          </a:prstGeom>
          <a:ln w="0">
            <a:noFill/>
          </a:ln>
        </p:spPr>
      </p:pic>
      <p:sp>
        <p:nvSpPr>
          <p:cNvPr id="549" name="Espaço Reservado para Rodapé 6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456840" y="1142640"/>
            <a:ext cx="8381880" cy="26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Ginecológica: a utente fica deitada de costas, com as pernas flexionadas sobre as coxas, a planta dos pés sobre o colchão e os joelhos afastados um do outr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sição usada para sondagem vesical, exames vaginais e retal, parto normal.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ições de conforto do utente durante exam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2" name="Picture 6" descr="http://4.bp.blogspot.com/_rs0xdFahBCA/S5EfvKtoaOI/AAAAAAAAApM/wVxEsPwX7nk/s320/parto1.gif"/>
          <p:cNvPicPr/>
          <p:nvPr/>
        </p:nvPicPr>
        <p:blipFill>
          <a:blip r:embed="rId1"/>
          <a:stretch/>
        </p:blipFill>
        <p:spPr>
          <a:xfrm>
            <a:off x="1774800" y="3933720"/>
            <a:ext cx="5524560" cy="2016360"/>
          </a:xfrm>
          <a:prstGeom prst="rect">
            <a:avLst/>
          </a:prstGeom>
          <a:ln w="0">
            <a:noFill/>
          </a:ln>
        </p:spPr>
      </p:pic>
      <p:sp>
        <p:nvSpPr>
          <p:cNvPr id="553" name="Espaço Reservado para Rodapé 6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3:37:55Z</dcterms:created>
  <dc:creator>Escolastica</dc:creator>
  <dc:description/>
  <dc:language>en-US</dc:language>
  <cp:lastModifiedBy>Hamido</cp:lastModifiedBy>
  <dcterms:modified xsi:type="dcterms:W3CDTF">2011-07-26T13:06:44Z</dcterms:modified>
  <cp:revision>70</cp:revision>
  <dc:subject/>
  <dc:title>Slide 1</dc:title>
</cp:coreProperties>
</file>