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8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0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D5FD-0A39-4415-AE46-0A80C8B66BBC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383B-FCE6-4EDB-9BFC-104D13891134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4132-8CC5-4F6A-B647-C8D5FDB61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1DB8-D533-47FE-85DA-1F6202858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5190-57F7-49BD-9293-C61E6968B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216D-C020-4FF9-9AFF-7CA2AF44F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4E56F-36BB-4A2C-9DD0-31A7D68AC9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6112E-E288-4B03-BE3F-2BB264ABC7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D647F-5D2C-4EC2-A387-90EE5EB8D2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389A5-4731-4E60-84ED-D28C565F27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41242-6AFE-4F9F-A24C-3441D11A78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54CD9-32B5-4989-8B21-80D0A5E555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20017-C78E-4CE2-9881-81D605CED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A9DF-B77F-4389-B98D-EFEFD346D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3C1FE-F58B-40E6-967A-BE007B6B9F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5958B-25F7-40FA-8B33-EB3312FA07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B9A1-BF20-4044-A8DB-11530F1088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0CE74-D292-4F72-99A7-0BB7731DAD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ACB91-BB32-40FC-B09C-2B1AA302B0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CA38-1EFA-49CC-BA15-E46976B3C4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2F2D-D2F1-4754-BA06-9EDFC64486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7179-22D5-47AA-B6CC-6FBDCE3681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8FE8-2DE1-401F-B121-8B3397FEB2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7837-20B0-4265-8917-6C4040C2E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CDF6-08FD-48A5-B155-5AC77A4E57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8790-18F5-43B9-A76F-76D6CE2719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22D2-A45A-4E71-ACD1-6AEF60322A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8F26-A00B-4D15-8D98-D3706C05D9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AD8E-9895-4EB8-9910-EE84F5B947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5455-7DEF-4BDE-A90E-B0914867D4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1B15-76B4-4575-A60F-97A649336C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3A7E-2FFF-46FD-A85F-791E140C37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CCDD-B45E-497B-98FA-21DADFC6C0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4332-DB8E-4805-9621-D958BB804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38ED-626C-488B-9159-D647D9E1C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0FD8-886B-4590-BAE9-5853EA37B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6584-870C-4C62-8A44-133EE275F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514E-FCD8-458D-A632-8CF49CC9E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3C2-040C-4D81-9B95-65AA3519111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95DE-9F6E-4623-A6DE-B5B03AC950D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4648-DD16-4D6D-9047-E26611933F5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31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7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57040" y="15235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ENEMA DE LIMPEZ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la - 1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lampar a sonda e retirar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m movimentos suave enrolando em papel higién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olução deve permanecer no cólon o tempo desejado ou prescri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mentar o efei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tirar as luvas e proceder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à lavagem higiénica das mã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locar o doente na aparadeira, cadeira sanita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ou ida à casa de banho,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forme a situação do doente, colocando a campainha junto de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bservar os resultados do enem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judar o doente a lavar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ríneo, vestir-se e posicionar confortavelm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7B8A-2334-4BD7-ABE4-FF7FD96E6ED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rejar o quarto ou enfermar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colher e dar o destin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dequado ao material e equipa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er à lavagem higiénica das mã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er aos respectivos regis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92B2-2BBF-44BD-83B8-0FE7F3BBABD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OMPETÊNCIAS  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Discutir a importância da adequada eliminação intestinal para a saúde e o bem estar do indivídu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Descrever a finalidade do Enema ou Clister  de Limpez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Identificar as indicações de enem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-Aplicar princípios relevantes na aplicação e implementação das intervençõe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7CB5-36C4-4329-B9C5-FC9CB9B13D5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nema de Limpe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Introdução de uma sonda, no intestino grosso, inserida através do ânus, para instilação de uma certa quantidade de solução variável, em função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os objectivos a atingir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ndicaçõe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bstip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eparação do intestino para: exames, cirurgia, parto e clister opa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eparação do intestino para estabelecimento do padrão de evacuação, normalmente, durante um programa de trein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st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B195-814C-4794-B2D6-4701A9AF3B2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nema de Limpe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960480"/>
            <a:ext cx="4040280" cy="48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Objectivo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447920"/>
            <a:ext cx="4040280" cy="5029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Remoção de sólidos e/ou gases acumulados no trato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intestinal inferior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stimular o peristaltismo intestin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almar e tratar a mucosa irritad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Limpar o intestino para exames, intervenções cirúrgicas e parto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esquisar a presença de hemorragia gastrointestina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4720" y="960480"/>
            <a:ext cx="4041720" cy="48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ntra-indicaçõ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4720" y="1447920"/>
            <a:ext cx="4041720" cy="5029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Infecção aguda do intestin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ancro do rec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pós rotura bolsas da águ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Doente com hemorróid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Nos períodos digestiv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m fistulas anai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erfuração intestin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acientes com suspeita de peritonit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545B-78FE-4186-97FB-A0E325D0588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En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Evacuadores/Limpez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imples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ubrificantes - aumentam o peristaltism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moliantes - amolecem o material fecal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edicamentos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Opacos - para exames radiológic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Enema sedativ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Enema Antihelmíntic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A9D-D158-47A7-831F-24C6C987383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e 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Tabuleiro contend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Irrigador, tubo de ligação e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uporte de irrigador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Sonda ou cânula rect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Jarro com solução prescrita (soro fisiológico, água tépida, etc)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ubrificante hidrossolúvel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inça de Koch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sguardo impermeável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Lençol de pano e Papel higiénico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Luvas de procediment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paradeira ou cadeira sanit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A4D7-9EB3-4118-AD24-CB23FD98639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 do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prescrição e objectiv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o registo da última dejec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er à lavagem higiénica das mã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parar o material e transportá-lo para junto do do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licar ao doente o procedi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solar o do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a temperatura da solu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osicionar correctamente o doente, decúbito lateral esquer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AB8D-D578-4E43-B537-690D3E4958A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or unicamente a região necessária à execução do ene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locar resguardo impermeável absorvente, sob as nádeg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ndurar o irrigador no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uporte cerca de 45 a 60 cm acima do nível d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lçar as luv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daptar irrigador, tubo de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ligação e sonda, retirar o ar do tubo e sonda, antes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 inserir no rec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Lubrific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CD3-9AFE-4820-BF83-0DF0AC2DFC0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para as nádegas e introduzir a sonda com suavidade, pedindo ao doente que inspire profundamente e expire lentam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brir o clamp e iniciar 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dministração. Se o doente se queixar com cólicas ou desejo de evacuar, fechar o compressor e aguardar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que passe o estímulo 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iniciar a administr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Verificar se a solução está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er introduzi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Verificar se a solução está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er administrada lentam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Findo o enema fechar 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orneira ou compressor para não entrar 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1A44-34C9-4298-9B90-DEC6EDB16D0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6T12:21:50Z</dcterms:modified>
  <cp:revision>812</cp:revision>
  <dc:subject/>
  <dc:title>ANATOMIA E FISIOLOGIA HUMANA</dc:title>
</cp:coreProperties>
</file>