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F914-C2C1-4117-84A4-AD551AA6CAD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4961-E1BC-4F8B-9EAA-A55355B73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Espaço Reservado para Cabeçalho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Espaço Reservado para Data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Espaço Reservado para Rodapé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Espaço Reservado para Número de Slid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CFF9-F450-475C-826C-03000A3A5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7981-0E50-4794-8969-F19A85162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7BD3-AD04-409A-A07D-307F9689956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C9F8B-BDEC-4A28-B39A-7AE228303F6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B5B24-2103-499A-B3F7-12FC8CE9538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79346-8B62-4A40-AC25-4417D60528F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306C0-8142-4F41-A514-D2C209691D0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92758-413A-4F70-81B8-7CE913290F8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5C34FA-C96A-4007-B8E1-DB0C6AAA35B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353D2-3BD5-47EF-B67F-5B261898B78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685F9-EB0C-46FB-8795-94D2AFDA4E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57D4C-FD06-4E23-83FF-142E96E38E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804A5F-8567-4753-8F37-C449FD83C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BF0C3-5DE2-4B32-B484-4B6CADD6333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25D946-C467-42D8-8E0C-368E4922BED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97ECCE-1BED-45CB-8B0F-2057F1377DD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DF28A5-D98E-4CE7-BFA9-C4B347E3354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212EE8-69DF-4065-8115-249DBB3612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E1E261-C371-4807-892E-633E841B8A6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0378FE-E7E5-4F74-A3CD-CED29DAEF6A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BE448C-8B03-4FC5-A590-E712CA38F11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DE5E33-0F34-4087-A018-02B15B1A551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330B21-C033-4FAD-921C-8CA99EF8372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E68E5A-8EFA-46DA-83F7-92F76EE4C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1283-4213-4025-8A0B-26CFA1387F4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D46FDF-BF76-49BD-8F4C-C3FDC1D4BC4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79FAB-026B-4D89-AC62-62272FBA031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6AB1E-62F9-422C-B2F2-2EE9D0CF2AE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E4983-C1D5-4F0E-8094-D490C916ADC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82DE0-5150-4168-BA65-89E8EE8FCE2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5CF4-5526-4105-856C-3E625689926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CDF62-3697-4C44-9A9F-B092BC5B83C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6EA84-7B91-40B6-A2F4-774737E6F3A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874F3-B043-4A40-B33D-9C5CB7B0220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E46B8-290A-496F-91F9-65F9FA7A9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8F249-35FB-482E-8301-117D3B843D1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E2F97-7880-45E8-A3F4-6336B7D00AB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346A2-1150-4BAC-BBA5-C78175485F3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2735EC-FB11-48D7-AFCC-89830129227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6C9FCB-5976-4A69-978D-422DEAE9C0B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8CFCE8-72F9-4B34-9594-8FA063D1527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B771A3-5A9B-4C3D-A4AC-DEF58B58698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0DCCCE-6E02-4A5F-AFF6-08856A711F7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FDAD2B-BE24-48F4-BDCB-6F02AFCF150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4FE9C-8310-43B8-A60B-4490802864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1B25D-D414-4294-8347-11A9A0E0F2E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0FB517-3547-4412-9101-2AA8D29D2C7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5B9D16-88B9-4F28-9F3A-C3EACD3A590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D6D8AB-A785-49C6-99B8-061DE906059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1F4D56-FEA6-4E34-91D2-A020E7113AF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7F06B4-4579-480B-9652-464305EC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D0CA8B-65AA-4FC8-A8DD-25A11773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262247-CA2A-4C8E-BBA7-EC381E32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38CA86-0867-4EE6-AB42-EE731BD4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51F923-3C39-44B0-BE1C-80A3A73D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7AE4C-8939-4BCF-8A1F-229F4217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A2CAB7-C4D6-401A-BF6A-0B9A50C1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3F14EB-6E21-4190-AFF5-DF9459B6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40B6AB-6697-4F5A-B112-61A5420E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3BB0D-9CA6-4644-9AD2-32BBE8D9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5D5037-4F43-49A8-A3B8-F824F2FB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0E3D86-7EED-4EF8-B335-FC9DE1C5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A2B2-01CA-46ED-B73F-50AA793A9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8DE42-9EA1-4F3A-AD46-BFA81F845D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7C9EF-48D8-45A3-BBF9-DBC7402DCE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962AC-8AE4-4CC8-BC9E-741D4D6C85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64D7C-21CF-48DC-B048-420AD09A5A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FD861-57EC-4DFC-932A-AA9FB7703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73DF-D02E-4786-BA19-0467E4BA64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F3920-7159-48BC-A1D9-8B55261C2C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4A533-4C17-4ACA-88F2-32309FFE33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153E8-3C3B-4E4D-93A0-1A68C55D8F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AAD14-6AEC-4EE4-81F5-B08059DB17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57615-075D-44C6-AD90-499F67361D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0FB8A-F14B-424C-94A4-A0576FC6CD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EB927-9B04-4AF9-960E-A460D4E1E1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6CF00B-AA6A-418E-A60C-39E2FC9BA6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77F0D5-460F-4BBF-9A75-9EB868027B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D90B15-B13E-407A-BF12-79101AA75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6DF9-3789-45C1-863F-1EBD4CB506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EB05A-8849-4A4A-A5A9-1E4C02862C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C0ECAA-4476-427D-BBE6-5A63730977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ED150A-864F-421D-80C4-21C5C85A0E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85B4C4-7AE1-402B-A877-1D5DD4774F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4491B-628C-4CA0-A2B1-A1DC512CB9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212EA-96BB-40D7-AF13-4DFD984485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A6EF8-FA45-40C2-B51E-8AC4DB28F2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5AA712-7AD2-4D75-99C9-5E07EC6EE4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EFD793-48FE-4FD4-B649-5567EE86C8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0790F-067C-422D-9577-F5B10FAD5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23DA-41A0-42D5-9264-E623B1DE0FC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9EFE0-E3FC-41CE-B841-D6C6493892C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5724-178A-4828-B0D0-4DF05D2DDA4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B5204-6C17-4BBB-BCD4-59EB9E1ECCA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C6C09-A96B-4F9C-9D23-45B658D454E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84DA2-B0BF-425B-8FA7-2C51831F08B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360B-B6BC-408D-B23D-84FCBD6890D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0C0B-59F0-43E4-BA97-85CD3BA9618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2250B-3219-4636-8570-2CC6297E810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AE54C-6EF8-4EDC-A41E-51B4EE617CF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3FDFE-89B9-428E-BA44-B41142BC5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24D9-F953-4385-BF47-FD1AFC37FA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106A-47F5-43EE-B2AD-E795B2A55A9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7B5E4-3319-45B5-85C2-E98D6AAE3A7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0B666-D156-4B47-B7C2-4999A8890A7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11372-458B-4FE2-AD44-FEB2F75E77A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1AFC8-863E-4723-941E-91FD60489CE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3C97A-3CE9-4DFC-9D51-AD2F9D4E2A3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2C0F9-2ADD-45A9-A4E2-1108B20AD5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87DE6-39D4-4A84-8740-CF6F23585D7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9729F-011D-4798-99AD-32395BAD059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8333D-4804-4D4A-B0D8-AD526655C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6C77-9CF2-4B9B-BF73-11641453C2B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B25897-6FD9-4EA6-9911-56D92EBA40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EC580-8F21-420F-BA7B-3BC302CFDE3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9082E-FC7B-481B-9EC4-BE58BEB113D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ED9B78-592D-4877-837D-4C1CE1E561C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BDECED-A85B-40A2-AA2B-DCEBC7A7980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AAACE0-66F8-45E8-81C4-45E84470BD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BE64EE-318C-44D1-AD9E-1DBE87B61B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B85A90-634B-4284-A4E1-0AA4E7A5382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4D9BF4-E35B-4267-BE1A-B11AD7B8E1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DC8534-D605-44FE-BA20-BAB21D61F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9E0AC-1F88-4D5E-BCB4-A36D169899E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CD9799-C142-49A6-AF90-6B8A493EFE9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BCB491-E7F1-4AB1-B1CB-3EB4C4E8F4D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0E6A0B-9733-4258-9534-03ECAD0022F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D51904-9D4F-49F9-83AA-1B967ECF017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1DC66B-7FE1-4805-8DC0-A5ACFB4C606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E0A9F-500B-4D8D-A277-3DEC1C8045B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0C76-57AB-4227-A611-5EA73B6387C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DB372-691E-4BB9-A5E9-A60DA934A85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2B744-67DB-45CE-8536-018366A1164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F235-8BD8-4F4C-98A4-05015FC6B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8ABB-0152-4D26-B6E4-DC8472BE64B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25A29-70B0-42E0-BA0D-AFBB3671622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4FAC9-DF16-4067-96F6-7890D346A85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88DA7-8FD3-45C4-A5AC-24EA6E32B44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6C4AF-CBAB-4814-B447-9F12BA79C3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BC388-B97F-4B9C-85C4-8C98E321847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A91C1-CC08-465D-ACAD-E844DEE285F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BBE3E-D926-40A6-99D6-075D83555AD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2C1EA-3D4C-4698-88EC-C69CFE37094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BCFA9-18ED-40E1-8080-1168D35D4DA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B97D1-7C6B-4817-BBD2-849285022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4E31-C48B-4D1B-A069-E57DFC9E466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05C9-925D-4A75-8C18-D2F5672FE08D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2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F9C4-B71E-4EBD-A7CD-6F7F19CBBA6D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E4B1-9369-4D54-9A9F-11F4EB1D07A9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5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6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892D-C47D-4DB8-B9AB-6902F4F4301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F70B-F756-4962-82F6-41EEFAB5E73B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4708-09C1-49D2-B7BE-C41BF051B99E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048A-6C82-4030-B67D-3DE47EBE8DD0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E7EF-6BF8-485A-9D59-C1F7F3CCD3A5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2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3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E7BD-35AE-440E-9208-78FDD81C0E65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4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5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3958-32E9-447E-8DB2-57A21168787F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6"/>
          </p:nvPr>
        </p:nvSpPr>
        <p:spPr>
          <a:xfrm>
            <a:off x="25905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7"/>
          </p:nvPr>
        </p:nvSpPr>
        <p:spPr>
          <a:xfrm>
            <a:off x="7314840" y="6400440"/>
            <a:ext cx="1523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2DA1-0511-4BF5-B56A-21B00B6D39AE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fpa.br/dicas/treina.htm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Rectangle 2067"/>
          <p:cNvSpPr/>
          <p:nvPr/>
        </p:nvSpPr>
        <p:spPr>
          <a:xfrm>
            <a:off x="1219320" y="2133720"/>
            <a:ext cx="7086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  <a:ea typeface="Arial"/>
              </a:rPr>
              <a:t>CUIDADOS DE HIGIENE AO UTENTE: LAVAGEM DO CABELO E COURO CABELUDO; CUIDADO COM AS UNH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2065"/>
          <p:cNvSpPr/>
          <p:nvPr/>
        </p:nvSpPr>
        <p:spPr>
          <a:xfrm>
            <a:off x="609480" y="4724280"/>
            <a:ext cx="81536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  <a:ea typeface="Arial"/>
              </a:rPr>
              <a:t>Módulo 7: Bases científicas para prática de Enfermagem II – Fundamentos de Enfermag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écnica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Trata-se de cuidados simples da lavagem das mãos. As mãos são vectores que favorecem a contaminação. As unhas são receptoras de numerosas bactér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ropor ao utente para lavar as mãos ao sair da casa de banho, antes e depois das refeições, antes de tomar medicamentos, antes de se deitar e de acordo com as suas necessida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Lavar as mãos com um sabão neutro, incluindo os espaços interdigitais, a palma e as costas da mão e embaixo das unh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Enxaguar e secar em toalha pesso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Manter as unhas aparadas, ret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8" name="Título 1"/>
          <p:cNvSpPr/>
          <p:nvPr/>
        </p:nvSpPr>
        <p:spPr>
          <a:xfrm>
            <a:off x="121932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  <a:ea typeface="Arial"/>
              </a:rPr>
              <a:t>Higiene das mãos e das unh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Footer Placeholder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álcool glicerinado pode estar ao alcance do utente para a higiene das mã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e substitui a lavagem das mãos com água e sabão desde que as mãos não estejam visivelmente suj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itar cerca de 5ml do produto na palma de uma das mãos e friccionar na regiã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lmar e dorsal das mãos, espaç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terdigital, dedos, unh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1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ítulo 1"/>
          <p:cNvSpPr/>
          <p:nvPr/>
        </p:nvSpPr>
        <p:spPr>
          <a:xfrm>
            <a:off x="121932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  <a:ea typeface="Arial"/>
              </a:rPr>
              <a:t>Higiene das mãos e das unh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AutoShape 2"/>
          <p:cNvSpPr/>
          <p:nvPr/>
        </p:nvSpPr>
        <p:spPr>
          <a:xfrm>
            <a:off x="76320" y="-547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AutoShape 4"/>
          <p:cNvSpPr/>
          <p:nvPr/>
        </p:nvSpPr>
        <p:spPr>
          <a:xfrm>
            <a:off x="76320" y="-54756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Picture 8" descr="http://i110.twenga.com/suprimentos/alcool-gel/alcool-gel-70-glicerinado-tp_7057287750995622154b.png"/>
          <p:cNvPicPr/>
          <p:nvPr/>
        </p:nvPicPr>
        <p:blipFill>
          <a:blip r:embed="rId1"/>
          <a:stretch/>
        </p:blipFill>
        <p:spPr>
          <a:xfrm>
            <a:off x="6216480" y="3789360"/>
            <a:ext cx="25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avagem dos cabelos e do couro cabelu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8" name="Picture 2" descr="http://images.quebarato.com.br/photos/big/F/3/3299F3_1.jpg"/>
          <p:cNvPicPr/>
          <p:nvPr/>
        </p:nvPicPr>
        <p:blipFill>
          <a:blip r:embed="rId1"/>
          <a:stretch/>
        </p:blipFill>
        <p:spPr>
          <a:xfrm>
            <a:off x="1905120" y="1295280"/>
            <a:ext cx="6395760" cy="4797720"/>
          </a:xfrm>
          <a:prstGeom prst="rect">
            <a:avLst/>
          </a:prstGeom>
          <a:ln w="0">
            <a:noFill/>
          </a:ln>
        </p:spPr>
      </p:pic>
      <p:sp>
        <p:nvSpPr>
          <p:cNvPr id="549" name="Espaço Reservado para Rodapé 5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spectos ger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6840" y="1143000"/>
            <a:ext cx="8435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couro cabeludo é a pele que reveste o crânio e que possui cabel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diferente das demais peles por dois motivo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baixo desta pele existe uma estrutura muito vasculariz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Grandes sangramentos ocorrem em ferimentos neste local, que devem necessariamente ser suturados para evitar a formação de hematom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2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spectos ger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143000"/>
            <a:ext cx="83818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rauma no couro cabeludo com necessidade de sutur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5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2" descr="http://t2.gstatic.com/images?q=tbn:ANd9GcRTQx9V0gd4lxegeZoy-4h0rOoqVwgb51c3hL5yCXJAlR42NBUlFQ"/>
          <p:cNvPicPr/>
          <p:nvPr/>
        </p:nvPicPr>
        <p:blipFill>
          <a:blip r:embed="rId1"/>
          <a:stretch/>
        </p:blipFill>
        <p:spPr>
          <a:xfrm>
            <a:off x="2075040" y="2259000"/>
            <a:ext cx="50227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spectos ger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39640" y="1125360"/>
            <a:ext cx="5616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tecido do couro cabeludo fino, friável e altamente vascularizado é chamado de Gále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ferimentos contusos apresentam grandes hematomas, e muitos recém-nascidos nascem com bossa, ou seja, hematomas abaixo do couro cabeludo e acima do crân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9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CaixaDeTexto 5"/>
          <p:cNvSpPr/>
          <p:nvPr/>
        </p:nvSpPr>
        <p:spPr>
          <a:xfrm>
            <a:off x="826920" y="5084640"/>
            <a:ext cx="7777440" cy="11912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rtanto, a lavagem dos cabelos e do couro cabeludo deve ser cuidadosa, com o utente bem posicionado para evitar quedas e traum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1" name="Picture 6" descr="http://2.bp.blogspot.com/_6x87rIx8LHg/S_iLh_kE5CI/AAAAAAAAAMc/_2ZjntpmUGA/s1600/Acute_Subdural_hematoma550_ab%5B1%5D.jpg"/>
          <p:cNvPicPr/>
          <p:nvPr/>
        </p:nvPicPr>
        <p:blipFill>
          <a:blip r:embed="rId1"/>
          <a:stretch/>
        </p:blipFill>
        <p:spPr>
          <a:xfrm>
            <a:off x="6300720" y="1773360"/>
            <a:ext cx="2479680" cy="2952720"/>
          </a:xfrm>
          <a:prstGeom prst="rect">
            <a:avLst/>
          </a:prstGeom>
          <a:ln w="0">
            <a:noFill/>
          </a:ln>
        </p:spPr>
      </p:pic>
      <p:sp>
        <p:nvSpPr>
          <p:cNvPr id="562" name="Espaço Reservado para Conteúdo 2"/>
          <p:cNvSpPr/>
          <p:nvPr/>
        </p:nvSpPr>
        <p:spPr>
          <a:xfrm>
            <a:off x="6516720" y="1052640"/>
            <a:ext cx="21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emat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siste na lavagem dos cabelos e do couro cabeludo, promovendo a limpeza, bem estar, o relaxamento e a sensação de conforto do paciente acam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higiene do couro cabeludo é necessária para prevenir lesões, estimular a circulação sanguínea e evitar o aparecimento de pedículos, sendo importante também para a estima pesso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m geral, é realizada 2 a 3 vezes por semana, pois o acúmulo de seborréia e caspa causa prurido e desconforto n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4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46784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avagem dos cabelos e do couro cabelu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ntes de iniciar o procedimento, certifique-se de que não haja contra-indicações ou prescrição de cuidados especiais, como nos casos de utentes graves, submetidos a cirurgias de cabeça e pescoço ou com traumatismo raquimedu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eviamente à lavagem, proteger os ouvidos do utente com algodão, visando evitar a entrada de águ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facilitar o procedimento e evitar a fadiga, o utente deve ser posto em decúbito dorsal, com um travesseiro ou coxim sob os ombros; a cama deve estar forrada com oleado impermeável e toalha, e a bacia mantida sob a cabe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7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46784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avagem dos cabelos e do couro cabelu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6840" y="1752480"/>
            <a:ext cx="838188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o intuito de propiciar conforto ao utente, moderar, no enxágüe, a quantidade de água, mas cuidar para que todo o sabão/shampoo seja removido. Este é oferecido pelo utente ou famili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alizar movimentos de fricção do couro cabeludo com a ponta dos dedos (nunca com as unhas) para estimular a circul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ós a lavagem, retirar o excesso de água dos cabelos com a toalha e providenciar a secag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ntear, quando o utente estiver impossibilit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0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46784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avagem dos cabelos e do couro cabelu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gistos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ós a lavagem dos cabelos e couro cabeludo registar o procedimento no processo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crescentar registos sobr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eda de cabel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arefação de áreas (sugestivo de micoses, cicatrize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esença de pediculose (tratar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esença de seborréia ou caspa excessiv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4" name="Espaço Reservado para Rodapé 3"/>
          <p:cNvSpPr/>
          <p:nvPr/>
        </p:nvSpPr>
        <p:spPr>
          <a:xfrm>
            <a:off x="25909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5" name="Picture 9" descr="fichario">
            <a:hlinkClick r:id="rId1"/>
          </p:cNvPr>
          <p:cNvPicPr/>
          <p:nvPr/>
        </p:nvPicPr>
        <p:blipFill>
          <a:blip r:embed="rId2"/>
          <a:stretch/>
        </p:blipFill>
        <p:spPr>
          <a:xfrm rot="1300200">
            <a:off x="3057120" y="4284720"/>
            <a:ext cx="18828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5:15:31Z</dcterms:created>
  <dc:creator>Escolastica</dc:creator>
  <dc:description/>
  <dc:language>en-US</dc:language>
  <cp:lastModifiedBy>Hamido</cp:lastModifiedBy>
  <dcterms:modified xsi:type="dcterms:W3CDTF">2011-07-26T13:18:38Z</dcterms:modified>
  <cp:revision>8</cp:revision>
  <dc:subject/>
  <dc:title>Slide 1</dc:title>
</cp:coreProperties>
</file>