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85F3-429B-423F-AF77-2EF8EB4BC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768D-3FD4-47EF-BCB8-31EAAC38B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88A9-1007-48EE-9BD5-0A17F1640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4021-203A-462C-B6C1-6E23C07C2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5191-1ED8-4B32-88B3-4B13E47C1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25E5-0DC6-4D55-AE94-3276CF1BD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3FDF-4D59-4A59-A9C0-F6204183E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8D78-9E2C-49E5-8B02-7C0FB5DE1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B59D-9A45-45C3-9F9A-2A538F35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205A-010F-409D-83CF-C26C1861E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78A7-4CE8-487E-BD32-A58FA2771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462F-E549-42BC-8C0F-7A3462E4A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1F1B-8AC8-4C07-9884-25230C43DB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FUNDAMENTOS DE ENFERMAG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 –MÓDULO 17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nsferência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MPETÊNCIAS   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 u="sng">
                <a:solidFill>
                  <a:srgbClr val="000066"/>
                </a:solidFill>
                <a:uFillTx/>
                <a:latin typeface="Arial"/>
              </a:rPr>
              <a:t>O ESTUDANTE DEVE SER CAPAZ DE </a:t>
            </a:r>
            <a:r>
              <a:rPr b="1" lang="pt-PT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uar transferênci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rever as indicações para transferência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nhecer o papel do enfermeiro no processo de transferência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cuidados de enfermagem na transferência do paciente.</a:t>
            </a:r>
            <a:r>
              <a:rPr b="1" lang="pt-PT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368800" y="640080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transferência, consiste na alta de um paciente de uma unidade sanitária ou serviço e sua baixa em outra, sem que haja um período em casa entre essas duas operações. Pode ocorrer quando o estado de um paciente melhora ou agrava – se.</a:t>
            </a:r>
            <a:r>
              <a:rPr b="1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05040" y="632160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çõ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or indicação médica, para o paciente receber  cuidados de especialida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m situações de emergência com pacientes em estado grave, para receber cuidados intensiv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676520" y="63356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uia de transferência, com relatório detalhado  sobre a situação clínica do paciente,  elaborado pelo médico ou outro técnico credenc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cumento de Identific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os necessári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3480" y="633564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ientações de enfermagem pra a transferência do pacient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238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garantir que o paciente e seus familiares estejam informados da necessidade de transferência o mais cedo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o tempo permitir paciente e os seus familiares manifestarem certa preferência, estimular a família a investigar e a colaborarem em relação à instituição de sua preferência. </a:t>
            </a:r>
            <a:r>
              <a:rPr b="0" lang="pt-PT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44560" y="63356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e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633564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unicar – se com a unidade sanitária ou serviço para onde o paciente será transfer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registo da transferência no processo de enfermagem ou no livro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o registo da transferência no processo de enfermagem ou no livro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um breve resumo por escrito da condição do paciente, do tratamento e dos cuidados de enfermagem realiz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os pertences do paciente, entrega a família se estiver presente, tratamento e dos cuidados de enfermagem realiz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olher os pertences do paciente, entregar a família se estiver presente ou envi os com 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xiliar o paciente a transferir para maca ou para cadeira de ro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locar a guia de transferência no envelope fechado e entrega  o enfermeiro que vai acompanhar  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e Saúde Materno Infanti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43480" y="633564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ei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2316240"/>
          <a:ext cx="7924680" cy="9446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4"/>
          <p:cNvSpPr/>
          <p:nvPr/>
        </p:nvSpPr>
        <p:spPr>
          <a:xfrm>
            <a:off x="533520" y="1066680"/>
            <a:ext cx="82296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a transferência do paciente, os serviços financeiros para efeitos de pagamento de hospitalização, se for necess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outros serviços no sentido de concluírem as suas responsabilidades com o paciente ( serviço de cozinha, farmáci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unicar os serviços de transporte para levarem o pa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Atenção: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200" spc="-1" strike="noStrike" u="sng">
                <a:solidFill>
                  <a:srgbClr val="000000"/>
                </a:solidFill>
                <a:uFillTx/>
                <a:latin typeface="Arial"/>
              </a:rPr>
              <a:t>o paciente deve ir sempre acompanhado pelo enferm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42400" y="6335640"/>
            <a:ext cx="41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so de Enfermagem Geral e Saúde Materno Infant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Orienta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5T13:00:31Z</dcterms:modified>
  <cp:revision>573</cp:revision>
  <dc:subject/>
  <dc:title>ANATOMIA E FISIOLOGIA HUMANA</dc:title>
</cp:coreProperties>
</file>