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4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8.wmf" ContentType="image/x-wmf"/>
  <Override PartName="/ppt/media/image3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08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4ACBA7-6153-4329-ACAE-1046A1CC8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A15442-94C6-4EFA-9E7B-9930DDD8B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51B590-BBBA-4600-B575-477930585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4FABD1-3C4B-4320-ABAD-63763D3F1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74ECF86-F04E-4F23-BA7C-8FFB73990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BDE18BD-D1A5-44E7-A566-885960A8F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88AEB81-9C05-4365-8F7D-6F3640261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198993-D373-4D96-ABF5-E75D8AF17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530898-6AE9-4D69-BD22-E0313DC8B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D3684F3-CEF5-4DAD-9A71-ED64C2BC1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62FDBC-5C7E-480D-895E-6E939BE27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DC02D01-DF92-4C92-B234-FEC4895CD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7EAFD88-F70C-43D4-A127-3DA3FE917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C2D0D2-B812-4B8A-AABD-DD67E5227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6C5411-6A91-4401-B6C8-487EA4851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51280" y="0"/>
            <a:ext cx="2946240" cy="498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3D7249-20DE-4A44-A454-2661E16A3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0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005B-084A-4D41-B0B4-E41BE875F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567E-39A2-417D-AE70-4033962B6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34EE-1BE2-4051-A25B-36DAD662D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2C0C-DAEE-4044-941F-B4C6D6EE9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8C8C-CD67-4D1C-8CA1-67C3D5B7D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C8AF-DB89-432C-BD40-2F9318860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BA3B-BF76-4835-8787-77D727402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7D72-EE5B-4F52-A4E4-8B4914DE8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9484-9816-40F6-B0E8-CE7898815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3324-8439-4572-A38A-FCF668AB0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8A36-17D8-45EB-90CD-71A6925EF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D900-608F-4454-9243-45C18AE90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C474-AC95-4010-BFFF-47942CB7662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.br/imgres?imgurl=http://the-amigos.pokebras.net/m_image/486.jpg&amp;imgrefurl=http://the-amigos.pokebras.net/shop.cgi?class=1&amp;keyword=&amp;superkey=1&amp;FF=0&amp;order=&amp;h=170&amp;w=170&amp;sz=25&amp;hl=pt-BR&amp;start=5&amp;tbnid=O1pfWfkCRA7aDM:&amp;tbnh=99&amp;tbnw=99&amp;prev=/images?q=sab&#227;o+em+p&#243;&amp;svnum=10&amp;hl=pt-BR&amp;lr=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.br/imgres?imgurl=http://www.angaar.com.br/img/amaciante.jpg&amp;imgrefurl=http://www.angaar.com.br/limpesa.htm&amp;h=110&amp;w=160&amp;sz=7&amp;hl=pt-BR&amp;start=45&amp;tbnid=VLGMZeFutfuPYM:&amp;tbnh=67&amp;tbnw=98&amp;prev=/images?q=sab&#227;o+l&#237;quido&amp;start=40&amp;ndsp=20&amp;svnum=10&amp;hl=pt-BR&amp;lr=&amp;sa=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images.google.com.br/imgres?imgurl=http://www.flexeventos.com.br/anuario_7/imagens/arquitetos/proinstal_01.jpg&amp;imgrefurl=http://www.flexeventos.com.br/anuario_7/controller.asp?acao=cliente&amp;setor=arquitetos&amp;cliente=39&amp;h=260&amp;w=300&amp;sz=21&amp;hl=pt-BR&amp;start=46&amp;tbnid=ikIZFnayASrn7M:&amp;tbnh=101&amp;tbnw=116&amp;prev=/images?q=sala+do+diretor&amp;start=40&amp;ndsp=20&amp;svnum=10&amp;hl=pt-BR&amp;lr=&amp;sa=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.br/imgres?imgurl=http://www.progetto100citta.it/documenti/forum2/infanzia/sez6/Mulheres_aguardando_atendimento_Calabar.jpg&amp;imgrefurl=http://www.progetto100citta.it/forum2_infanzia_documenti.php?lang=por&amp;sez=6&amp;h=240&amp;w=320&amp;sz=51&amp;hl=pt-BR&amp;start=1&amp;tbnid=gGmv0sCbJ5fLtM:&amp;tbnh=89&amp;tbnw=118&amp;prev=/images?q=AGUARDANDO+ATENDIMENTO&amp;svnum=10&amp;hl=pt-BR&amp;lr=&amp;sa=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.br/imgres?imgurl=http://the-amigos.pokebras.net/m_image/486.jpg&amp;imgrefurl=http://the-amigos.pokebras.net/shop.cgi?class=1&amp;keyword=&amp;superkey=1&amp;FF=0&amp;order=&amp;h=170&amp;w=170&amp;sz=25&amp;hl=pt-BR&amp;start=5&amp;tbnid=O1pfWfkCRA7aDM:&amp;tbnh=99&amp;tbnw=99&amp;prev=/images?q=sab&#227;o+em+p&#243;&amp;svnum=10&amp;hl=pt-BR&amp;lr=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.br/imgres?imgurl=http://www.angaar.com.br/img/amaciante.jpg&amp;imgrefurl=http://www.angaar.com.br/limpesa.htm&amp;h=110&amp;w=160&amp;sz=7&amp;hl=pt-BR&amp;start=45&amp;tbnid=VLGMZeFutfuPYM:&amp;tbnh=67&amp;tbnw=98&amp;prev=/images?q=sab&#227;o+l&#237;quido&amp;start=40&amp;ndsp=20&amp;svnum=10&amp;hl=pt-BR&amp;lr=&amp;sa=N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images.google.com.br/imgres?imgurl=http://www.fm.usp.br/departamento/clinmed/emerclinica/images/uti_psm4.jpg&amp;imgrefurl=http://www.fm.usp.br/departamento/clinmed/emerclinica/uti_4and.php&amp;h=308&amp;w=208&amp;sz=30&amp;hl=pt-BR&amp;start=1&amp;tbnid=alWqvM_z2znXIM:&amp;tbnh=117&amp;tbnw=79&amp;prev=/images?q=uti&amp;ndsp=20&amp;svnum=10&amp;hl=pt-BR&amp;lr=&amp;sa=N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oldirettimodena.it/Images/Laboratorio.gif&amp;imgrefurl=http://www.coldirettimodena.it/Laboratorio.asp&amp;h=189&amp;w=270&amp;sz=44&amp;hl=pt-BR&amp;start=57&amp;tbnid=cTcC6fVCih8PgM:&amp;tbnh=79&amp;tbnw=113&amp;prev=/images?q=LABORAT&#211;RIO&amp;start=40&amp;ndsp=20&amp;svnum=10&amp;hl=pt-BR&amp;lr=&amp;sa=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.br/imgres?imgurl=http://amigclinica.com.br/clinica/c3.jpg&amp;imgrefurl=http://amigclinica.com.br/instalacoes.html&amp;h=480&amp;w=640&amp;sz=53&amp;hl=pt-BR&amp;start=20&amp;tbnid=6_MVQE5vlfgmBM:&amp;tbnh=103&amp;tbnw=137&amp;prev=/images?q=SALA+DE+PROCEDIMENTOS&amp;svnum=10&amp;hl=pt-BR&amp;lr=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linicaicase.com.br/laboresteril2g.jpg&amp;imgrefurl=http://www.clinicaicase.com.br/estrutura.htm&amp;h=480&amp;w=640&amp;sz=76&amp;hl=pt-BR&amp;start=19&amp;tbnid=4T7aORgOsYORqM:&amp;tbnh=103&amp;tbnw=137&amp;prev=/images?q=SALA+DE+esteriliza&#231;&#227;o&amp;svnum=10&amp;hl=pt-BR&amp;lr=&amp;sa=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.br/imgres?imgurl=http://www.paseovirtual.net/fotosantiguas/difunto.jpg&amp;imgrefurl=http://www.paseovirtual.net/fotosantiguas/antiguas1.htm&amp;h=300&amp;w=444&amp;sz=13&amp;hl=pt-BR&amp;start=1&amp;tbnid=EIhtbzaSPsh2vM:&amp;tbnh=86&amp;tbnw=127&amp;prev=/images?q=difunto&amp;svnum=10&amp;hl=pt-BR&amp;lr=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65"/>
          <p:cNvSpPr/>
          <p:nvPr/>
        </p:nvSpPr>
        <p:spPr>
          <a:xfrm>
            <a:off x="685800" y="4800600"/>
            <a:ext cx="8153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6"/>
          <p:cNvSpPr/>
          <p:nvPr/>
        </p:nvSpPr>
        <p:spPr>
          <a:xfrm>
            <a:off x="1066680" y="274320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EIOS PARA PROPORCIONAR CONFORTO AO UTENTE: LIMPEZA DA UNID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7040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Áreas de Alto Risc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ão as áreas ocupadas pelos doentes e nas quais se realizam actividades com alto risco de contamin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2" name="Picture 5" descr="imagem"/>
          <p:cNvPicPr/>
          <p:nvPr/>
        </p:nvPicPr>
        <p:blipFill>
          <a:blip r:embed="rId1"/>
          <a:stretch/>
        </p:blipFill>
        <p:spPr>
          <a:xfrm>
            <a:off x="250920" y="378936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22100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amacian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80000" y="4292640"/>
            <a:ext cx="1714320" cy="1174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1295280" y="57913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981080" y="4365720"/>
            <a:ext cx="6256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797440" y="42926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6" descr="Dix-HipocloritoSodioCloro"/>
          <p:cNvPicPr/>
          <p:nvPr/>
        </p:nvPicPr>
        <p:blipFill>
          <a:blip r:embed="rId6"/>
          <a:stretch/>
        </p:blipFill>
        <p:spPr>
          <a:xfrm>
            <a:off x="6477120" y="3962520"/>
            <a:ext cx="1904760" cy="1436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9"/>
          <p:cNvSpPr/>
          <p:nvPr/>
        </p:nvSpPr>
        <p:spPr>
          <a:xfrm>
            <a:off x="6477120" y="5257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ipoclorito de sódio a 0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80880" y="2852640"/>
            <a:ext cx="85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  <a:ea typeface="Arial"/>
              </a:rPr>
              <a:t>Estas áreas são limpas com água, sabão e um desinfectante (hipoclorito de sódio a 0,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3"/>
          <p:cNvSpPr/>
          <p:nvPr/>
        </p:nvSpPr>
        <p:spPr>
          <a:xfrm>
            <a:off x="3708360" y="2060640"/>
            <a:ext cx="1143000" cy="627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ço Reservado para Rodapé 1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916360" y="5516640"/>
            <a:ext cx="302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bão em pó ou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0000" y="1197000"/>
            <a:ext cx="3779640" cy="34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4a82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servente precisa ser formado, supervisionado e seguir uma rotina de trabalho;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é um profissional que pode realizar esse treinamento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mopping"/>
          <p:cNvPicPr/>
          <p:nvPr/>
        </p:nvPicPr>
        <p:blipFill>
          <a:blip r:embed="rId1"/>
          <a:stretch/>
        </p:blipFill>
        <p:spPr>
          <a:xfrm>
            <a:off x="395280" y="1197000"/>
            <a:ext cx="4572000" cy="3751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116000" y="189000"/>
            <a:ext cx="77040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Para garantir qualidade na limp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ixaDeTexto 9"/>
          <p:cNvSpPr/>
          <p:nvPr/>
        </p:nvSpPr>
        <p:spPr>
          <a:xfrm>
            <a:off x="468360" y="4869000"/>
            <a:ext cx="43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nte realizando limpeza em área crítica (Bloco operató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10"/>
          <p:cNvSpPr/>
          <p:nvPr/>
        </p:nvSpPr>
        <p:spPr>
          <a:xfrm>
            <a:off x="5508720" y="4581360"/>
            <a:ext cx="3384360" cy="161856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em poderia comentar os EPI usados pelo serventes , relatando a importância e proteção de cada 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ço Reservado para Rodapé 11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uidados gerais com a limpeza do ambient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Não se deve varrer o pó seco; Limpar com pano húm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Limpar sempre de áreas de baixo risco para áreas de alto ris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guir a regra de preparo da solução desinfectante para garantir a eficá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A limpeza de rotina (diária) é necessária para manter o padrão de limpeza e descolonizar os microorganism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Técnicas de limpeza do ambient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819520" y="2590920"/>
            <a:ext cx="57909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gua + sabão (áreas de baixo ri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gua + sabão + hipoclorito de sódio a 0,5% (áreas de alto ri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4"/>
          <p:cNvGrpSpPr/>
          <p:nvPr/>
        </p:nvGrpSpPr>
        <p:grpSpPr>
          <a:xfrm>
            <a:off x="838080" y="2286000"/>
            <a:ext cx="1703160" cy="2133360"/>
            <a:chOff x="838080" y="2286000"/>
            <a:chExt cx="1703160" cy="2133360"/>
          </a:xfrm>
        </p:grpSpPr>
        <p:pic>
          <p:nvPicPr>
            <p:cNvPr id="176" name="Picture 7" descr="imagem"/>
            <p:cNvPicPr/>
            <p:nvPr/>
          </p:nvPicPr>
          <p:blipFill>
            <a:blip r:embed="rId1"/>
            <a:stretch/>
          </p:blipFill>
          <p:spPr>
            <a:xfrm>
              <a:off x="838080" y="2286000"/>
              <a:ext cx="153324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imagem"/>
            <p:cNvPicPr/>
            <p:nvPr/>
          </p:nvPicPr>
          <p:blipFill>
            <a:blip r:embed="rId2"/>
            <a:stretch/>
          </p:blipFill>
          <p:spPr>
            <a:xfrm>
              <a:off x="1008000" y="2475720"/>
              <a:ext cx="153324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22"/>
            <p:cNvSpPr/>
            <p:nvPr/>
          </p:nvSpPr>
          <p:spPr>
            <a:xfrm>
              <a:off x="1860120" y="4033440"/>
              <a:ext cx="681120" cy="385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25"/>
          <p:cNvSpPr/>
          <p:nvPr/>
        </p:nvSpPr>
        <p:spPr>
          <a:xfrm>
            <a:off x="304920" y="14479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 de 1 ba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ixaDeTexto 13"/>
          <p:cNvSpPr/>
          <p:nvPr/>
        </p:nvSpPr>
        <p:spPr>
          <a:xfrm>
            <a:off x="685800" y="4724280"/>
            <a:ext cx="769608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sa técnica gera desperdício de sabão e desinfectante, uma vez que o pano ou esfregona é lavado diretamente n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Conector de seta reta 15"/>
          <p:cNvCxnSpPr/>
          <p:nvPr/>
        </p:nvCxnSpPr>
        <p:spPr>
          <a:xfrm flipH="1">
            <a:off x="2285640" y="2818440"/>
            <a:ext cx="457920" cy="15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Espaço Reservado para Rodapé 11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4872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étodos de limpeza do ambi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4267080" y="2057400"/>
            <a:ext cx="4572000" cy="1313640"/>
          </a:xfrm>
          <a:prstGeom prst="rect">
            <a:avLst/>
          </a:prstGeom>
          <a:noFill/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+ sabão (área de baixo ri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+ sabão + hipoclorito de sódio a 0,5% (área de alto ri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257800" y="6172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Va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7"/>
          <p:cNvGrpSpPr/>
          <p:nvPr/>
        </p:nvGrpSpPr>
        <p:grpSpPr>
          <a:xfrm>
            <a:off x="304920" y="1981080"/>
            <a:ext cx="1523880" cy="1752480"/>
            <a:chOff x="304920" y="1981080"/>
            <a:chExt cx="1523880" cy="1752480"/>
          </a:xfrm>
        </p:grpSpPr>
        <p:pic>
          <p:nvPicPr>
            <p:cNvPr id="187" name="Picture 33" descr="imagem"/>
            <p:cNvPicPr/>
            <p:nvPr/>
          </p:nvPicPr>
          <p:blipFill>
            <a:blip r:embed="rId1"/>
            <a:stretch/>
          </p:blipFill>
          <p:spPr>
            <a:xfrm>
              <a:off x="304920" y="19810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4" descr="imagem"/>
            <p:cNvPicPr/>
            <p:nvPr/>
          </p:nvPicPr>
          <p:blipFill>
            <a:blip r:embed="rId2"/>
            <a:stretch/>
          </p:blipFill>
          <p:spPr>
            <a:xfrm>
              <a:off x="457200" y="213336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36"/>
            <p:cNvSpPr/>
            <p:nvPr/>
          </p:nvSpPr>
          <p:spPr>
            <a:xfrm>
              <a:off x="1219320" y="3382920"/>
              <a:ext cx="609480" cy="350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41"/>
          <p:cNvGrpSpPr/>
          <p:nvPr/>
        </p:nvGrpSpPr>
        <p:grpSpPr>
          <a:xfrm>
            <a:off x="2438280" y="1981080"/>
            <a:ext cx="1523880" cy="1752480"/>
            <a:chOff x="2438280" y="1981080"/>
            <a:chExt cx="1523880" cy="1752480"/>
          </a:xfrm>
        </p:grpSpPr>
        <p:pic>
          <p:nvPicPr>
            <p:cNvPr id="191" name="Picture 42" descr="imagem"/>
            <p:cNvPicPr/>
            <p:nvPr/>
          </p:nvPicPr>
          <p:blipFill>
            <a:blip r:embed="rId3"/>
            <a:stretch/>
          </p:blipFill>
          <p:spPr>
            <a:xfrm>
              <a:off x="2438280" y="19810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3" descr="imagem"/>
            <p:cNvPicPr/>
            <p:nvPr/>
          </p:nvPicPr>
          <p:blipFill>
            <a:blip r:embed="rId4"/>
            <a:stretch/>
          </p:blipFill>
          <p:spPr>
            <a:xfrm>
              <a:off x="2590560" y="213336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45"/>
            <p:cNvSpPr/>
            <p:nvPr/>
          </p:nvSpPr>
          <p:spPr>
            <a:xfrm>
              <a:off x="3352680" y="3382920"/>
              <a:ext cx="609480" cy="3506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56"/>
          <p:cNvGrpSpPr/>
          <p:nvPr/>
        </p:nvGrpSpPr>
        <p:grpSpPr>
          <a:xfrm>
            <a:off x="2514600" y="4572000"/>
            <a:ext cx="1447560" cy="1692000"/>
            <a:chOff x="2514600" y="4572000"/>
            <a:chExt cx="1447560" cy="1692000"/>
          </a:xfrm>
        </p:grpSpPr>
        <p:pic>
          <p:nvPicPr>
            <p:cNvPr id="195" name="Picture 47" descr="imagem"/>
            <p:cNvPicPr/>
            <p:nvPr/>
          </p:nvPicPr>
          <p:blipFill>
            <a:blip r:embed="rId5"/>
            <a:stretch/>
          </p:blipFill>
          <p:spPr>
            <a:xfrm>
              <a:off x="2514600" y="4572000"/>
              <a:ext cx="1303200" cy="13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8" descr="imagem"/>
            <p:cNvPicPr/>
            <p:nvPr/>
          </p:nvPicPr>
          <p:blipFill>
            <a:blip r:embed="rId6"/>
            <a:stretch/>
          </p:blipFill>
          <p:spPr>
            <a:xfrm>
              <a:off x="2658960" y="4717440"/>
              <a:ext cx="1303200" cy="131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50"/>
            <p:cNvSpPr/>
            <p:nvPr/>
          </p:nvSpPr>
          <p:spPr>
            <a:xfrm>
              <a:off x="3383280" y="5913000"/>
              <a:ext cx="578880" cy="351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2"/>
          <p:cNvGrpSpPr/>
          <p:nvPr/>
        </p:nvGrpSpPr>
        <p:grpSpPr>
          <a:xfrm>
            <a:off x="3962520" y="4724280"/>
            <a:ext cx="1371600" cy="1600200"/>
            <a:chOff x="3962520" y="4724280"/>
            <a:chExt cx="1371600" cy="1600200"/>
          </a:xfrm>
        </p:grpSpPr>
        <p:pic>
          <p:nvPicPr>
            <p:cNvPr id="199" name="Picture 53" descr="imagem"/>
            <p:cNvPicPr/>
            <p:nvPr/>
          </p:nvPicPr>
          <p:blipFill>
            <a:blip r:embed="rId7"/>
            <a:stretch/>
          </p:blipFill>
          <p:spPr>
            <a:xfrm>
              <a:off x="3962520" y="47242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54"/>
            <p:cNvSpPr/>
            <p:nvPr/>
          </p:nvSpPr>
          <p:spPr>
            <a:xfrm>
              <a:off x="4724640" y="5973480"/>
              <a:ext cx="609480" cy="351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60"/>
          <p:cNvGrpSpPr/>
          <p:nvPr/>
        </p:nvGrpSpPr>
        <p:grpSpPr>
          <a:xfrm>
            <a:off x="5257800" y="4495680"/>
            <a:ext cx="1828440" cy="1599840"/>
            <a:chOff x="5257800" y="4495680"/>
            <a:chExt cx="1828440" cy="1599840"/>
          </a:xfrm>
        </p:grpSpPr>
        <p:pic>
          <p:nvPicPr>
            <p:cNvPr id="202" name="Picture 61" descr="imagem"/>
            <p:cNvPicPr/>
            <p:nvPr/>
          </p:nvPicPr>
          <p:blipFill>
            <a:blip r:embed="rId8"/>
            <a:stretch/>
          </p:blipFill>
          <p:spPr>
            <a:xfrm>
              <a:off x="5257800" y="4495680"/>
              <a:ext cx="164592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2" descr="imagem"/>
            <p:cNvPicPr/>
            <p:nvPr/>
          </p:nvPicPr>
          <p:blipFill>
            <a:blip r:embed="rId9"/>
            <a:stretch/>
          </p:blipFill>
          <p:spPr>
            <a:xfrm>
              <a:off x="5440320" y="4655520"/>
              <a:ext cx="164592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Text Box 65"/>
          <p:cNvSpPr/>
          <p:nvPr/>
        </p:nvSpPr>
        <p:spPr>
          <a:xfrm>
            <a:off x="3886200" y="60199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6"/>
          <p:cNvSpPr/>
          <p:nvPr/>
        </p:nvSpPr>
        <p:spPr>
          <a:xfrm>
            <a:off x="45720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 de 2 baldes: um balde somente com água é usado para lavar o pano ou a esfregona e outro é usado com a solução, tornando-a mais durado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7"/>
          <p:cNvSpPr/>
          <p:nvPr/>
        </p:nvSpPr>
        <p:spPr>
          <a:xfrm>
            <a:off x="426600" y="3886200"/>
            <a:ext cx="82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 de 3 baldes: um balde vazio é acrescentad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le ser torcida a esfreg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8"/>
          <p:cNvSpPr/>
          <p:nvPr/>
        </p:nvSpPr>
        <p:spPr>
          <a:xfrm>
            <a:off x="228600" y="4800600"/>
            <a:ext cx="2590920" cy="1472400"/>
          </a:xfrm>
          <a:prstGeom prst="rect">
            <a:avLst/>
          </a:prstGeom>
          <a:noFill/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+ sab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+ sabão + hipoclorito de só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37"/>
          <p:cNvSpPr/>
          <p:nvPr/>
        </p:nvSpPr>
        <p:spPr>
          <a:xfrm>
            <a:off x="380880" y="3352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mente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Conector de seta reta 39"/>
          <p:cNvCxnSpPr/>
          <p:nvPr/>
        </p:nvCxnSpPr>
        <p:spPr>
          <a:xfrm flipH="1">
            <a:off x="3656880" y="2361240"/>
            <a:ext cx="61020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Conector de seta reta 41"/>
          <p:cNvCxnSpPr/>
          <p:nvPr/>
        </p:nvCxnSpPr>
        <p:spPr>
          <a:xfrm flipV="1">
            <a:off x="2819520" y="5866560"/>
            <a:ext cx="3052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1" name="Espaço Reservado para Rodapé 30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xercíci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a opinião de vocês qual a técnica mais recomendada ou utilizada?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(   ) 1 bal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(   ) 2 balde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(   ) 3 balde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Revisando!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3520" y="1371600"/>
            <a:ext cx="83818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ara cloro líqu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otal de partes (TP) (H</a:t>
            </a:r>
            <a:r>
              <a:rPr b="0" lang="pt-PT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O)= [% concentrada/% diluída]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ara cloro em p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Gramas/Litr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[% diluída/%concentrada] X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09480" y="3886200"/>
            <a:ext cx="7848720" cy="25549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oncentrações desej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Descontaminação e limpeza: 0,5% com água de torn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DAN: 0,1% com água fer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Água limpa: 0,00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7"/>
          <p:cNvSpPr/>
          <p:nvPr/>
        </p:nvSpPr>
        <p:spPr>
          <a:xfrm>
            <a:off x="762120" y="1143000"/>
            <a:ext cx="8076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8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409920" cy="37339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9"/>
          <p:cNvSpPr/>
          <p:nvPr/>
        </p:nvSpPr>
        <p:spPr>
          <a:xfrm>
            <a:off x="228600" y="1841400"/>
            <a:ext cx="426708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1 parte da solução concentrada de 3,5 ou 3,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3200400" y="58672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6 partes iguais de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reparação da solução de hipoclorito a 0,5%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Espaço Reservado para Rodapé 8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533520" y="1371600"/>
            <a:ext cx="8000640" cy="4419360"/>
            <a:chOff x="533520" y="1371600"/>
            <a:chExt cx="8000640" cy="4419360"/>
          </a:xfrm>
        </p:grpSpPr>
        <p:sp>
          <p:nvSpPr>
            <p:cNvPr id="228" name="Text Box 9"/>
            <p:cNvSpPr/>
            <p:nvPr/>
          </p:nvSpPr>
          <p:spPr>
            <a:xfrm>
              <a:off x="4264920" y="5271120"/>
              <a:ext cx="39222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Verdana"/>
                </a:rPr>
                <a:t>Para 9 partes iguais de águ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1159560" y="1631520"/>
              <a:ext cx="7374600" cy="32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11" descr=""/>
            <p:cNvPicPr/>
            <p:nvPr/>
          </p:nvPicPr>
          <p:blipFill>
            <a:blip r:embed="rId1"/>
            <a:stretch/>
          </p:blipFill>
          <p:spPr>
            <a:xfrm>
              <a:off x="1159560" y="1977840"/>
              <a:ext cx="7374600" cy="32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12"/>
            <p:cNvSpPr/>
            <p:nvPr/>
          </p:nvSpPr>
          <p:spPr>
            <a:xfrm>
              <a:off x="533520" y="1371600"/>
              <a:ext cx="350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Verdana"/>
                </a:rPr>
                <a:t>1 parte da solução concentrada de 5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reparação da solução de hipoclorito a 0,5%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limpez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Limpeza concorrente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feita diariamente após a arrumação da cama, para remover poeira e sujidades acumuladas ao longo do dia em superfícies horizontais do mobiliári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rmalmente, é suficiente a limpeza com pano húmido com água e sabão, realizada pelo pessoal de limpez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214200"/>
            <a:ext cx="7495920" cy="766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impeza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520" y="1828800"/>
            <a:ext cx="84582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pode observar se a enfermaria está livre de poeira, sujidade em geral e odores desagradáveis e providenciar e orientar a limpez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ntes de realizar qualquer procedimento o enfermeiro deve dispor de recipiente para o lixo comum, lixo infeccioso e perfuro-corta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quanto trabalha, manter a área a sua volta limpa e organ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caso de derramamento de secreções, excreções, isolar a área e providenciar a limpez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limpez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Limpeza terminal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feita em todo o mobiliário da unidade do pacien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realizada quando o leito é desocupado em razão de alta, óbito ou transferência do paciente, ou no caso de internações prolong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impeza termi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9280" y="1268280"/>
            <a:ext cx="8747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-se retirar da unidade do utente todo o equipamento e material usado que não pode ser reutilizado – este é descarta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quipamentos e materiais usados que podem ser reutilizados devem ser descontaminados e reprocess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realizada limpeza com água, sabão e desinfectante (hipoclorito de sódio a 0,5%) da cama, colchão, cadeira, mesa de cabeceira e algo mais usado pel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oupas de cama e toalhas são recolhidas para lavandar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impeza da unidade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4920" y="1412640"/>
            <a:ext cx="8381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pode desenvolver um plano de educação para utentes, acompanhantes e visitantes no sentido de não sujar a un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importante disponibilizar recipientes para lixo nos quartos, áreas de passagem, casas de banho, área de procedimentos e que estejam sinaliz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 acompanhar se o plano e a rotina de limpeza de sua unidade estão sendo cumpri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lano indica para cada dia da semana o responsável pela limpeza, quais os sectores a serem limpos e tipos de limpeza conforme as áreas de baixo e de alto risc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rotina da limpeza deve estar afixada em local visível e ser do conhecimento de toda a equipe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913440" cy="731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baix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62120" y="1085760"/>
            <a:ext cx="3581280" cy="23432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914400" y="3352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ce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proinstal_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295280"/>
            <a:ext cx="3733920" cy="3251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5562720" y="4437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ala do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Mulheres_aguardando_atendimento_Calaba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38862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2"/>
          <p:cNvSpPr/>
          <p:nvPr/>
        </p:nvSpPr>
        <p:spPr>
          <a:xfrm>
            <a:off x="3995640" y="5732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ala de e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691200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baix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895840" cy="2847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lmoxarifado-web2"/>
          <p:cNvPicPr/>
          <p:nvPr/>
        </p:nvPicPr>
        <p:blipFill>
          <a:blip r:embed="rId2"/>
          <a:srcRect l="0" t="0" r="0" b="7638"/>
          <a:stretch/>
        </p:blipFill>
        <p:spPr>
          <a:xfrm>
            <a:off x="755640" y="1341360"/>
            <a:ext cx="3886200" cy="2987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84360" y="429264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rea de guarda de mate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516720" y="5300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zi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Rodapé 7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41672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baix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447920"/>
            <a:ext cx="8375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ão as áreas nas quais os doentes têm pouco ou nenhum contacto ou ali estão apenas de passagem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7" name="Picture 12" descr="imagem"/>
          <p:cNvPicPr/>
          <p:nvPr/>
        </p:nvPicPr>
        <p:blipFill>
          <a:blip r:embed="rId1"/>
          <a:stretch/>
        </p:blipFill>
        <p:spPr>
          <a:xfrm>
            <a:off x="755640" y="3429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4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393372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amacian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4005360"/>
            <a:ext cx="2373120" cy="16239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9"/>
          <p:cNvSpPr/>
          <p:nvPr/>
        </p:nvSpPr>
        <p:spPr>
          <a:xfrm>
            <a:off x="3049560" y="403848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042920" y="5661000"/>
            <a:ext cx="152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1295280" y="2895480"/>
            <a:ext cx="525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as áreas são limpas com água e sab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3581280" y="2362320"/>
            <a:ext cx="1143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Rodapé 11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5219640" y="5661000"/>
            <a:ext cx="3024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bão em pó ou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698508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alt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2971800" cy="1795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826920" y="342900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rtos de do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692360" y="5805360"/>
            <a:ext cx="36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loco ope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uti_psm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1523880"/>
            <a:ext cx="2625840" cy="3886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6629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IMGP3268"/>
          <p:cNvPicPr/>
          <p:nvPr/>
        </p:nvPicPr>
        <p:blipFill>
          <a:blip r:embed="rId4"/>
          <a:stretch/>
        </p:blipFill>
        <p:spPr>
          <a:xfrm>
            <a:off x="900000" y="903240"/>
            <a:ext cx="3367080" cy="2525760"/>
          </a:xfrm>
          <a:prstGeom prst="rect">
            <a:avLst/>
          </a:prstGeom>
          <a:ln w="0">
            <a:noFill/>
          </a:ln>
        </p:spPr>
      </p:pic>
      <p:sp>
        <p:nvSpPr>
          <p:cNvPr id="133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4544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Áreas de alto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5" descr="Laboratorio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00480" y="990720"/>
            <a:ext cx="3510000" cy="2452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5405400" y="342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abor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c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75360" y="3852720"/>
            <a:ext cx="3359160" cy="2529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2195640" y="551664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alas de ex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990720" y="1981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ava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woman in laundry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144360" y="2514600"/>
            <a:ext cx="4199040" cy="2570040"/>
          </a:xfrm>
          <a:prstGeom prst="rect">
            <a:avLst/>
          </a:prstGeom>
          <a:ln w="0">
            <a:noFill/>
          </a:ln>
        </p:spPr>
      </p:pic>
      <p:sp>
        <p:nvSpPr>
          <p:cNvPr id="141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05636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Áreas de alto risc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5" descr="laboresteril2g">
            <a:hlinkClick r:id="rId1"/>
          </p:cNvPr>
          <p:cNvPicPr/>
          <p:nvPr/>
        </p:nvPicPr>
        <p:blipFill>
          <a:blip r:embed="rId2">
            <a:lum bright="12000"/>
          </a:blip>
          <a:srcRect l="0" t="5541" r="0" b="5798"/>
          <a:stretch/>
        </p:blipFill>
        <p:spPr>
          <a:xfrm>
            <a:off x="387360" y="1295280"/>
            <a:ext cx="3956040" cy="26384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971640" y="3933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ala de esteri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difun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990720"/>
            <a:ext cx="3571920" cy="2419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5508720" y="3357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sa mortu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5"/>
          <a:stretch/>
        </p:blipFill>
        <p:spPr>
          <a:xfrm>
            <a:off x="5791320" y="4114800"/>
            <a:ext cx="2361960" cy="2301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1"/>
          <p:cNvSpPr/>
          <p:nvPr/>
        </p:nvSpPr>
        <p:spPr>
          <a:xfrm>
            <a:off x="3200400" y="5029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sa de b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7T13:02:48Z</dcterms:created>
  <dc:creator>Escolástica Moura</dc:creator>
  <dc:description/>
  <dc:language>en-US</dc:language>
  <cp:lastModifiedBy>Hamido</cp:lastModifiedBy>
  <cp:lastPrinted>1999-03-19T19:46:22Z</cp:lastPrinted>
  <dcterms:modified xsi:type="dcterms:W3CDTF">2011-07-26T13:07:30Z</dcterms:modified>
  <cp:revision>182</cp:revision>
  <dc:subject/>
  <dc:title>Intodução a Patologia Bás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../2cts1pg.htm</vt:lpwstr>
  </property>
  <property fmtid="{D5CDD505-2E9C-101B-9397-08002B2CF9AE}" pid="9" name="LinkColor">
    <vt:r8>16711782</vt:r8>
  </property>
  <property fmtid="{D5CDD505-2E9C-101B-9397-08002B2CF9AE}" pid="10" name="MailAddress">
    <vt:lpwstr>repro@jhpiego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L:\english\2tools\2presgrp\ctschpt1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