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0D15-0246-4E76-9F8E-4D5ED5A53639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EFE4-4584-4A38-9101-E1BF5126C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F25F-84E7-4316-84B5-44582FA9256D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1F4EC-351F-412D-8300-BD34E65B2C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15D70-5EEF-4113-8CD7-4DB29B3A4B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877A2-22EC-4673-B933-D485D6CEE2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DF0CD-D7D7-4220-A9B6-44B15764B9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DC866-3864-4C75-9FCD-4AB136CAF7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DBD6E-4240-4E25-8B1D-A88DE89069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85A19-442E-4FDC-9296-FDBF002E53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05FA7-5EF3-472D-856A-6379C040F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5CE65-181A-4C1D-9F91-D68F3E7BC8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77033-613A-4099-A785-EAB59168BC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03EAF-B123-493E-A00B-EF067518B1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50A37-5B64-492C-9277-AFBBD2E67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8" descr="Jhpiego_logo"/>
          <p:cNvPicPr/>
          <p:nvPr/>
        </p:nvPicPr>
        <p:blipFill>
          <a:blip r:embed="rId3"/>
          <a:stretch/>
        </p:blipFill>
        <p:spPr>
          <a:xfrm>
            <a:off x="7543800" y="6297480"/>
            <a:ext cx="1143000" cy="4842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C572-8714-4BA0-A3DD-6873264EB80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46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8" descr="Jhpiego_logo"/>
          <p:cNvPicPr/>
          <p:nvPr/>
        </p:nvPicPr>
        <p:blipFill>
          <a:blip r:embed="rId2"/>
          <a:stretch/>
        </p:blipFill>
        <p:spPr>
          <a:xfrm>
            <a:off x="7772400" y="6172200"/>
            <a:ext cx="11430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" descr=""/>
          <p:cNvPicPr/>
          <p:nvPr/>
        </p:nvPicPr>
        <p:blipFill>
          <a:blip r:embed="rId3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submarino.com.br/books_productdetails.asp?Query=ProductPage&amp;ProdTypeId=1&amp;ProdId=93057&amp;ST=SE&amp;franq=136426" TargetMode="External"/><Relationship Id="rId2" Type="http://schemas.openxmlformats.org/officeDocument/2006/relationships/hyperlink" Target="http://www.fundamentos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067"/>
          <p:cNvSpPr/>
          <p:nvPr/>
        </p:nvSpPr>
        <p:spPr>
          <a:xfrm>
            <a:off x="32004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068"/>
          <p:cNvSpPr/>
          <p:nvPr/>
        </p:nvSpPr>
        <p:spPr>
          <a:xfrm>
            <a:off x="2057400" y="586728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520" y="1600200"/>
            <a:ext cx="5943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500" spc="-1" strike="noStrike">
                <a:solidFill>
                  <a:srgbClr val="ffffff"/>
                </a:solidFill>
                <a:latin typeface="Arial"/>
              </a:rPr>
              <a:t>Cuidados de Enfermagem na Alta do Utente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94920" y="45716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ódulo 6 – Fundamentos de Enfermag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ulas 13/16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Orientações para a alta – 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municar os familiares para providenciar o transporte, ou ajuda-lo a chamar um táxi se ele  assim o desejar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ordenar com a Acção Social para providenciar o transporte para o paciente ( se for necessário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85440" y="11430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nduzir o paciente em carrinho de rodas ou apoia–lo a caminhar até a porta(se necessário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ermanecer com o paciente na porta até que entre na viatura e esteja instalado com segurança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just"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companhamento do Pacien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684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tirar os lençóis e cobertores da  cam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esinfectar a cam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rrumar o quarto, ou a cama e deixar pronto para a recepção de outro paci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838080" y="6335640"/>
            <a:ext cx="624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Limpeza Final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diment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1752480" y="6335640"/>
            <a:ext cx="541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ertificar se existe uma ordem médica para a alta do paci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Verificar outras prescrições e outras instruções médicas para a alt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nformar –se sobre a existência ou não de novas ordens médicas que precisam ser executadas antes de alta do paci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2133720" y="6095880"/>
            <a:ext cx="52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ocedimento - 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14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nformar se sobre a existência ou não de novas ordens médicas que precisam de ser executadas antes da alt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visar o plano de alta do enfermeir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lanificar o tempo para o paciente sair do hospit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iscutir com o paciente o meio de transporte para leva – lo para cas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1142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ancelar as refeições que seriam servidas ao paci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lanificar o banho e outros cuidados médicos e de enfermagem atempadame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2286000" y="633564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ocedimento - Co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erial Necessár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1426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artão de identificação do paci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artão de operação de for paciente de foro cirúrgic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testado de hospitalizaçã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Guia de transferência para o paciente marcar consulta externa de controlo no hospital e,  ou guia de transferência para o Centro de Saúde      (  se necessário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6840" y="11430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testado de doença, se necessári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cibo da Hospitalizaçã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Guia de alt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ceitas médic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838080" y="6335640"/>
            <a:ext cx="579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aterial necessár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844560" y="6335640"/>
            <a:ext cx="44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cedimento na alta de paciente Cirúrgico – Cont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nformar o paciente sobre a sua alta, com antecedência, sempre que possíve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ntactar o serviço social quando necessári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xplicar o paciente com clareza sobre os cuidados no domicílio: dieta indicada, repouso se necessário, uso correcto de medicamentos, higiene geral e cuidados com a ferid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rientar sobre a necessidade de fazer penso no centro de saúde e marcar consulta de controlo, se pertinente.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844560" y="6335640"/>
            <a:ext cx="44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ocedimento – 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ntregar ao paciente os seus bens que estavam na posse da enfermar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ovidenciar o transporte do paciente em maca ou na cadeira de rodas, quando necessári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ornecer a primeira medicação a ser tomada em casa, se necessári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Verificar se existirem dúvidas esclareça o paciente e/ou a familiares.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ESTUDANTE DEVE SER CAPAZ DE 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escrever os tipos de  alta  hospitalar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conhecer as tarefas do enfermeiro no processo de alta do paci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estar os cuidados de enfermagem na alta do paci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COMPETÊNCIAS      </a:t>
            </a:r>
            <a:r>
              <a:rPr b="1" lang="pt-PT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6840" y="12952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orneça a primeira medicação a ser tomada em casa, se necessári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espeça – se do paciente e seus familiare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giste a alta no livro conforme a rotina do hospit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ncaminhe o processo internamento do paciente à secretaria do serviço para procedimentos e arquiv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ovidencie a limpeza da cama ou unidade do paci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ocedimentos – 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dimento - Misau      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Lavar as mã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azer os cuidados de higiene e, evitar trocar de roupa de cam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inalizar o tratamento e as prescrições de enfermagem conforme o plano de cuidad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judar  o paciente a vestir – se com a roupa que usará para cas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visar as instruções da alta e finalizar a educação para saúd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838080" y="6335640"/>
            <a:ext cx="632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762120" y="114264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66"/>
                </a:solidFill>
                <a:latin typeface="Arial"/>
              </a:rPr>
              <a:t>Auxiliar o paciente a empacotar os seus pertences; se for caso; solicitar que ele assine a liste de peça de vestuário ou objectos de valor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66"/>
                </a:solidFill>
                <a:latin typeface="Arial"/>
              </a:rPr>
              <a:t>Ajudar o paciente a usar a cadeira de rodas para se deslocar até ao transporte se necessário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66"/>
                </a:solidFill>
                <a:latin typeface="Arial"/>
              </a:rPr>
              <a:t>Acompanhar o paciente até a viatura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66"/>
                </a:solidFill>
                <a:latin typeface="Arial"/>
              </a:rPr>
              <a:t>Enviar todo o processo para o arquivo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66"/>
                </a:solidFill>
                <a:latin typeface="Arial"/>
              </a:rPr>
              <a:t>Guardar a cadeira de rodas no lugar correcto na enfermaria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66"/>
                </a:solidFill>
                <a:latin typeface="Arial"/>
              </a:rPr>
              <a:t>Lavar as mãos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844560" y="6335640"/>
            <a:ext cx="44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dimento – MISAU ( Cont.)      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85800" y="11430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azer o resumo da alta no livro de altas onde deve constar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144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ata e horário da alt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144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ndições do paciente no momento da alt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144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sumo das instruções dad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144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eio de transporte usad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144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dentificação da (s) pessoa (as) que acompanhou (aram) o pacie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844560" y="6335640"/>
            <a:ext cx="44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dimento ( Cont.)      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"/>
          <p:cNvSpPr/>
          <p:nvPr/>
        </p:nvSpPr>
        <p:spPr>
          <a:xfrm>
            <a:off x="457200" y="6335640"/>
            <a:ext cx="629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emplo de documentação de alta cirúrgica      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ata e hora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paciente estava afebril, sem dor na  região afectada. As suturas foram removidas. A incisão abdominal intacta, sem sinais nem sintomas de infecção. Sem penso. Com prescrição médica de amoxaciclin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le é capaz de repetir o número de cápsulas pode auto administrar se por dose, os horários adequados para tal os possíveis efeitos secundários do medicamen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685440" y="91404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s sinais e sintomas de infecção repetidos e necessidades de relata – los imediatam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oi orientado para tomar banho de chuveiro como costume e evitar temporariamente levantar objectos pesados/ com mais de 19 quil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nformado quanto a consulta de acompanhamento dentro de uma semana com o médico, conforme a indicado no cartão de instruções da alt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2362320" y="633564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d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dimento ( Cont.)      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609120" y="10666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paciente recebeu cópia da folha de instruções da alta. Foi efectuado pagamento da hospitalização pelo filh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oi auxiliado em carrinho de rodas até a viatura particular que o transportou para casa sem quaisquer queix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66"/>
                </a:solidFill>
                <a:latin typeface="Arial"/>
              </a:rPr>
              <a:t>          </a:t>
            </a:r>
            <a:r>
              <a:rPr b="0" lang="pt-PT" sz="1800" spc="-1" strike="noStrike">
                <a:solidFill>
                  <a:srgbClr val="000066"/>
                </a:solidFill>
                <a:latin typeface="Arial"/>
              </a:rPr>
              <a:t>Assinatura do enfermeiro e responsabilidade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2165400" y="6335640"/>
            <a:ext cx="44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dimento (Cont.)      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Sub- módulo17/32 Cuidados de Enfermagem ao paciente na fase Terminal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O ESTUDANTE DEVE SER CAPAZ DE 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dentificar os cuidados de enfermagem para o paciente na fase termin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conhecer a importância dos cuidados de enfermagem no paciente nas fase termin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estar os cuidados de enfermagem ao paciente na fase termin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37720" y="11430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É uma fase em que a recuperação do paciente está aquém de uma expectativa desejáve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lterações corporais que normalmente antecedem a morte indicam para a equipa de enfermagem que o estado de saúde do paciente é grave e a resposta ao tratamento não é satisfatóri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53316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eito  de Fase Termin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ceito de Alta Hospitala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alta é um processo que ocorre quando o paciente sai de uma instituição de cuidados de saúde, e consiste em:</a:t>
            </a:r>
            <a:r>
              <a:rPr b="0" lang="pt-PT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btenção de uma ordem escrita pelo médic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umprimento de instruções para a alt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juda ao paciente para sair da unidade sanitár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Geralmente o paciente apresenta sinais e sintomas neurológicos com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gitação psicomotora 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stado de inconsciênc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laxamento muscular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iminuição ou ausência de reflexo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Queda de mandíbul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844560" y="6335640"/>
            <a:ext cx="44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ais e Sintomas  de Fase Terminal (cont. 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ncapacidade de deglutiçã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cumulação de secreções Orofarínge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laxamento do esfíncter 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edríase/ dilatação da pupil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Também ocorrem alterações dos sinais vitais tais como: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alência cardiocirculatória e respiratór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ulso filiforme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Hipotensão arteri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844560" y="6335640"/>
            <a:ext cx="44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ais e Sintomas (cont.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3"/>
          <p:cNvSpPr/>
          <p:nvPr/>
        </p:nvSpPr>
        <p:spPr>
          <a:xfrm>
            <a:off x="845280" y="6335640"/>
            <a:ext cx="444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ais e Sintomas (cont.)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ispneia acentuada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spiração ruidosa e irregular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ianose, 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quimose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ele pálida e fr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uor/sudorese frio e viscoso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uitos pacientes, chegam a fase terminal sem alterações no estado de consciência e quando são informados sobre a gravidade e evolução da doença apresentam reacções emocionais distint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família pode sentir se desorientada sobre como agir ou o que dizer ao paciente, uma vez que a abordagem sobre a morte é dolorosa e de difícil  compreensão e aceitaçã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nais e Sintomas ( 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compreensão dos seus sentimentos é fundamental para uma abordagem propícia e eficaz e o paciente e seus familiares, percebam que o enfermeiro está a fazer  tudo para minimizar a sua“dor”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e o paciente ou um familiar manifestar o desejo de receber assistência espiritual, o enfermeiro pode proporcionar o encontro com o representante de sua escolh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1600" indent="-291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oio emocional e conforto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6840" y="9903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3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enfermeiro deve dar apoio e encorajamento a família e respeitar suas crenç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Garantir a privacidade do paciente e companhia dos seus ante queridos, mantendo o num quarto ou utilizar biombos se ele estiver a enfermar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alizar os cuidados de higiene corporal de forma carinhosa com maior frequência necessár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udanças de decúbito e adequado alinhamento do corpo numa cama confortáve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poio emocional e conforto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poio emocional e confor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761760" y="11426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bservar o paciente frequentemente sem exigir uma resposta verbal 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anter os olhos fechados se o reflexo palpebral estiver ausente, para evitar a ulceração da córne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alizar aspirações frequentes de secreções para manter as vias aéreas superiores premiáve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Humedecer o ar e retirar as próteses dentárias se o paciente tiver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 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poio Emocional e Confort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c000"/>
                </a:solidFill>
                <a:latin typeface="Arial"/>
              </a:rPr>
              <a:t>Aceitar o comportamento do paciente não importa qual sej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ar oportunidade para que o paciente expresse livremente os seus sentiment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ocurar compreender os sentimentos do paciente e trata – lo com muito carinh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speitar os direitos do paciente e ajuda - o a escolher a maneira e o local em que deseja receber os cuidados antes de sua mor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1. Estágio de não aceitaçã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negação é um mecanismo psicológico de defesa pelo qual o paciente recusa se a creditar que determinada informação seja verdadeira. O paciente neste estágio pode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jeitar que o diagnóstico seja verdadeir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specular que o resultado de seus testes sejam errad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erve de protectora de quem está a ser confrontado com uma realidade muito doloros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1606680" y="6324480"/>
            <a:ext cx="44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Estágios da Mor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ágios da morte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I. Estágio da Raiva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raiva é uma reacção de emoção e sensação de ser vítima. Uma vez que a morte em eminência não pode ser vingado, os pacientes deslocam sua raiva contra outros, como os enfermeiros, os médicos, a família e até a Deus.  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raiva pode ser expressa através de queixas contra os cuidados prestados ou reacções exageradas ao mínimo problem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 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ceito de Alta Hospital – Cont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sumo das condições da paciente no momento da alt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municação ao pessoal de para limpeza e desinfecção do quar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440" y="11430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3. Estágio de Negociaçã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negociação é uma forma de tentar adiar o inevitável (a morte). Nesta fase o paciente pede ao médico para repetir o tratamento médico, ou negoceia com Deus para adiar a sua morte de modo a assistir um evento próximo na família. Exemplo: o casamento de seu filho mais nov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696080" cy="761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Estágio de Morte ( 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9903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 paciente vai se apercebendo de que a morte não pode ser adiado e entra em depressão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4.  Estágio de Depressã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É o período muito realista de sofrimento, em que paciente tem tendência a desistir do mundo, prefere estar sozinho, há diminuição do apetite, e son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5. Aceitaçã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paciente toma consciência e aceita todas as implicações de seu prognóstico. O paciente pode manifestar o desejo de ir morrer em casa ao lado da famíl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ágio de Morte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b-módulo 18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eparação do Corpo(Múmia)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6094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O ESTUDANTE DEVE SER CAPAZ DE 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nceituar a múm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conhecer os objectivos e a importância da preparação do corp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dentificar o material e EPI necessári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estar os cuidados de enfermagem ao corpo após a mor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idados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eito de Mor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12193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morte ou óbito, é a cessação de vida do paciente, com interrupção irreversível  das funções vitais do organismo e, é legalmente  confirmada pelo médic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2057400" y="633564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6960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nais de Mor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esfriamento do corp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s manchas generalizad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r roxeada da pel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laxamento dos esfíncteres e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igidez do corpo/cadavérica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2057400" y="6335640"/>
            <a:ext cx="464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ermitir que a família encontre o corpo devidamente preparado e conservado em lugar segur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vitar os odores desagradáveis e saídas de secreções e sangu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dequar a posição do corpo antes que ocorra a rigidez cadavéric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Garantir que os familiares encontrem os pertences do seu ente querido conferidos e guardados em lugar apropriado e segur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e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mportânci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aterial e EPI necessári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quipamento de Protecção Individual(EPI):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áscar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óculo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arrete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uvas de procedimento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vental plástico e sapatos impermeáveis fechad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aterial para preparação do corpo: bacia, água, sabão, algodão, compressas, toalha, éter ou benzina, ligaduras e adesiv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3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l necessári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ois lençó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iombo, quando necessári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cipiente com sacos plásticos identificados, para o lixo comum e lixo infeccioso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oced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amar o médico para confirmar o óbit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Verificar se o preenchimento do processo clínico está correct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ssegurar que o horário e data do óbito estão correcto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firmar se o “certificado de óbito” foi preenchido correctamente conforme o processo clínico e está assinado pelo médic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VIO???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   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Tipos de Alta Hospital – 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utorização médica para alt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médico é que determina quando o paciente está suficientemente bem para sair do hospitalar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médico faz a prescrição e indica a data e o local para uma consulta de acompanhamen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diment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avar as mãos com água e sabão ou fricciona –las com álcool glicerinado, se não estiverem visivelmente suj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tilizar os EPI descrito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tirar a roupa, catéteres, sondas, sistemas de drenagem, ligaduras e outros materiais inseridos no corp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impar com éter ou benzina as marcas de adesivo, se necessári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diment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tirar anéis, brincos e outras jóias e identificar para entregar a famíl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alizar a higiene do corp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echar os olhos e a boca do falecido, colocando um ligadura sob o queixo até a cabeç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niciar o tamponamento, ao tapar todos os orifícios corporais com algodão para evitar a saída de secreçõe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ixar as mãos e os pés com ligadur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.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diment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tirar os anéis, brincos e outras jóias e identificar para entregar a famíl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alizar a higiene do corp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echar as pálpebras e a boca do falecido sob o queixo até a cabeç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niciar o tamponamento, ao tapar todos os orifícios corporais com algodão para evitar a saída de secreçõe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ixar as mãos com os pés com ligadur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dentificar o corpo com duas tiras largas de adesivo( um na atesta e outro no peito) com: serviço onde ocorreu o óbito, nome completo do falecido, idade, filiação, hora e data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nvolva o corpo com lençol colocado no sentido diagonal, deixando –o em decúbito dors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ubrir o corpo com outro lenço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colher e organizar os materiais usado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tirar os EPI 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Curso de Enfermagem Geral 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Procediment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BLIOGRAF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Conceitos e Habilidades Fundamentais no Atendimento de Enfermagem </a:t>
            </a:r>
            <a:r>
              <a:rPr b="1" lang="pt-PT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–TIMBY K.BARBARA, 6º Edi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1"/>
              </a:rPr>
              <a:t>Enfermagem Fundamental Abordagem Psicofisiológica </a:t>
            </a:r>
            <a:r>
              <a:rPr b="1" lang="pt-PT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SORENSEN e LUCKMANN, 3º Edi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Fundamentos de Enfermagem</a:t>
            </a:r>
            <a:r>
              <a:rPr b="1" lang="pt-PT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 - POTTER PERRY 7ª ediçã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Fundamentos</a:t>
            </a:r>
            <a:r>
              <a:rPr b="1" i="1" lang="pt-PT" sz="2400" spc="-1" strike="noStrike">
                <a:solidFill>
                  <a:srgbClr val="000066"/>
                </a:solidFill>
                <a:latin typeface="Arial"/>
              </a:rPr>
              <a:t> de Enfermagem.com/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Tipos de Alta Hospital – 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14040" y="3048120"/>
            <a:ext cx="39625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838080" y="6335640"/>
            <a:ext cx="59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609480" y="1298520"/>
            <a:ext cx="8153640" cy="62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Alta a Ped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 paciente sai da unidade sanitária, antes da autorização médica. </a:t>
            </a:r>
            <a:r>
              <a:rPr b="0" lang="pt-PT" sz="2800" spc="-1" strike="noStrike">
                <a:solidFill>
                  <a:srgbClr val="ffc000"/>
                </a:solidFill>
                <a:latin typeface="Arial"/>
              </a:rPr>
              <a:t>Geralmente, a alta ocorre quando o paciente ou os familiares não estão satisfeitos com o atendimento ou cuidados pres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Nestes casos, o enfermeiro tem a função de persuadir o paciente ou os familiares, para desistirem da ide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6840" y="9903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c000"/>
                </a:solidFill>
                <a:latin typeface="Arial"/>
              </a:rPr>
              <a:t>Caso permaneça a decisão, a enfermeira deve solicitar a assinatura de um termo de compromisso, que é um documento que  protege o médico e a instituição da responsabilidade por complicações que possam ocorrer depois da alt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3. Alta por Ób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quela que ocorre com a morte do paciente.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Tipos de Alta – 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838080" y="6335640"/>
            <a:ext cx="632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28240" y="14475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enfermeiro  identifica na admissão do paciente o conhecimento e as habilidades este necessitará para manter um nível seguro de auto cuidado após a alt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labora um plano de ensino  durante a hospitalização do paciente na unidade sanitár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vê o que o foi ensinado, orienta-o sobre os cuidados e aconselha –o a marcar uma consulta na data especificada pelo médico.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ientações para a alta do pacien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838080" y="633564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az o resumo no diário de enfermagem, das condições do paciente na alta e das instruções dad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ntes do paciente sair do hospital o enfermeiro deve  verificar junto ao sector administrativo se a conta de hospitalização foi pag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uxiliar o paciente na arrumação dos seus pertences, se houver lista de verificar para assegurar que nada ficou esquecid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ientações para a alta do pacien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838080" y="633564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Hamido</cp:lastModifiedBy>
  <dcterms:modified xsi:type="dcterms:W3CDTF">2011-07-25T13:01:12Z</dcterms:modified>
  <cp:revision>672</cp:revision>
  <dc:subject/>
  <dc:title>ANATOMIA E FISIOLOGIA HUMANA</dc:title>
</cp:coreProperties>
</file>