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57A8-43AE-4247-8273-5821C6BF51E2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90D6-70F7-41AC-8366-C2CF80E13429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B6FA-BAE7-4BB6-AEE2-AB4C0AC93B5E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C352-2AD4-4729-8620-7E30C9303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EEE0-9DCD-44B1-AF96-7CCD7EF97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66BB-D8D0-44D8-9BAB-C97C0761C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04A4-A908-4E60-9760-6D9E21C03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01154-7D1B-4AA9-B6F2-8224C6DE52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344A-9A5C-4C16-8A1B-D45ECF864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17132-10E4-4171-BC5A-A986FC17FB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BA4D8-E9A4-489E-93EB-FD4595FCC5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1F9D9-AFB5-488B-806C-AEE9435E17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422B-D481-431D-9F72-D8FC06D093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57B2A-B67F-4B51-A433-E59F29B1F2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F112-1390-498E-83EB-D9730712F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D89A3-37C2-4D24-B28A-66FD0F98AB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50DD-DE92-49C9-92FB-BDA0D427F4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D7B28-E0DE-4DCD-9C38-42731E02B2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A689E-FCE4-4142-B6B5-1699E8E51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1BE7D-B66A-4123-B779-B518D6673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FBF3-2809-4A0C-9A00-5B4B025AD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0175-3185-42F3-8DAD-64647D596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FFB4-3B10-4183-BEE4-58B81ABDF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0916-6D6F-4C1E-975A-44EFFF37D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A1EB-28D6-47DF-8E44-B56C2CD3D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5D23-2577-4C5F-8478-53C725B03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BB8C-98FB-45C8-A651-1DC48C4FA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89CC-08CE-483E-A089-66EC0CF3974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32B6-1076-4E4C-9C25-E30BA96B219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9807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pt-PT" sz="3600" spc="-1" strike="noStrike">
                <a:solidFill>
                  <a:srgbClr val="ffffff"/>
                </a:solidFill>
                <a:latin typeface="Arial"/>
                <a:ea typeface="Arial"/>
              </a:rPr>
              <a:t>Fundamentos de Enfermagem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 Black"/>
              </a:rPr>
              <a:t>Submódulo 12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 Black"/>
              </a:rPr>
              <a:t>Controle da diurese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670-CFC2-4380-9ABE-24FF62BFCD9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328680" y="6335640"/>
            <a:ext cx="82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Arial"/>
              </a:rPr>
              <a:t>COMPETÊNCIAS    </a:t>
            </a: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Discutir a importância do controle da diurese no pacien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Identificar os parâmetros normais na diures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ORTÂNCIA DA MEDIÇÃO DA DIURESE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É importante a medição da diurese porque permite fazer-se o balanço hídrico ( quantidade de líquidos ingeridos e eliminados),  evitando assim o desiquilíbrio hidroeletrolítico e de ácido-básic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controle da diurese deve ser muito maior na criança do que no adulto pelo facto dela ser mais vulnerável aos desiquilíbrio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idroelétrico e ácido-básico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2EAB-BF4D-45EB-BECF-54B5CB3A2D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356560" y="6398640"/>
            <a:ext cx="50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99ff"/>
                </a:solidFill>
                <a:latin typeface="Agency FB"/>
              </a:rPr>
              <a:t>Curso de Enfermagem  Geral e  de </a:t>
            </a:r>
            <a:r>
              <a:rPr b="1" i="1" lang="pt-PT" sz="1400" spc="-1" strike="noStrike">
                <a:solidFill>
                  <a:srgbClr val="9999ff"/>
                </a:solidFill>
                <a:latin typeface="Agency FB"/>
              </a:rPr>
              <a:t>Saúde</a:t>
            </a:r>
            <a:r>
              <a:rPr b="1" i="1" lang="en-US" sz="1400" spc="-1" strike="noStrike">
                <a:solidFill>
                  <a:srgbClr val="9999ff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CAÇÕE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CONTROLE DA DIURESE ESTÁ INDICADO NOS SEGUINTES CASO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Vigilância da desidratação ou da retenção da águ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Insuficiência renal ou cardía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Paciente em reanimação com ventilação assistid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-160920" y="6335640"/>
            <a:ext cx="68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ÂMETROS DA DIURESE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parâmetros da diurese tem a ver com a quantidade aproximada de água ingerida diariamente ( casos normais) em 24 horas varia d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100 a 2900 m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quantidade eliminada pela urina varia de 1000 a 1500ml as restantes quantidades são eliminadas por outras vias como por exemplo: pelas fezes, pela pele e pelos pulmões durante a respira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 E EPI NECESSÁR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MATERIAL NECESSÁRIO SERÁ O SEGUINT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rasco de aproximadamente 2,5l para recolha da urin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Luvas não esterilizad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mpressas não esterilizad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B: O material e EPI necessários encontram-se no laboratório Humanístic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</a:rPr>
              <a:t>PROCEDIMENTOS E REGIST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B: Os procedimentos são feitos no L H, consultando o guião de Procedimentos, nas páginas, 67 e 68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ntudo deve-se ter em conta o seguint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O paciente urina num urinol ou arrastadeira e esta urina é recolhida num frasco preparado para o efeit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</a:rPr>
              <a:t>CONT. DE PROCEDIMENTOS E REGIST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As medições são feitas nas manhãs depois da 1ª micção,mas ter o cuidado de lavar bem o frasco para a recolha da urina do d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34360" y="6335640"/>
            <a:ext cx="466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fermagem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OS PROCEDIMENTOS E REGIST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O registo da quantidade da urina eliminada é feito de manhã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-Se o paciente estiver algaliado, deve-se esvaziar o saco colector em determinadas horas do dia e regist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5- O total das quantidades recolhidas soma-se de 24 em 24 horas e regista-s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55720" y="633564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so de Enfermagem  Geral e  de 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</a:rPr>
              <a:t>Saú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terno-Infant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NSTRUMENTACAO</cp:lastModifiedBy>
  <dcterms:modified xsi:type="dcterms:W3CDTF">2016-05-18T09:21:33Z</dcterms:modified>
  <cp:revision>819</cp:revision>
  <dc:subject/>
  <dc:title>ANATOMIA E FISIOLOGIA HUMANA</dc:title>
</cp:coreProperties>
</file>