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8FBE-AFF8-4BC7-8CB6-A0C93C51B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D929-663A-4F98-A777-0C3685923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8F78-2818-471B-9B72-364D4CC83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EEBB-4B48-4885-A40C-E15E398D8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DFAD-D0D1-4A18-94D6-09C8D3E0E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9A2F-E264-4026-96F4-7FE25C496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2F54-98BE-4C52-84FE-2A5C0BB23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462A-0AF4-4384-A9B0-89F63B19C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20CD-5CA9-4C1E-9CE3-9F6F01B19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1616-7052-4E33-9BE1-6C78E409F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AEFE-BBC3-433C-8E28-538EA1F9D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188A-044F-4A2E-A74D-7F1DE5229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120-0246-4FF5-B8CA-EBE4709081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hyperlink" Target="http://www.fundamento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b- módulo17/32 Cuidados de Enfermagem ao paciente na fase Term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176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 paciente frequentemente sem exigir uma resposta verbal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nter os olhos fechados se o reflexo palpebral estiver ausente, para evitar a ulceração da cór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pirações frequentes de secreções para manter as vias aéreas superiores premiá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umedecer o ar e retirar as próteses dentárias se o paciente tiv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Aceitar o comportamento do paciente não importa qual sej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oportunidade para que o paciente expresse livremente os seus sentimen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compreender os sentimentos do paciente e trata – lo com muito carinh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os direitos do paciente e ajuda - o a escolher a maneira e o local em que deseja receber os cuidados antes de su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. Estágio de não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ação é um mecanismo psicológico de defesa pelo qual o paciente recusa se a creditar que determinada informação seja verdadeira. O paciente neste estágio po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jeitar que o diagnóstico seja verdad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pecular que o resultado de seus testes sejam err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e de protectora de quem está a ser confrontado com uma realidade muito doloro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06680" y="632448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s da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s da morte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. Estágio da Rai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é uma reacção de emoção e sensação de ser vítima. Uma vez que a morte em eminência não pode ser vingado, os pacientes deslocam sua raiva contra outros, como os enfermeiros, os médicos, a família e até a Deus.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pode ser expressa através de queixas contra os cuidados prestados ou reacções exageradas ao mínimo proble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Estágio de Negoci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ociação é uma forma de tentar adiar o inevitável (a morte). Nesta fase o paciente pede ao médico para repetir o tratamento médico, ou negoceia com Deus para adiar a sua morte de modo a assistir um evento próximo na família. Exemplo: o casamento de seu filho mais no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 de Morte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paciente vai se apercebendo de que a morte não pode ser adiado e entra em depress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4.  Estágio de Depress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período muito realista de sofrimento, em que paciente tem tendência a desistir do mundo, prefere estar sozinho, há diminuição do apetite, e so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5.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toma consciência e aceita todas as implicações de seu prognóstico. O paciente pode manifestar o desejo de ir morrer em casa ao lado da famí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 de Mor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-módulo 18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ação do Corpo(Múmia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a mú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s objectivos e a importância da preparaçã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material e EPI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corpo após 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idados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morte ou óbito, é a cessação de vida do paciente, com interrupção irreversível  das funções vitais do organismo e, é legalmente  confirm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057400" y="63356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sfriament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manchas generaliz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r roxeada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s esfíncteres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gidez do corpo/cadavéric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057400" y="633564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s cuidados de enfermagem para 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 importância dos cuidados de enfermagem no paciente nas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a família encontre o corpo devidamente preparado e conservado em lugar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vitar os odores desagradáveis e saídas de secreções 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equar a posição do corpo antes que ocorra a rigidez cadavér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s familiares encontrem os pertences do seu ente querido conferidos e guardados em lugar apropriado e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e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quipamento de Protecção Individual(EPI):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ásca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ócul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plástico e sapatos impermeáveis fech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para preparação do corpo: bacia, água, sabão, algodão, compressas, toalha, éter ou benzina, ligaduras e ades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is lençó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iombo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cipiente com sacos plásticos identificados, para o lixo comum e lixo infecci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mar o médico para confirmar o ób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icar se o preenchimento do processo clínico está corre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egurar que o horário e data do óbito estão correc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rmar se o “certificado de óbito” foi preenchido correctamente conforme o processo clínico e está assin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VIO??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ar as mãos com água e sabão ou fricciona –las com álcool glicerinado, se não estiverem visivelmente suj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r os EPI descri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ar a roupa, catéteres, sondas, sistemas de drenagem, ligaduras e outros materiais inseridos no corp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par com éter ou benzina as marcas de adesivo, se necessári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os olhos e a boca do falecido, colocando um ligadura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e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as pálpebras e a boca do falecido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com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corpo com duas tiras largas de adesivo( um na atesta e outro no peito) com: serviço onde ocorreu o óbito, nome completo do falecido, idade, filiação, hora e dat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volva o corpo com lençol colocado no sentido diagonal, deixando –o em decúbito dors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brir o corpo com outro lenço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e organizar os materiais us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EPI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- POTTER PERRY 7ª ed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Fundamentos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de Enfermagem.com/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7720" y="1143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uma fase em que a recuperação do paciente está aquém de uma expectativa desej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ões corporais que normalmente antecedem a morte indicam para a equipa de enfermagem que o estado de saúde do paciente é grave e a resposta ao tratamento não é satisf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 de Fase Term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o paciente apresenta sinais e sintomas neurológico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gitação psicomotora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de 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musc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minuição ou ausência de reflex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eda de mandíbul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 de Fase Terminal (cont. 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capacidade de degluti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cumulação de secreções Orofarínge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 esfíncter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ríase/ dilatação da pupil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mbém ocorrem alterações dos sinais vitais tais co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ência cardiocirculatória e respirató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ulso filiform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845280" y="6335640"/>
            <a:ext cx="44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pneia acentu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iração ruidosa e irreg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anose,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quim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le pálida e f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or/sudorese frio e visc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pacientes, chegam a fase terminal sem alterações no estado de consciência e quando são informados sobre a gravidade e evolução da doença apresentam reacções emocionais distin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família pode sentir se desorientada sobre como agir ou o que dizer ao paciente, uma vez que a abordagem sobre a morte é dolorosa e de difícil  compreensão e acei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mpreensão dos seus sentimentos é fundamental para uma abordagem propícia e eficaz e o paciente e seus familiares, percebam que o enfermeiro está a fazer  tudo para minimizar a sua“dor”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paciente ou um familiar manifestar o desejo de receber assistência espiritual, o enfermeiro pode proporcionar o encontro com o representante de sua escolh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emocional e confort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dar apoio e encorajamento a família e respeitar suas crenç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do paciente e companhia dos seus ante queridos, mantendo o num quarto ou utilizar biombos se ele estiver 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os cuidados de higiene corporal de forma carinhosa com maior frequência necess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danças de decúbito e adequado alinhamento do corpo numa cam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2:07Z</dcterms:modified>
  <cp:revision>673</cp:revision>
  <dc:subject/>
  <dc:title>ANATOMIA E FISIOLOGIA HUMANA</dc:title>
</cp:coreProperties>
</file>