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2F32-041F-4429-A996-DDB835C7CA3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01AC-D13B-4651-989B-52BAFB859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2D142-8146-4632-AFD3-F7758609C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10828-ED27-42D4-896B-4EBEDB5A6B8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4998B1-DDF0-4BCB-AC6B-7B413CD1ACB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153585-E0C2-40C8-865C-E3996344DC0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57B92-614F-4158-84CB-329B50FA13B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951A3-ECFA-4D6F-B9F7-714051961E7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C32ED6-AA0B-406A-A67D-936454DC855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4A388C-DADE-4D51-A69F-E6FFB1D11EC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926309-5DD7-43CC-B64B-DDC30847F22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77D9B1-D5FA-4F34-859A-20D51BCF06E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359C74-AD59-446D-BD90-CEFE21BBFE3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E10FAB-AE1D-436F-AA6D-0EDDB4329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5296-33E1-4141-AF37-9F5CCDB4FCF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713648-FCAA-44A1-9EBD-D6F20D8B931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215154-44A4-48F9-8520-675674BB3E6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0902EC-0CAF-40BD-B254-3AB61C38897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A6EEAF-6B2A-48E7-84EA-C507B0383D6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2E60B9-5960-42DA-9717-D94F0D1C9ED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01F207-C9CC-4B95-A0E1-B51FA436BAA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0317BA-DF24-4955-B2F3-B95EF118E06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9EEF85-5637-48A0-95CC-F8807EAAD4D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561D7A-4811-421A-A547-7C19A335A2F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F0ED60-C2F5-426F-9169-6F33AC207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ED9CB-9011-4B6E-8135-8D1F9649CD2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17D24B-55CE-4B3F-84B1-1D1EB765F9C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90EF7-C359-4716-A9D4-E91F93146A9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63619-2A0F-4D16-8686-9796999E27F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E7763-E5A4-4B18-B434-2A65C9EB47C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C6F85-4FAB-413B-BC8E-FDF2FF685CC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EDF82-9911-486E-93A7-2527EC46FBF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35D31-2E0E-431D-9CDC-2D09AD6E763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AFFF3-8F87-415F-BA1F-4D5D028781E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DA69B-668B-4C79-86D4-B9501B58721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5DF7A-E444-4E19-829C-86402B4F5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64A70-5DA7-46F9-8407-67AADA69A55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1A6E3-57E1-4EB3-81AD-6D090DD6EF6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E8144-CF50-4F35-BF04-E86DEF865F8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C5D646-804E-4E4F-B6BF-FC925B250E7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C8F076-08C5-4B49-A666-5FDCABD5B72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685845-AEE3-48C6-B77B-22352112BEC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EFDD4C-9AE7-4893-90C9-EB8041F6CF5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133488-BB1E-4A6E-A89B-7DC5FB50AC2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58DA4F-7D84-447B-B729-ADE02B3FDBE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95AA03-A2D5-4365-97BA-88D8DFF209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6E05A6-CC5E-4376-93CF-EA989F19CD6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9C0883-1320-4D24-B288-4DD1D3E4377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C52FC0-AC27-4285-B98E-2FD5BC0D0AA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D27A03-9731-44F6-BD18-B6CB451C970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8C85A3-2D38-4385-BA07-1BFB102B20A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A5C8D1-ACB0-4C20-862D-8E436466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00203D-1991-4F87-9EE8-3CE69EAC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5C4FAD-F96D-4FF4-A83E-D106BDD8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26D2CF-7BF2-4079-A1D7-ED822522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947B85-20F2-4C37-B35A-8623F604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D9F8B6-28C5-4E5E-A604-051EE31F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8B5A5E-BC9C-40CE-BC4F-93F24863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798EF3-95B6-43D3-BB61-8347158F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967A6B-ADCC-4C2D-AFF1-907FF749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31AD44-2611-4C51-996A-D14EFCE5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B92473-4953-423F-8A99-4C5EE164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4996E9-711D-4961-B2FE-62BA8A19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AB033-69A6-483E-BBE0-E0C49EADB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68619-0A2C-40FF-8AB5-D178918D73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43A8B-8D38-4856-853F-4EDC3C0600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AB458-6C83-421A-84F6-EEB7C8C360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7433A-CA52-4CF1-BD48-00E979DD27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DE441-624B-4723-853D-FF83163D50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FC781-AA41-4AC9-9333-43FC678E87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73A7D-CA36-4903-8451-360949E3EE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7412B-6A67-4942-BFA8-21F9864354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1399C-7DCF-4F90-9BF8-48C0BE013F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33C81-C7F7-4CC4-B370-0C9F06CBE3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94242-4E3E-40A6-BB01-9DC7E7BE05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23A3A-D329-4D80-983A-378FBE7194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4B498-989F-43BA-AEA8-B2C8D07A65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78C4DF-EBC6-42EB-87A8-F83EF7EBB3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3AA11C-1DFB-419A-9ECF-61CEC06D7D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4EBEBE-0875-4638-8058-E413EC716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43B17-FC30-4D89-8309-B409EB4EAF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EC97E8-7DDF-4484-BAD9-D88DD902FB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977050-74E6-407E-AB47-AA29BC341D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ACB032-A956-4D1F-B088-B3D0291CCB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27B244-3955-4CF8-BB31-0A3C62D1A8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D82EB8-09B3-455B-B569-0CE43D8C83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B13CAB-FECD-48A4-86FC-D1FB470D9A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73AFDC-977E-4B81-A762-6EDED597AE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2C2724-9C9D-4769-80C6-18DD9EEE7D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12689E-E9F1-46E4-A627-3F4062F6DAD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40872-1110-4512-B52F-C50E3795F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5EBD2-D969-44EB-B9C0-969C9D10D77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D0730-9680-4950-92CC-8EFE8F7CC62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D7745-67AA-4BBD-B3BE-382F7C8A81E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8A4AE-66C7-42AD-A60F-59BC4B03FD4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B161-AC32-43AC-81C9-C0A555A0EF2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16015-8409-4E29-8CEB-6F3E8464472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ACDDB-152F-4DA3-8ED5-EBDE3C091A2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3AFED-5605-4FF5-9012-F47E58941CD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E65BF-4649-4CC3-94D8-EFA06CA41C5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8F385-53DC-4E2C-B1B2-FBF64802722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FC730-DC52-49F2-98A8-0915F09B6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35DE0-448C-4973-8358-85617BCCED7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59DAD-D4FA-4316-BB1B-B985BE13965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909B9F-7B89-40DF-8992-23010B4E59E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3F1D42-7A88-4033-810B-D6F9CE3A2D8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1D2A8-75DC-49BE-8862-DAE6BE8DB6C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291503-E4B2-430D-A058-2F7359FF0CD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D69DD9-3019-4B6B-9F41-C7109C76D70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1592FA-22CD-4F38-9551-6C6334A48A1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C036A5-C5E3-4997-9674-58F575A5908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BBD068-309B-47E0-AA7A-2AE4D83734A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EE55C2-F50C-4C24-BDA9-3DA63F86C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83351-550B-471B-A7C3-A6B572D8B79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38E3F5-D5EC-437A-A626-7DA65C37020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7500FB-35FE-4B4C-A7EA-B7C2E8AD212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E1BEB4-B7C5-40CA-9F09-3565475AC3C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CFC4D9-D50F-4AE6-B6B7-12F1FD6A054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EF0743-43E4-479D-A019-8B635601A35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3B7024-E940-4B97-A9C6-09C80649135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237AB4-2AFF-4240-AA85-62EF62DD8D5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3E675C-F8DB-4925-B964-09ED29A6530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1A710D-5320-492C-810C-758954D57DE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C63C57-3329-4F46-958A-F8BFEB12E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8EEA1-CD88-4C17-A47D-E8E16E9AF4C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CF5A71-3AD2-4DF5-A4E5-9178F87C001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4EBD86-DB47-45CF-ACB9-4FB1D9ACCC7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852129-948D-4AF8-9C13-6ED3C692C76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40254C-00A2-4FFF-9BA7-35631ECDEF4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6305D8-174E-460A-A55D-19BEDC5CE31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3ED03-9C58-43F5-9F29-68CCA01975B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07A38-1DF9-4FB4-801F-AB60F13EAAE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D1804-4586-4FD2-A527-617476D4225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E0F08-DB3C-4A0C-8A7C-B7F2FA4D812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43349-21B0-4A2B-ABF9-1E3E5660C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F1651-4892-4B56-AC8B-2BB864415A3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86051-39D2-4B2B-B9E7-137D2B7F056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02959-55E1-485A-8487-D9517C1650A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2FD61-4647-45A6-AA8A-367FE45AED9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39608-52DF-4AD5-AD7B-AC4AFA35AB4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B7BCA-C56E-4EF1-8593-C51817A9CCD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B4393-00EB-42A0-9166-CCDEA186703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25949-EC6E-499B-BB10-24A3A5BB100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75D526-E041-4DC4-878A-D03265A4866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77339F-F9CA-4E2B-8462-572B9F4A97C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A1E002-5714-4211-A495-B89600588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0C82-7FB0-48BB-BF84-5B9B8A5F4805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8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9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41CA-C9F7-4156-AEF6-1588092147F6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20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21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BFEB-315B-4E7D-82AF-5B24C9AFD78F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22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3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65AE-F3B3-412D-B47D-277B22E17F73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5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26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10B3-B917-4548-B6C5-F36E2F7F4A5A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1440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4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5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D797-1F29-49B6-A0B1-B2023D540234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6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693E-C5CC-44E0-B5E9-BEF0C242A1F5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2101-F7E2-4A90-B32F-BE067A8A56BD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777F-880D-4631-B92B-8F9CF18BB43C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2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3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7021-E86C-491A-85EE-847B6F45CB9C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14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5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60B3-3F31-4C1F-A555-F6BFE5D3A6EF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ftr" idx="16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sldNum" idx="17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4D1F-24CF-426B-AF33-62C14ED7E6EC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fpa.br/dicas/treina.htm" TargetMode="Externa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Rectangle 2067"/>
          <p:cNvSpPr/>
          <p:nvPr/>
        </p:nvSpPr>
        <p:spPr>
          <a:xfrm>
            <a:off x="1219320" y="2133720"/>
            <a:ext cx="7086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  <a:ea typeface="Arial"/>
              </a:rPr>
              <a:t>CUIDADOS DE HIGIENE AO UTENTE: HIGIENE O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2065"/>
          <p:cNvSpPr/>
          <p:nvPr/>
        </p:nvSpPr>
        <p:spPr>
          <a:xfrm>
            <a:off x="609480" y="4724280"/>
            <a:ext cx="81536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  <a:ea typeface="Arial"/>
              </a:rPr>
              <a:t>Módulo 7: Bases científicas para prática de Enfermagem II – Fundamentos de Enfermag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giene oral do utente pelo enfermeiro: procediment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390560" y="1197000"/>
            <a:ext cx="4753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uião de Procedimentos Básicos de Enfermagem. Páginas 15/16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formador pede dois alunos voluntários. Um fará o papel de utente e outro, o papel de enfermeiro. Considerar que o utente está impossibilitado de realizar sua higiene oral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demais estudantes vão lendo paulatinamente os passos do procedimento no Guião, enquanto o colega vai demonstrando sob supervisão do formador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7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8" name="Picture 4" descr="http://t0.gstatic.com/images?q=tbn:ANd9GcR-1x5wOtPpapkbqYmggGM3lrIRxrLHg9JKtbsd-9EnE05gyZCbfQ"/>
          <p:cNvPicPr/>
          <p:nvPr/>
        </p:nvPicPr>
        <p:blipFill>
          <a:blip r:embed="rId1"/>
          <a:stretch/>
        </p:blipFill>
        <p:spPr>
          <a:xfrm>
            <a:off x="468360" y="1484280"/>
            <a:ext cx="3886200" cy="4664160"/>
          </a:xfrm>
          <a:prstGeom prst="rect">
            <a:avLst/>
          </a:prstGeom>
          <a:ln w="0">
            <a:noFill/>
          </a:ln>
        </p:spPr>
      </p:pic>
      <p:sp>
        <p:nvSpPr>
          <p:cNvPr id="589" name="CaixaDeTexto 7"/>
          <p:cNvSpPr/>
          <p:nvPr/>
        </p:nvSpPr>
        <p:spPr>
          <a:xfrm>
            <a:off x="5029200" y="5715000"/>
            <a:ext cx="3809880" cy="64260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isponibilizar os materiais necessários e E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Registos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6840" y="1143000"/>
            <a:ext cx="83818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pós a higiene oral, o enfermeiro deve registar no processo do utente o procediment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crescentar registos sobre as condições da mucosa oral, gengivas, cáries, vermelhidão, sangramento, ressecamento dos lábios, dificuldade de mastigação e outr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2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3" name="Picture 9" descr="fichario">
            <a:hlinkClick r:id="rId1"/>
          </p:cNvPr>
          <p:cNvPicPr/>
          <p:nvPr/>
        </p:nvPicPr>
        <p:blipFill>
          <a:blip r:embed="rId2"/>
          <a:stretch/>
        </p:blipFill>
        <p:spPr>
          <a:xfrm rot="1300200">
            <a:off x="2480760" y="4068720"/>
            <a:ext cx="188280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giene o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9" name="Picture 2" descr="http://t0.gstatic.com/images?q=tbn:ANd9GcSoPkok_6EJlMPolHU-uItp7uKewtuGhoPe44zcmDHbzzoFPhwk"/>
          <p:cNvPicPr/>
          <p:nvPr/>
        </p:nvPicPr>
        <p:blipFill>
          <a:blip r:embed="rId1"/>
          <a:stretch/>
        </p:blipFill>
        <p:spPr>
          <a:xfrm>
            <a:off x="2050920" y="1125360"/>
            <a:ext cx="63453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giene o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6840" y="182880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higiene oral reduz a colonização local, sendo importante para prevenir e controlar infecções, diminuir a incidência de cáries dentárias, manter a integridade da mucosa bucal, evitar ou reduzir a halito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 ser feita pela manhã, após as refeições e antes de deitar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2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giene oral do utente ativ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68000" y="1628640"/>
            <a:ext cx="838188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É realizada pelo próprio utent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O enfermeiro deve solicitar o material aos familiar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proveitar a estadia do utente no hospital para observar a escovação, ensinando a técnica correta quando necessário e a importância da troca de escova a pelo menos cada 2/3 mêse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5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giene oral do utente ativ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6840" y="1142640"/>
            <a:ext cx="838188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rientações dadas pelo enfermeir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cove as superfícies voltadas para a bochecha dos dentes superiores e, depois, dos inferiores (1)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cove as superfícies internas dos dentes superiores e, depois, dos inferiores (2)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 seguida, escove as superfícies de mastigação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ra ter hálito puro, escove também a língua, local onde muitas bactérias ficam alojadas (3)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8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9" name="Picture 2" descr="http://www.colgate.com.br/Colgate/BR/OC/Information/Images/ArticleImages/OHB/GoodOralHygiene/BrushingAndFlossing/brush1.jpg"/>
          <p:cNvPicPr/>
          <p:nvPr/>
        </p:nvPicPr>
        <p:blipFill>
          <a:blip r:embed="rId1"/>
          <a:stretch/>
        </p:blipFill>
        <p:spPr>
          <a:xfrm>
            <a:off x="1116000" y="4076640"/>
            <a:ext cx="2160720" cy="22194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4" descr="http://www.colgate.com.br/Colgate/BR/OC/Information/Images/ArticleImages/OHB/GoodOralHygiene/BrushingAndFlossing/brush2.jpg"/>
          <p:cNvPicPr/>
          <p:nvPr/>
        </p:nvPicPr>
        <p:blipFill>
          <a:blip r:embed="rId2"/>
          <a:stretch/>
        </p:blipFill>
        <p:spPr>
          <a:xfrm>
            <a:off x="3635280" y="4076640"/>
            <a:ext cx="2183040" cy="22431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" descr="http://www.colgate.com.br/Colgate/BR/OC/Information/Images/ArticleImages/OHB/GoodOralHygiene/BrushingAndFlossing/brush3.jpg"/>
          <p:cNvPicPr/>
          <p:nvPr/>
        </p:nvPicPr>
        <p:blipFill>
          <a:blip r:embed="rId3"/>
          <a:stretch/>
        </p:blipFill>
        <p:spPr>
          <a:xfrm>
            <a:off x="6089760" y="4056120"/>
            <a:ext cx="2193840" cy="2252520"/>
          </a:xfrm>
          <a:prstGeom prst="rect">
            <a:avLst/>
          </a:prstGeom>
          <a:ln w="0">
            <a:noFill/>
          </a:ln>
        </p:spPr>
      </p:pic>
      <p:sp>
        <p:nvSpPr>
          <p:cNvPr id="562" name="CaixaDeTexto 8"/>
          <p:cNvSpPr/>
          <p:nvPr/>
        </p:nvSpPr>
        <p:spPr>
          <a:xfrm>
            <a:off x="2987640" y="4076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CaixaDeTexto 9"/>
          <p:cNvSpPr/>
          <p:nvPr/>
        </p:nvSpPr>
        <p:spPr>
          <a:xfrm>
            <a:off x="7956720" y="4076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CaixaDeTexto 10"/>
          <p:cNvSpPr/>
          <p:nvPr/>
        </p:nvSpPr>
        <p:spPr>
          <a:xfrm>
            <a:off x="5508720" y="4076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giene oral do utente com limitaçõ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acompanhante pode ser orientado para realizar a higiene oral, desde que o utente esteja consci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e deve ser preparado para o procedimento correcto, inclusive o uso de EPI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enfermeiro deve observar os primeiros procedimentos até certificar as condições de realização pelo acompanha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so a higiene oral seja realizada pelo acompanhante, o enfermeiro não deve deixar de tomar conhecimento sobre os horários de realização, as condições da mucosa oral do utente, ressecamento dos lábios, sangramento e outr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7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giene oral do utente inconsci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m pacientes inconscientes compete ao enfermeiro lavar-lhe os dentes,gengivas, bochechas, língua e lábios com o auxílio de uma espátula envolvida em gaze umedecida em solução dentifrícia ou solução de bicarbonat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pós verificação, se necessário, aplicar um lubrificante nos lábios para prevenir rachaduras que facilitam a penetração de microrganismos, infecção e dificultam a alimentaçã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0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giene oral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6840" y="11430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aterial necessári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po com águ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cova de dentes ou espátula montadacom algodão ou compress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sta dentífric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uvete ou copo descartáve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oalha de ros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Vaselina (protecção dos lábios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3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4" name="Picture 2" descr="http://inet.sitepac.pt/CopoAgua.jpg"/>
          <p:cNvPicPr/>
          <p:nvPr/>
        </p:nvPicPr>
        <p:blipFill>
          <a:blip r:embed="rId1"/>
          <a:stretch/>
        </p:blipFill>
        <p:spPr>
          <a:xfrm>
            <a:off x="4952880" y="1143000"/>
            <a:ext cx="1524240" cy="16956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http://t3.gstatic.com/images?q=tbn:ANd9GcRN_eFqwe9sZ1_I3BGaqMd-eZzrNqAY1LUJ5YZTxn_HrICVfsHT"/>
          <p:cNvPicPr/>
          <p:nvPr/>
        </p:nvPicPr>
        <p:blipFill>
          <a:blip r:embed="rId2"/>
          <a:stretch/>
        </p:blipFill>
        <p:spPr>
          <a:xfrm>
            <a:off x="6400800" y="990720"/>
            <a:ext cx="2266920" cy="2009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6" descr="http://t1.gstatic.com/images?q=tbn:ANd9GcRW0guKNthBe69PH7klad4_YdrEswPI-62I0IowuzUKAvFAhKpNxg"/>
          <p:cNvPicPr/>
          <p:nvPr/>
        </p:nvPicPr>
        <p:blipFill>
          <a:blip r:embed="rId3"/>
          <a:stretch/>
        </p:blipFill>
        <p:spPr>
          <a:xfrm>
            <a:off x="4419720" y="3166920"/>
            <a:ext cx="2303280" cy="11955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8" descr="http://t1.gstatic.com/images?q=tbn:ANd9GcSiAqlaeJQDXk8ydGXEMlqqayuLphpHPy38CJmZJkP6feoVDrTiGw"/>
          <p:cNvPicPr/>
          <p:nvPr/>
        </p:nvPicPr>
        <p:blipFill>
          <a:blip r:embed="rId4"/>
          <a:stretch/>
        </p:blipFill>
        <p:spPr>
          <a:xfrm>
            <a:off x="6858000" y="2971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0" descr="http://t1.gstatic.com/images?q=tbn:ANd9GcRtJ9aOnzmhHSQKN8OmfxghurI9Ue5oGU7c7NZ5PT_waT50-3ds"/>
          <p:cNvPicPr/>
          <p:nvPr/>
        </p:nvPicPr>
        <p:blipFill>
          <a:blip r:embed="rId5"/>
          <a:stretch/>
        </p:blipFill>
        <p:spPr>
          <a:xfrm>
            <a:off x="4648320" y="449568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2" descr="http://t0.gstatic.com/images?q=tbn:ANd9GcTKJR3TqixI-5y8xM1-ah2QjqBfoPcGX-CFDATAkJo5xjcal-sF8Q"/>
          <p:cNvPicPr/>
          <p:nvPr/>
        </p:nvPicPr>
        <p:blipFill>
          <a:blip r:embed="rId6"/>
          <a:stretch/>
        </p:blipFill>
        <p:spPr>
          <a:xfrm>
            <a:off x="7010280" y="4557600"/>
            <a:ext cx="158760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giene oral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6840" y="114264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PI necessári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uvas de procedimento;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áscara;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Óculos;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vental plástico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2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3" name="Picture 2" descr="http://t0.gstatic.com/images?q=tbn:ANd9GcSoPkok_6EJlMPolHU-uItp7uKewtuGhoPe44zcmDHbzzoFPhwk"/>
          <p:cNvPicPr/>
          <p:nvPr/>
        </p:nvPicPr>
        <p:blipFill>
          <a:blip r:embed="rId1"/>
          <a:stretch/>
        </p:blipFill>
        <p:spPr>
          <a:xfrm>
            <a:off x="4087800" y="2286000"/>
            <a:ext cx="4680000" cy="3505320"/>
          </a:xfrm>
          <a:prstGeom prst="rect">
            <a:avLst/>
          </a:prstGeom>
          <a:ln w="0">
            <a:noFill/>
          </a:ln>
        </p:spPr>
      </p:pic>
      <p:sp>
        <p:nvSpPr>
          <p:cNvPr id="584" name="CaixaDeTexto 6"/>
          <p:cNvSpPr/>
          <p:nvPr/>
        </p:nvSpPr>
        <p:spPr>
          <a:xfrm rot="20153400">
            <a:off x="651960" y="350748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gorro também é importante para evitar salpicos no cabelo do trabalhad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13:33:16Z</dcterms:created>
  <dc:creator>Escolastica</dc:creator>
  <dc:description/>
  <dc:language>en-US</dc:language>
  <cp:lastModifiedBy>Hamido</cp:lastModifiedBy>
  <dcterms:modified xsi:type="dcterms:W3CDTF">2011-07-26T13:16:15Z</dcterms:modified>
  <cp:revision>12</cp:revision>
  <dc:subject/>
  <dc:title>Slide 1</dc:title>
</cp:coreProperties>
</file>