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gency FB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57E1-F061-493A-BC78-67B881F3A4F3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C538-DE68-43EC-AD06-37A5BB5F9D53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F00DA-783D-4CC6-BA36-3A808506E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5E641-A09B-4444-8783-1C8F648B5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2EFFC-AA63-4C17-9FF0-310328CB8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30894-7BF1-4D62-B67A-C697CA566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9E5D5-DEB0-45E4-BB39-2FD94E1F9A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656CA-211B-4184-B4E0-C89AC7ED3A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9CAD1-CCF2-40EF-886E-8BF899D0E9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DD6E2-B689-4F95-BBA9-079EF26490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57D29-221F-4436-964B-45A0FF3906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B63B7-8DFB-4A1C-9766-DB7E52B767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F5C66-23C3-4881-8588-F6C43D9E15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78460-4F28-4CD8-84BB-6BCAAC3AE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D288D-10B7-4F12-8B6A-F56FA1A1F7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6997F-85BF-4729-A4F2-500627A0AF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32BC8-229E-445D-B9E8-FEC51048A2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AB246-CC48-4BD6-AD68-7D1F25A671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7E3FE-8331-4E38-B7ED-2C09B75BCC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B69CB-D23D-4D92-97F1-2601A9469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40D49-4AB9-4087-B273-0A7E844DD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D2751-969F-4637-ACA1-181A4BC07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D494B-148F-44C5-A771-FFE0136B6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A434B-82AA-4EC3-8D67-399F44EA8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F9F24-FCF7-40B8-B72D-025F806D5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ED65F-3428-4E6A-BF60-3020C73C5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7671-42C8-4CCA-8361-3B214BAB012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14400" y="19810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D2DF-2EF3-43EB-B060-EFE453C2323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1523520"/>
            <a:ext cx="5486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Arial"/>
              </a:rPr>
              <a:t>Fundamentos de Enfermagem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160" y="46483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Módulo 10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Bases Científicas para a Prática de Enfermagem II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Curso de Enfermagem Geral</a:t>
            </a:r>
            <a:endParaRPr b="1" lang="en-US" sz="20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4B2A-41C2-4714-B384-1D2BE0AF843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</a:rPr>
              <a:t>CONT. DE TRANSFERÊNCIA DA CAMA PARA A MACA E VICE-VERSA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Deve-se ter a maca colocada perpendicularmente aos pés da cam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écnica de transferência da maca para a cam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É a mesma técnica como a anterior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ANSFERÊNCIA DO UTENTE DA CAMA PARA A CADEIRA DE RODAS E VICE-VERSA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Para transferir o paciente da cama para a cadeira a técnica é idêntica à de o fazer sentar na berma da cam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 Enfermeiro posiciona o paciente com o decúbito voltado para a berma da cam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Elevar a cabeceira da cama, e colocar-se numa posição que lhe permite segurar as costas do paciente com uma mão enquanto outra segura os membros inferior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ANSFERÊNCIA DO UTENTE DA CAMA PARA A CADEIRA DE RODAS  E VICE-VERSA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Colocar o paciente sentado na cadeira e os pés no chão.Largar o paciente suavemente, controlando-o para não cair nem se cansar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Frequentemente os pacientes reaprendem a andar depois de longo tempo de repouso no leit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AMBULAÇÃO ASSISTID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Normalmente esta tarefa é do Departamento da Fisioterapia, mas por vezes tem havido necessidade de o Enfermeiro ajudar o pacient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Existem muitos métodos de o Enfermeiro auxiliar o paciente a deambular, mas cabe a ele selecionar o melhor para cada situação</a:t>
            </a:r>
            <a:r>
              <a:rPr b="0" lang="en-US" sz="2800" spc="-1" strike="noStrike">
                <a:solidFill>
                  <a:srgbClr val="000066"/>
                </a:solidFill>
                <a:latin typeface="Agency FB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. DA DEAMBULAÇÃO ASSISTID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º-Um dos métodos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 Enfermeiro segura o braço mais próximo do paciente sob seu braço ao nível do cotovelo e segura a mão dele na sua. Sincroniza seus passos com os dele e movendo seu pé internamente para a frente ao mesmo tempo que o paciente move o seu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. DE DEAMBULAÇÃO ASSISTID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gency FB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utro Método (2)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 Enfermeiro pega na mão esquerda do paciente na sua própria e passa o braço direito em volta da sua cintur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qui também o andar é sincronizado para proporcionar uma base de sustentação bem ampl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utro Método (3)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 Enfermeiro apoia o paciente segurando-o pela cintura por detrá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.DE DEAMBULAÇÃO ASSISTID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Isto pode ser feito com ajuda duma toalha dobrada ao cumprido e colocada em volta da cintura, isto ajuda a manter o equilíbrio.Pode-se usar cintos próprio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POIO AO UTENTE COM DIFICULDADES NA MARCHA</a:t>
            </a:r>
            <a:endParaRPr b="1" lang="en-US" sz="30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Arial"/>
              </a:rPr>
              <a:t>APOIO AO UTENTE COM DIFICULDADES NA       </a:t>
            </a:r>
            <a:endParaRPr b="1" lang="en-US" sz="4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Arial"/>
              </a:rPr>
              <a:t>MARECHA</a:t>
            </a:r>
            <a:endParaRPr b="1" lang="en-US" sz="4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MPETÊNCIAS              </a:t>
            </a:r>
            <a:endParaRPr b="1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O ESTUDANTE DEVE SER CAPAZ DE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1- Identificar as técnicas que ajuda o utente a desenvolver a força muscular dos membros superiores e inferior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2- Executar as técnicas que devem ser usadas pelo Enfermeiro para ajudar o utente a deambular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3-Citar orientações gerais que se aplicam na transferência de pacient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2480" y="6335640"/>
            <a:ext cx="502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Curso de Enfermagem  Geral e  de </a:t>
            </a:r>
            <a:r>
              <a:rPr b="0" lang="pt-PT" sz="1400" spc="-1" strike="noStrike">
                <a:solidFill>
                  <a:srgbClr val="000000"/>
                </a:solidFill>
                <a:latin typeface="Agency FB"/>
              </a:rPr>
              <a:t>Saúde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Materno-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. DE COMPETÊNCI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4-Descrever a maneira mais correcta de deambular com ajuda de muleta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5- Identificar os factores físicos que condicionam a deambulaçã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MPORTÂNCIA DA MARCH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1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 importância da marcha é tão vital que leva todas as criaturas vivas  a movimentarem-se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. DA IMPORTÂNCIA DA MARCH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 perda de marcha diminui o conceito que a pessoa tem de si mesma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ua imagem é afectada e ela se considera diminuida principalmente se estiver atingido também o sistema génito-urinário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Muitas vezes o Enfermeiro é solicitado a ajudar um paciente a locomover-se ou a mudar de posição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      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C73A-B139-430E-991B-D15A3BB25C4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. de ajuda na march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 ajuda do Enfermeiro ao paciente deve ser feita com movimentos suaves e seguros, baseados em seus conhecimentos da mecânica corporal, o que não só ajuda o paciente a locomover-se facilmente, como também lhe dá a sensação de confiança no Enfermeir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TIPOS DE APOI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s tipos de apoio ao utente com dificuldades de marcha podem compreender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-Andarilh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2-Cadeira de roda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3-Muleta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4-Bengal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   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s pacientes necessitam de usar os músculos das suas mãos, braços e ombros para ter a força adicional na utilização deste tipo de meios auxiliares da marcha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TRANSFERÊNCIA DA CAMA PARA A MACA 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VICE-VERES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6765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écnica de transferência de um paciente da cama para a maca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e vice-versa exige a presença de três Enfermeiros ( 3 pessoas)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Um segura a parte superior do utente, outro no meio e outro nos pés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 da parte superior coordena os seus dois colega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          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Hamido</cp:lastModifiedBy>
  <dcterms:modified xsi:type="dcterms:W3CDTF">2011-06-16T14:14:09Z</dcterms:modified>
  <cp:revision>807</cp:revision>
  <dc:subject/>
  <dc:title>ANATOMIA E FISIOLOGIA HUMANA</dc:title>
</cp:coreProperties>
</file>