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F59E-1761-4B07-AA5E-83573011DFBD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4833-8A7D-4FC7-AEC9-F66F470E75B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E407-0DBF-43FD-BE29-5E4101B692A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1BD8-F854-4E7E-A742-E941851176A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6A6F-913C-4630-A0B1-34E28FAA636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2F75C-6236-4A83-9680-C5628EA72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54224-82AC-4907-8E34-584A8C587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FC941-5B48-464B-B141-7D71ED26C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2ACB2-0D1B-4D45-8CE3-FAF5ED842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331C9-6657-43BE-9492-1F1CA2B2F7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442AF-F7E9-4F0E-98F5-7F3E035E10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26416-3B5E-41F7-B91B-6196761015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17641-E0A1-42EE-8704-CCB85C6F7B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70757-9CCD-4151-AC48-5D4B6BCD1C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6137B-45F4-43BC-A326-F500D95429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E3DF4-F0B4-455C-9C19-EAB1DB33A0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1AFE9-AB67-47B0-BF0E-D7EDB08C60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76E27-4629-4D47-A533-10508A194D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6F7FB-A92C-40C5-9721-EFC6750AB9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45E92-44B5-4E97-AF5A-E11413BA38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FF5FE-F886-48E8-AEA7-E7B022BBA8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62392-58DD-4D36-BCE2-6784736A24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3B9EB-CB62-4245-9980-A64A04BF7B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81824-CBE9-4F6D-A11C-CC4373DC16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8F183-DA2F-4191-BBD7-561108160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ACEB9-3411-4C09-9DF7-E8537F611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0FD61-3373-46D9-8E47-3BD13DE22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F6FAE-7EEF-4D74-8974-A84ADEB3C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3021D-C5CE-49AE-85CE-A8C544185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31C4-4FE7-4807-A36A-B79A0FA0CA0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5398-3463-4471-81D9-2EEF41896EA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62892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128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Jhpiego_logo"/>
          <p:cNvPicPr/>
          <p:nvPr/>
        </p:nvPicPr>
        <p:blipFill>
          <a:blip r:embed="rId2"/>
          <a:stretch/>
        </p:blipFill>
        <p:spPr>
          <a:xfrm>
            <a:off x="7772400" y="61722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" descr=""/>
          <p:cNvPicPr/>
          <p:nvPr/>
        </p:nvPicPr>
        <p:blipFill>
          <a:blip r:embed="rId3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6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7040" y="182844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Arial"/>
              </a:rPr>
              <a:t>ASPIRAÇÃO DE SECREÇÕES NAS VIAS RESPIRATÓRIAS 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23520" y="4724280"/>
            <a:ext cx="61722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Módulo 6 – Fundamentos de Enfermag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Aula 11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Rectangle 39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761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spiração orotraqueal e Nasotraque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00400" y="1828440"/>
            <a:ext cx="5410080" cy="2971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A retirada das secreções da traqueia precisa ser asséptica, atraumática e eficaz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Aspirar inicialmente a traqueostomia, seguindo a cavidade nasal e oral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idea-lamp-257x300.jpg"/>
          <p:cNvPicPr/>
          <p:nvPr/>
        </p:nvPicPr>
        <p:blipFill>
          <a:blip r:embed="rId1"/>
          <a:stretch/>
        </p:blipFill>
        <p:spPr>
          <a:xfrm>
            <a:off x="479520" y="2057400"/>
            <a:ext cx="234936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761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spiração orotraqueal e Nasotraque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ontent Placeholder 2"/>
          <p:cNvSpPr/>
          <p:nvPr/>
        </p:nvSpPr>
        <p:spPr>
          <a:xfrm>
            <a:off x="380880" y="3124080"/>
            <a:ext cx="82296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Complicações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Hipoxia e dispneia, pela remoção de oxigénio com as secreçõ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porciona ansiedade e inquietação, podendo alterar o padrão respiratór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s arritmias cardíacas </a:t>
            </a:r>
            <a:r>
              <a:rPr b="1" lang="pt-PT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resulta da hipoxia e do estimulo ao nervo vago (ramo traqueobronquica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raumatismo da traqueia ou brônquic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angramento </a:t>
            </a:r>
            <a:r>
              <a:rPr b="1" lang="pt-PT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em pacientes que usam anticoagulantes ou com discrasia sanguíne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fecções sistémicas  e pulmonares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467480" cy="761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is Necessa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Tabuleiro contend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EPI: mascara cirúrgica, óculos, avental plástico, 2 pares de luvas 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Aspirador fixo ou portátil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Frasco colector e extensão de borrach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2 Sondas de aspiração com ou sem dispositivo para controlar a sucçã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Sering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Frasco (250 ml) de soro fisiológico ou água destilad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Ambu conectado a fonte de oxigéni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Toalha de rosto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197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900" spc="-1" strike="noStrike">
                <a:solidFill>
                  <a:srgbClr val="ffffff"/>
                </a:solidFill>
                <a:latin typeface="Arial"/>
              </a:rPr>
              <a:t>Assistência de Enfermagem – Prática LH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ff0000"/>
                </a:solidFill>
                <a:latin typeface="Arial"/>
              </a:rPr>
              <a:t>Preparação do Procedimento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umprimentar o utente e identifique-s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valiar os sinais e sintomas de obstrução das vias aéreas superiores e inferior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valiar os sinais e sintomas associados a hipoxia: </a:t>
            </a:r>
            <a:r>
              <a:rPr b="1" i="1" lang="pt-PT" sz="2400" spc="-1" strike="noStrike">
                <a:solidFill>
                  <a:srgbClr val="000066"/>
                </a:solidFill>
                <a:latin typeface="Arial"/>
              </a:rPr>
              <a:t>apreensão, ansiedade, menor capacidade de concentração, letargia, ↓ consciência, fadiga, irritabilidade, palidez, cianose e dispnei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xplicar o procedimento e pedir a sua colaboração, se possíve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ncorajar o paciente a tossir durante o procedimen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197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900" spc="-1" strike="noStrike">
                <a:solidFill>
                  <a:srgbClr val="ffffff"/>
                </a:solidFill>
                <a:latin typeface="Arial"/>
              </a:rPr>
              <a:t>Assistência de Enfermagem - Prática LH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Ajudar o paciente a assumir a posição de fowler ou semi-fowler, com a cabeça em hiperextensã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olocar o oxímetro de pulso no dedo do pacien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olocar a toalha sobre o tórax do pacien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Lavar as mão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reparar material para aspiração de secreções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Abrir o kit de aspiração (usando técnica asséptica)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Desembrulhar a cápsula/cuvete e colocar na cabeceira, enche-a de 100 ml de Soro fisiológic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Conectar uma ponta do tubo ao aspirador e testar a funcionalidade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Ligar e acertar a pressão do aspirador: De parede (80 a 120 mmHg) e portátil (7 a 15 mmHg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900" spc="-1" strike="noStrike">
                <a:solidFill>
                  <a:srgbClr val="ffffff"/>
                </a:solidFill>
                <a:latin typeface="Arial"/>
              </a:rPr>
              <a:t>Assistência de Enfermagem - Prática LH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ff0000"/>
                </a:solidFill>
                <a:latin typeface="Arial"/>
              </a:rPr>
              <a:t>Aspiração Orofaríngea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Usar a máscara cirúrgica ou protector facial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Usar as luvas de procedimento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renda o cateter de aspiração ao tubo de conexã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Inserir o cateter na boca do paciente, mover o cateter pelo interior da boca, incluindo a faringe e linha das gengivas até a completa limpeza de secreçõe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Encorajar o paciente a tossir e repetir a aspiração SO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Limpar o cateter sugando o soro fisiológico da cuve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oloque o cateter num lugar limpo e desligar o aparelho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900" spc="-1" strike="noStrike">
                <a:solidFill>
                  <a:srgbClr val="ffffff"/>
                </a:solidFill>
                <a:latin typeface="Arial"/>
              </a:rPr>
              <a:t>Assistência de Enfermagem - Prática LH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ff0000"/>
                </a:solidFill>
                <a:latin typeface="Arial"/>
              </a:rPr>
              <a:t>Aspiração Nasofaríngea e Nasotraqueal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Aumentar a quantidade de oxigénio em 100%, se não for  contra-indicado e encorajar a respiração profund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olocar luvas estéreis em ambas mão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onectar o cateter ao tubo de conexão sem tocar nas áreas não estérei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Verificar o funcionamento do aspirador aspirando a solução na cuve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obrir cerca de 6 a 8 cm do cateter com lubrificante hidrossolúvel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Remover o equipamento de oxigénio. </a:t>
            </a:r>
            <a:r>
              <a:rPr b="1" lang="pt-PT" sz="2300" spc="-1" strike="noStrike" u="sng">
                <a:solidFill>
                  <a:srgbClr val="ff0000"/>
                </a:solidFill>
                <a:uFillTx/>
                <a:latin typeface="Arial"/>
              </a:rPr>
              <a:t>Sem aplicar a aspiração</a:t>
            </a:r>
            <a:r>
              <a:rPr b="1" lang="pt-PT" sz="23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 inserir delicadamente o cateter nas narina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900" spc="-1" strike="noStrike">
                <a:solidFill>
                  <a:srgbClr val="ffffff"/>
                </a:solidFill>
                <a:latin typeface="Arial"/>
              </a:rPr>
              <a:t>Assistência de Enfermagem - Prática LH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Na aspiração Nasofaríngea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Seguir o curso natural das narinas, inclinando delicadamente o cateter para baixo, avançando ate a parte posterior da faringe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Aplicar a sucção intermitente por 10 a 15 segundos, colocando e retirando o polegar da mão dominante sobre o respiro do cateter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Retirar lentamente o cateter girando-o em vai-vem entre os dedos polegar e indicador.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Na aspiração Nasotraqueal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Seguir o curso natural das narinas, avançando o cateter ligeiramente inclinado para baixo um pouco acima da entrada da traqueia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Deixe o paciente respirar e inserir rapidamente 16 a 20 cm na traqueia. O paciente vai começar a tossir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900" spc="-1" strike="noStrike">
                <a:solidFill>
                  <a:srgbClr val="ffffff"/>
                </a:solidFill>
                <a:latin typeface="Arial"/>
              </a:rPr>
              <a:t>Assistência de Enfermagem - Prática LH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Na aspiração Nasotraqueal - Continuação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As posições opcionais para aspiração nasotraqueal: virar a cabeça do paciente para direita ajuda a aspirar o brônquio principal esquerdo. Virar para esquerda ajuda a aspirar o brônquio principal direito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Aplicar a sucção intermitente por 10 a 15 segundos, colocando e retirando o polegar da mão dominante sobre o respiro do cateter e lentamente retirando o cateter girando-o para frente e para trás entre o polegar e indicador dominantes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Encorajar o paciente a tossir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Recolocar o dispositivo de oxigénio, se aplicável.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Enxaguar o cateter e o tubo de conexão com soro fisiológico ou agua destilad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Verificar a necessidade de repetir o procedimento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900" spc="-1" strike="noStrike">
                <a:solidFill>
                  <a:srgbClr val="ffffff"/>
                </a:solidFill>
                <a:latin typeface="Arial"/>
              </a:rPr>
              <a:t>Assistência de Enfermagem - Prática LH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Registos de enfermagem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Data e hora da realização do procedimento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Características das secreções: quantidade, consistência, cor e odor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Estado cardiopulmonar do paciente: Comparar os sinais vitais do paciente e saturação do oxigénio antes e depois da aspiração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Resposta do paciente ao procedimento: facilidade de respirar e se a congestão diminuiu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266688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Conceituar aspiração de secreções, descrevendo os objectivos da aplicação da técnic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Reconhecer a importância de aspiração de secreções no utente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Seleccionar os materiais e EPI necessário para diferentes tipos de aspiração de secreções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Aplicar a técnica de aspiração de secreções usando os diferentes métodos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Down Arrow Callout 5"/>
          <p:cNvSpPr/>
          <p:nvPr/>
        </p:nvSpPr>
        <p:spPr>
          <a:xfrm>
            <a:off x="533520" y="1066680"/>
            <a:ext cx="8305560" cy="1600200"/>
          </a:xfrm>
          <a:prstGeom prst="downArrowCallout">
            <a:avLst>
              <a:gd name="adj1" fmla="val -21535"/>
              <a:gd name="adj2" fmla="val 24990"/>
              <a:gd name="adj3" fmla="val 25000"/>
              <a:gd name="adj4" fmla="val 64977"/>
            </a:avLst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2060"/>
                </a:solidFill>
                <a:latin typeface="Arial"/>
              </a:rPr>
              <a:t>Após a discussão deste tema os alunos deverão ser capaz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Referência Bibliográf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66"/>
                </a:solidFill>
                <a:latin typeface="Arial"/>
              </a:rPr>
              <a:t>MISAU. </a:t>
            </a:r>
            <a:r>
              <a:rPr b="1" i="1" lang="pt-PT" sz="2300" spc="-1" strike="noStrike">
                <a:solidFill>
                  <a:srgbClr val="000066"/>
                </a:solidFill>
                <a:latin typeface="Arial"/>
              </a:rPr>
              <a:t>Guião de Procedimentos Básicos de Enfermagem</a:t>
            </a:r>
            <a:r>
              <a:rPr b="0" lang="pt-PT" sz="2300" spc="-1" strike="noStrike">
                <a:solidFill>
                  <a:srgbClr val="000066"/>
                </a:solidFill>
                <a:latin typeface="Arial"/>
              </a:rPr>
              <a:t>. Maputo – Moçambique, 2009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66"/>
                </a:solidFill>
                <a:latin typeface="Arial"/>
              </a:rPr>
              <a:t>Potter &amp; Perry. </a:t>
            </a:r>
            <a:r>
              <a:rPr b="1" i="1" lang="pt-PT" sz="2300" spc="-1" strike="noStrike">
                <a:solidFill>
                  <a:srgbClr val="000066"/>
                </a:solidFill>
                <a:latin typeface="Arial"/>
              </a:rPr>
              <a:t>Fundamentos de Enfermagem</a:t>
            </a:r>
            <a:r>
              <a:rPr b="0" lang="pt-PT" sz="2300" spc="-1" strike="noStrike">
                <a:solidFill>
                  <a:srgbClr val="000066"/>
                </a:solidFill>
                <a:latin typeface="Arial"/>
              </a:rPr>
              <a:t>, 6ª Edição, Mosby Elsevier Editora Lda. São Paulo - Brasil, 2005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66"/>
                </a:solidFill>
                <a:latin typeface="Arial"/>
              </a:rPr>
              <a:t>KNOBEL, Elias. </a:t>
            </a:r>
            <a:r>
              <a:rPr b="1" i="1" lang="pt-PT" sz="2300" spc="-1" strike="noStrike">
                <a:solidFill>
                  <a:srgbClr val="000066"/>
                </a:solidFill>
                <a:latin typeface="Arial"/>
              </a:rPr>
              <a:t>Condutas no Paciente Grave</a:t>
            </a:r>
            <a:r>
              <a:rPr b="0" lang="pt-PT" sz="2300" spc="-1" strike="noStrike">
                <a:solidFill>
                  <a:srgbClr val="000066"/>
                </a:solidFill>
                <a:latin typeface="Arial"/>
              </a:rPr>
              <a:t>. Ed. Ateneu. São Paulo, 1994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66"/>
                </a:solidFill>
                <a:latin typeface="Arial"/>
              </a:rPr>
              <a:t>KISNER, Carolyn. </a:t>
            </a:r>
            <a:r>
              <a:rPr b="1" i="1" lang="pt-PT" sz="2300" spc="-1" strike="noStrike">
                <a:solidFill>
                  <a:srgbClr val="000066"/>
                </a:solidFill>
                <a:latin typeface="Arial"/>
              </a:rPr>
              <a:t>Exercícios Terapêuticos.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pt-PT" sz="2300" spc="-1" strike="noStrike">
                <a:solidFill>
                  <a:srgbClr val="000066"/>
                </a:solidFill>
                <a:latin typeface="Arial"/>
              </a:rPr>
              <a:t>Fundamentos e Técnicas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pt-PT" sz="2300" spc="-1" strike="noStrike">
                <a:solidFill>
                  <a:srgbClr val="000066"/>
                </a:solidFill>
                <a:latin typeface="Arial"/>
              </a:rPr>
              <a:t> Ed. Manole. São Paulo, 1996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00066"/>
                </a:solidFill>
                <a:latin typeface="Arial"/>
              </a:rPr>
              <a:t>LIPPERT, Lynn. 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inesiologia Clínica para Fisioterapeutas</a:t>
            </a:r>
            <a:r>
              <a:rPr b="0" lang="pt-PT" sz="2300" spc="-1" strike="noStrike">
                <a:solidFill>
                  <a:srgbClr val="000066"/>
                </a:solidFill>
                <a:latin typeface="Arial"/>
              </a:rPr>
              <a:t>. Ed. Revinter, Rio de Janeiro, 1996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66"/>
                </a:solidFill>
                <a:latin typeface="Arial"/>
              </a:rPr>
              <a:t>http://www.wgate.com.br/conteudo/medicinaesaude/fisioterapia/respiratoria/pneumo_cristina/pneumo_cristina.htm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543800" cy="838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spiração de Secreçã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1430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Conceit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E o procedimento utilizado para retirar secreções do trato respiratório e ou cavidade oral através de sucção por cateter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Importância: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Evitar a atelectasi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Aumentar a capacidade residual funcional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Facilitar as trocas gasosa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Melhorar o conforto respiratório do paci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Registar as características das secreçõe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Assegurar que as vias respiratórias estejam permeáveis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spiração de Secreçõ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Objectivos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Manter as vias aéreas livre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Retirar secreções do trato respiratório ou boca sem traumatism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Prevenir, tratar infecções respiratórias e vias aéreas superiores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Tipos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Nasal e oral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Nasotraqueal e Orofaringe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Nasofaríengea e orofaríngea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spiração Orofaríngea/Nasofarínge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Indicação: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acientes que não conseguem eliminar as secreções por deglutição ou expectoração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Contra-indicaçã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acientes que fazem anti-coagulante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acientes com distúrbios da coagulação, septicemia ou deformação nasofaringea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Complicações: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A infecção nos seios paranasais pode ser decorrente de obstrução da drenagem, assim como a possível aspiração de sangue pela traqueia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spiração  Nasal e Or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06632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s vias aéreas podem ser aspiradas a partir do nariz ou da bo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Quando o cateter é inserido no nariz, bem profundamente nas vias aéreas superiores, que e a técnica mais comum, chamamos de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aspiração nasofaringe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e o cateter e movimentado na direcção das vias aéreas inferiores, usa-se o termo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aspiração nasotraqueal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http://1.bp.blogspot.com/_l2b0D4VScwk/SfsRRjRtPAI/AAAAAAAAASM/nXMjUuOsUmA/s400/unesp+3.jpg"/>
          <p:cNvPicPr/>
          <p:nvPr/>
        </p:nvPicPr>
        <p:blipFill>
          <a:blip r:embed="rId1"/>
          <a:stretch/>
        </p:blipFill>
        <p:spPr>
          <a:xfrm>
            <a:off x="5753160" y="3914640"/>
            <a:ext cx="3009960" cy="2257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http://portaldoprofessor.mec.gov.br/storage/discovirtual/galerias/imagem/0000001441/md.0000017419.gif"/>
          <p:cNvPicPr/>
          <p:nvPr/>
        </p:nvPicPr>
        <p:blipFill>
          <a:blip r:embed="rId2"/>
          <a:stretch/>
        </p:blipFill>
        <p:spPr>
          <a:xfrm>
            <a:off x="5715000" y="1171440"/>
            <a:ext cx="307008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62012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iracao  Nasal e Oral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142640"/>
            <a:ext cx="5562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Na via aérea oral, usa-se cânula de Guedel/Mayo que mantém a língua posicionada para frente ao interior da bo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No geral, a cânula de Guedel é usado em pacientes inconscientes que não podem proteger as próprias vias aére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cânula de Guedel evita a obstrução de uma via aérea superior ocasionada pelo relaxamento da língu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1" descr="http://2.bp.blogspot.com/_F3rZOmQ5LLE/TNb0w8Nt_vI/AAAAAAAAAzs/EpOUikkjfPM/s1600/Tubo+Mayo.jpg"/>
          <p:cNvPicPr/>
          <p:nvPr/>
        </p:nvPicPr>
        <p:blipFill>
          <a:blip r:embed="rId1"/>
          <a:srcRect l="58755" t="13361" r="2499" b="19832"/>
          <a:stretch/>
        </p:blipFill>
        <p:spPr>
          <a:xfrm>
            <a:off x="6400800" y="3322800"/>
            <a:ext cx="2514600" cy="3001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http://2.bp.blogspot.com/_F3rZOmQ5LLE/TNb0w8Nt_vI/AAAAAAAAAzs/EpOUikkjfPM/s1600/Tubo+Mayo.jpg"/>
          <p:cNvPicPr/>
          <p:nvPr/>
        </p:nvPicPr>
        <p:blipFill>
          <a:blip r:embed="rId2"/>
          <a:srcRect l="6253" t="25056" r="50003" b="28186"/>
          <a:stretch/>
        </p:blipFill>
        <p:spPr>
          <a:xfrm>
            <a:off x="6324480" y="1143000"/>
            <a:ext cx="26672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spiração orotraqueal e Nasotraque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É a remoção de secreções da traqueia ou brônquios, por meio de uma sonda inserida através do nariz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sonda é introduzida ate a traqueia pela cavidade oral, ou através da narina preferencialm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stimula o reflexo da tosse, ajuda manter a via respiratória desobstruída mantendo uma troca de oxigénio e dióxido de carbono, prevenindo a pneumon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Canula de Guedel, facilita a aspiração orotraqueal do paciente inconsciente, tornando mais fácil o acesso da sonda  traque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971800" y="9907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dicaçã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575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acientes que apresentam secreções pulmonares e com a diminuição da capacidade de tossir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575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acientes com tubo endotraqueal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575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acientes com diminuição do estado de consciênci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575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acientes com obstrução das vias aérea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575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acientes em ventilação mecânica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575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ara remoção das secreções acumuladas na traqueia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49EA-82A0-4A02-A3DA-76361CBEE89A}" type="slidenum">
              <a:rPr b="1" lang="pt-B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itle 1"/>
          <p:cNvSpPr/>
          <p:nvPr/>
        </p:nvSpPr>
        <p:spPr>
          <a:xfrm>
            <a:off x="1447920" y="228600"/>
            <a:ext cx="739116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spiração orotraqueal e Nasotraque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http://3.bp.blogspot.com/_GqWLVBJXIaE/TCisV6WNXAI/AAAAAAAAAHA/QcujIhvWcfM/s1600/tot.jpg"/>
          <p:cNvPicPr/>
          <p:nvPr/>
        </p:nvPicPr>
        <p:blipFill>
          <a:blip r:embed="rId1"/>
          <a:stretch/>
        </p:blipFill>
        <p:spPr>
          <a:xfrm>
            <a:off x="380880" y="1752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drscope.com/privados/pac/generales/radiologia/f5.jpg"/>
          <p:cNvPicPr/>
          <p:nvPr/>
        </p:nvPicPr>
        <p:blipFill>
          <a:blip r:embed="rId2"/>
          <a:stretch/>
        </p:blipFill>
        <p:spPr>
          <a:xfrm>
            <a:off x="358920" y="4152960"/>
            <a:ext cx="30700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Hamido</cp:lastModifiedBy>
  <dcterms:modified xsi:type="dcterms:W3CDTF">2011-06-21T08:58:27Z</dcterms:modified>
  <cp:revision>817</cp:revision>
  <dc:subject/>
  <dc:title>ANATOMIA E FISIOLOGIA HUMANA</dc:title>
</cp:coreProperties>
</file>