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F99DA-CB46-44BC-83BB-99206E1871F9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44F82-E481-496A-95BE-5E39FC5DAE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8A2AC-23C1-4614-BE9A-39F1BD73E1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5392F-79C8-4604-B3EB-D7439A4F12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09E94-2E2B-40D2-8A42-39241C7277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6CAA2-0A9D-47B0-83ED-F451B6DD98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B8656-292C-4372-A09A-C9A4C2B14D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7993A-D6BB-44B6-9E36-843DCC8ADB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9AE99-FC11-4A2E-A2E4-10AD3AAA04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9D1B6-A789-4786-A1A8-2BFD905FE4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1CC05-4E2F-4248-8842-7058F0D3FF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F9B37-4229-4CB2-A50F-561531F47C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288C0-2DF5-4C27-8A73-C8C39D7680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77E92-9D00-456A-BC84-C0B0546103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5"/>
          <p:cNvSpPr/>
          <p:nvPr/>
        </p:nvSpPr>
        <p:spPr>
          <a:xfrm rot="5400000">
            <a:off x="-3227400" y="3227400"/>
            <a:ext cx="6858000" cy="40320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805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21141-9A1A-403F-B7BB-EA5F63632B53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7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23"/>
          <p:cNvSpPr/>
          <p:nvPr/>
        </p:nvSpPr>
        <p:spPr>
          <a:xfrm>
            <a:off x="1371600" y="144792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24"/>
          <p:cNvGrpSpPr/>
          <p:nvPr/>
        </p:nvGrpSpPr>
        <p:grpSpPr>
          <a:xfrm>
            <a:off x="0" y="1447920"/>
            <a:ext cx="2742840" cy="2514240"/>
            <a:chOff x="0" y="1447920"/>
            <a:chExt cx="2742840" cy="2514240"/>
          </a:xfrm>
        </p:grpSpPr>
        <p:sp>
          <p:nvSpPr>
            <p:cNvPr id="45" name="Rectangle 25"/>
            <p:cNvSpPr/>
            <p:nvPr/>
          </p:nvSpPr>
          <p:spPr>
            <a:xfrm>
              <a:off x="0" y="3326040"/>
              <a:ext cx="689040" cy="636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26"/>
            <p:cNvSpPr/>
            <p:nvPr/>
          </p:nvSpPr>
          <p:spPr>
            <a:xfrm>
              <a:off x="1366560" y="1447920"/>
              <a:ext cx="686880" cy="6379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27"/>
            <p:cNvSpPr/>
            <p:nvPr/>
          </p:nvSpPr>
          <p:spPr>
            <a:xfrm>
              <a:off x="681120" y="3324240"/>
              <a:ext cx="698400" cy="6364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28"/>
            <p:cNvSpPr/>
            <p:nvPr/>
          </p:nvSpPr>
          <p:spPr>
            <a:xfrm>
              <a:off x="2042640" y="1447920"/>
              <a:ext cx="700200" cy="6379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29"/>
            <p:cNvSpPr/>
            <p:nvPr/>
          </p:nvSpPr>
          <p:spPr>
            <a:xfrm>
              <a:off x="679680" y="2076480"/>
              <a:ext cx="698040" cy="6282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30"/>
            <p:cNvSpPr/>
            <p:nvPr/>
          </p:nvSpPr>
          <p:spPr>
            <a:xfrm>
              <a:off x="1366560" y="2076480"/>
              <a:ext cx="686880" cy="6282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31"/>
            <p:cNvSpPr/>
            <p:nvPr/>
          </p:nvSpPr>
          <p:spPr>
            <a:xfrm>
              <a:off x="0" y="2695680"/>
              <a:ext cx="689040" cy="6393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32"/>
            <p:cNvSpPr/>
            <p:nvPr/>
          </p:nvSpPr>
          <p:spPr>
            <a:xfrm>
              <a:off x="679680" y="2695680"/>
              <a:ext cx="698040" cy="6393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33"/>
          <p:cNvSpPr/>
          <p:nvPr/>
        </p:nvSpPr>
        <p:spPr>
          <a:xfrm>
            <a:off x="29718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" descr=""/>
          <p:cNvPicPr/>
          <p:nvPr/>
        </p:nvPicPr>
        <p:blipFill>
          <a:blip r:embed="rId2"/>
          <a:stretch/>
        </p:blipFill>
        <p:spPr>
          <a:xfrm>
            <a:off x="8058240" y="38088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7"/>
          <p:cNvSpPr/>
          <p:nvPr/>
        </p:nvSpPr>
        <p:spPr>
          <a:xfrm>
            <a:off x="2971800" y="1676520"/>
            <a:ext cx="502920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3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submarino.com.br/books_productdetails.asp?Query=ProductPage&amp;ProdTypeId=1&amp;ProdId=93057&amp;ST=SE&amp;franq=136426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067"/>
          <p:cNvSpPr/>
          <p:nvPr/>
        </p:nvSpPr>
        <p:spPr>
          <a:xfrm>
            <a:off x="32004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19520" y="1600200"/>
            <a:ext cx="59436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500" spc="-1" strike="noStrike">
                <a:solidFill>
                  <a:srgbClr val="ffffff"/>
                </a:solidFill>
                <a:latin typeface="Arial"/>
              </a:rPr>
              <a:t>Cuidados de Enfermagem na Alta do Utente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294920" y="45716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Módulo 6 – Fundamentos de Enfermagem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ulas 13/16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Intervenções de Enfermagem - L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6840" y="9907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Material necessário: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Cartão de identificação do paciente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Cartão de operação de for paciente de foro cirúrgic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testado de hospitalizaçã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Guia de transferência para consulta externa de controlo ou seguimento pós alta (  se necessário)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testado de doença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Recibo de pagamento de hospitalizaçã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Guia de alta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Receitas médica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6B355-B20F-4B08-BF4C-A3379C55A7A1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Intervenções de Enfermagem - L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6840" y="914040"/>
            <a:ext cx="83818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Procedimentos: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Arial"/>
              </a:rPr>
              <a:t>Certificar-se da alta no processo clínico do paciente, que deve estar assinada pelo médico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Arial"/>
              </a:rPr>
              <a:t>Verificar no processo clínico as medicações ou outros tratamentos a serem feitos antes da saída do paciente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Arial"/>
              </a:rPr>
              <a:t>Informar ao paciente sobre a alta, discutir com ele sobre a hora de saída e como será transportado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Arial"/>
              </a:rPr>
              <a:t>Entregar ao paciente a receita médica e orientá-lo devidamente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Arial"/>
              </a:rPr>
              <a:t>Auxiliar o paciente a vestir-se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Arial"/>
              </a:rPr>
              <a:t>Reunir as roupas e seus pertences e colocá-los na mala ou sacola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4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D46E2-B04E-4341-B3B9-B3C257C79826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Intervenções de Enfermagem - L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6840" y="9907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Procedimentos: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66"/>
                </a:solidFill>
                <a:latin typeface="Arial"/>
              </a:rPr>
              <a:t>Devolver objectos e medicamentos ao paciente, que foram guardados no hospital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66"/>
                </a:solidFill>
                <a:latin typeface="Arial"/>
              </a:rPr>
              <a:t>Providenciar cadeira de rodas ou maca para transportar o paciente até o veículo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Transportar o paciente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66"/>
                </a:solidFill>
                <a:latin typeface="Arial"/>
              </a:rPr>
              <a:t>Preparar a unidade para receber outro paciente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Fazer registos: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900" spc="-1" strike="noStrike">
                <a:solidFill>
                  <a:srgbClr val="000066"/>
                </a:solidFill>
                <a:latin typeface="Arial"/>
              </a:rPr>
              <a:t>Data e horário;</a:t>
            </a:r>
            <a:endParaRPr b="1" lang="en-US" sz="19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900" spc="-1" strike="noStrike">
                <a:solidFill>
                  <a:srgbClr val="000066"/>
                </a:solidFill>
                <a:latin typeface="Arial"/>
              </a:rPr>
              <a:t>Condições de saída (deambulando, de maca ou de cadeira de rodas);</a:t>
            </a:r>
            <a:endParaRPr b="1" lang="en-US" sz="19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900" spc="-1" strike="noStrike">
                <a:solidFill>
                  <a:srgbClr val="000066"/>
                </a:solidFill>
                <a:latin typeface="Arial"/>
              </a:rPr>
              <a:t>Procedimentos realizados e as orientações dadas.</a:t>
            </a:r>
            <a:endParaRPr b="1" lang="en-US" sz="1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8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69636-8ABB-44E2-A3BD-F8430277A45E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Intervenções de Enfermagem - L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6840" y="9907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Procedimentos para paciente cirúrgico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Informar o paciente sobre a sua alta, com antecedência, sempre que possível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Contactar o serviço social quando necessári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Explicar o paciente com clareza sobre os cuidados no domicílio: dieta indicada, repouso se necessário, uso correcto de medicamentos, higiene geral e cuidados com a ferid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Orientar sobre a necessidade de fazer penso no centro de saúde e marcar consulta de controlo, se pertinente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2C53B-B2EB-45E8-AF09-6B34D9140659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Intervenções de Enfermagem - L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6840" y="9907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Procedimentos para paciente cirúrgico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Entregar ao paciente os seus bens que estavam na posse da enfermari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Providenciar o transporte do paciente em maca ou na cadeira de rodas, quando necessári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Fornecer a primeira medicação a ser tomada em casa, se necessári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Verificar se existirem dúvidas esclareça o paciente e/ou a familiare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Forneça a primeira medicação a ser tomada em casa, se necessári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Despeça-se do paciente e seus familiare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9F72A-AD7C-4535-A725-59CA3AF963CD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Intervenções de Enfermagem - L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6840" y="990720"/>
            <a:ext cx="83818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Procedimentos para paciente cirúrgico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Registe a alta no livro conforme a rotina do hospital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Encaminhe o processo internamento do paciente à secretaria do serviço para procedimentos e arquivo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Providencie a limpeza da cama ou unidade do paciente.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Fazer registos: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</a:rPr>
              <a:t>Data e horário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</a:rPr>
              <a:t>Condições de saída (deambulando, de maca ou de cadeira de rodas)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</a:rPr>
              <a:t>Procedimentos realizados e as orientações dada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5E940-0951-4E31-8E82-B5DE1088A0FD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BLIOGRAF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 u="sng">
                <a:solidFill>
                  <a:srgbClr val="000066"/>
                </a:solidFill>
                <a:uFillTx/>
                <a:latin typeface="Arial"/>
                <a:ea typeface="Times New Roman"/>
              </a:rPr>
              <a:t>Conceitos e Habilidades Fundamentais no Atendimento de Enfermagem 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–TIMBY K.BARBARA, 6º Ediçã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1"/>
              </a:rPr>
              <a:t>Enfermagem Fundamental Abordagem Psicofisiológica 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SORENSEN e LUCKMANN, 3º Ediçã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 u="sng">
                <a:solidFill>
                  <a:srgbClr val="000066"/>
                </a:solidFill>
                <a:uFillTx/>
                <a:latin typeface="Arial"/>
                <a:ea typeface="Times New Roman"/>
              </a:rPr>
              <a:t>Fundamentos de Enfermagem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  - POTTER PERRY 7ª ediçã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MISAU. </a:t>
            </a:r>
            <a:r>
              <a:rPr b="1" i="1" lang="pt-PT" sz="2400" spc="-1" strike="noStrike" u="sng">
                <a:solidFill>
                  <a:srgbClr val="000066"/>
                </a:solidFill>
                <a:uFillTx/>
                <a:latin typeface="Arial"/>
                <a:ea typeface="Times New Roman"/>
              </a:rPr>
              <a:t>Guião de Procedimentos Básicos de Enfermagem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. Maputo – Moçambique, 2009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28345-F25D-4579-9793-5867D97C496C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ooter Placeholder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ompetênci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6840" y="9907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Após a discussão deste tema os alunos deverão ser capazes de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Descrever os tipos de  alta  hospitalar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Reconhecer as tarefas do enfermeiro no processo de alta do pacient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Prestar os cuidados de enfermagem na alta do pacient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&amp;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wn Arrow 4"/>
          <p:cNvSpPr/>
          <p:nvPr/>
        </p:nvSpPr>
        <p:spPr>
          <a:xfrm>
            <a:off x="3962520" y="1981080"/>
            <a:ext cx="914400" cy="5335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onceito de Alta Hospitala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6840" y="106632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Alta Hospitalar é o encerramento da assistência prestada ao paciente no hospital. O paciente recebe alta quando seu estado de saúde permitir ou quando está em condições de recuperar-se e continuar o tratamento em cas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 alta consiste em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1" lang="pt-PT" sz="2100" spc="-1" strike="noStrike">
                <a:solidFill>
                  <a:srgbClr val="000066"/>
                </a:solidFill>
                <a:latin typeface="Arial"/>
              </a:rPr>
              <a:t>Obtenção de uma ordem escrita pelo médico;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100" spc="-1" strike="noStrike">
                <a:solidFill>
                  <a:srgbClr val="000066"/>
                </a:solidFill>
                <a:latin typeface="Arial"/>
              </a:rPr>
              <a:t>Cumprimento de instruções para a alta;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100" spc="-1" strike="noStrike">
                <a:solidFill>
                  <a:srgbClr val="000066"/>
                </a:solidFill>
                <a:latin typeface="Arial"/>
              </a:rPr>
              <a:t>Ajuda ao paciente para sair da unidade sanitária;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100" spc="-1" strike="noStrike">
                <a:solidFill>
                  <a:srgbClr val="000066"/>
                </a:solidFill>
                <a:latin typeface="Arial"/>
              </a:rPr>
              <a:t>Resumo das condições da paciente no momento da alta;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100" spc="-1" strike="noStrike">
                <a:solidFill>
                  <a:srgbClr val="000066"/>
                </a:solidFill>
                <a:latin typeface="Arial"/>
              </a:rPr>
              <a:t>Comunicação ao pessoal para a limpeza e desinfecção do quarto após a saída do paciente.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E3289-3FFB-4DCD-A5B7-9E4F6CA1AF64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ooter Placeholder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Tipos de Alta Hospitala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6840" y="99072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1818ff"/>
                </a:solidFill>
                <a:latin typeface="Arial"/>
              </a:rPr>
              <a:t>Alta curado</a:t>
            </a: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1818ff"/>
                </a:solidFill>
                <a:latin typeface="Arial"/>
              </a:rPr>
              <a:t>Alta melhorado</a:t>
            </a: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1818ff"/>
                </a:solidFill>
                <a:latin typeface="Arial"/>
              </a:rPr>
              <a:t>Alta inalterado</a:t>
            </a: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1818ff"/>
                </a:solidFill>
                <a:latin typeface="Arial"/>
              </a:rPr>
              <a:t>Alta a pedido: </a:t>
            </a: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quando é solicitada pelo paciente ou sua família. Para este tipo de alta o paciente e/ou sua família deve proceder assinatura do termo de responsabilidade a ser arquivado no processo clínic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1818ff"/>
                </a:solidFill>
                <a:latin typeface="Arial"/>
              </a:rPr>
              <a:t>Alta condicional ou licença médica: </a:t>
            </a: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concedida pelo médico em datas comemorativas, sendo necessário que o cliente assine um termo de responsabilidade antes de sair da unidade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FB3C2-E53E-4167-9699-702C967A7F4D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Tipos de Alta Hospitala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6840" y="106632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1818ff"/>
                </a:solidFill>
                <a:latin typeface="Arial"/>
              </a:rPr>
              <a:t>Alta por indisciplina ou compulsiva: 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imposta pela equipa devido aos comportamentos do paciente incompatíveis com a convivência hospitalar, exemplo: roubos, agressão, etc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1818ff"/>
                </a:solidFill>
                <a:latin typeface="Arial"/>
              </a:rPr>
              <a:t>Transferência: 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consiste na remoção do paciente de uma unidade para outra dentro da própria instituição ou para outras instituições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1818ff"/>
                </a:solidFill>
                <a:latin typeface="Arial"/>
              </a:rPr>
              <a:t>Evasão ou Abandono: 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o paciente abandona as instalações hospitalares. Geralmente para estes casos deve ser comunicada a chefia da enfermaria e autoridades policiai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1818ff"/>
                </a:solidFill>
                <a:latin typeface="Arial"/>
              </a:rPr>
              <a:t>Óbito: 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quela que ocorre por morte do pacient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C66D3-C733-46CC-AD4F-40DB9F29198B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456840" y="106632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500" spc="-1" strike="noStrike">
                <a:solidFill>
                  <a:srgbClr val="000066"/>
                </a:solidFill>
                <a:latin typeface="Arial"/>
              </a:rPr>
              <a:t>O enfermeiro  identifica na admissão do paciente o conhecimento e as habilidades este necessitará para manter um nível seguro de auto cuidado após a alta;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500" spc="-1" strike="noStrike">
                <a:solidFill>
                  <a:srgbClr val="000066"/>
                </a:solidFill>
                <a:latin typeface="Arial"/>
              </a:rPr>
              <a:t>Elabora um plano de ensino  durante a hospitalização do paciente na unidade sanitária;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500" spc="-1" strike="noStrike">
                <a:solidFill>
                  <a:srgbClr val="000066"/>
                </a:solidFill>
                <a:latin typeface="Arial"/>
              </a:rPr>
              <a:t>Revê o que o foi ensinado, orienta-o sobre os cuidados e aconselha-o a marcar uma consulta na data especificada pelo médico;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500" spc="-1" strike="noStrike">
                <a:solidFill>
                  <a:srgbClr val="000066"/>
                </a:solidFill>
                <a:latin typeface="Arial"/>
              </a:rPr>
              <a:t>Faz o resumo no diário de enfermagem, das condições do paciente na alta e das instruções dadas.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Orientações para a alta do pacient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77727-E4EE-4083-8D3C-56520BFB0653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ooter Placeholder 5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456840" y="10666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24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500" spc="-1" strike="noStrike">
                <a:solidFill>
                  <a:srgbClr val="000066"/>
                </a:solidFill>
                <a:latin typeface="Arial"/>
              </a:rPr>
              <a:t>Antes do paciente sair do hospital o enfermeiro deve  verificar junto ao sector administrativo se a conta de hospitalização foi paga;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24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500" spc="-1" strike="noStrike">
                <a:solidFill>
                  <a:srgbClr val="000066"/>
                </a:solidFill>
                <a:latin typeface="Arial"/>
              </a:rPr>
              <a:t>Auxiliar o paciente na arrumação dos seus pertences, se houver lista de verificar para assegurar que nada ficou esquecido;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24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500" spc="-1" strike="noStrike">
                <a:solidFill>
                  <a:srgbClr val="000066"/>
                </a:solidFill>
                <a:latin typeface="Arial"/>
              </a:rPr>
              <a:t>Comunicar os familiares para providenciar o transporte, ou ajuda-lo a chamar um táxi se ele  assim o desejar;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24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500" spc="-1" strike="noStrike">
                <a:solidFill>
                  <a:srgbClr val="000066"/>
                </a:solidFill>
                <a:latin typeface="Arial"/>
              </a:rPr>
              <a:t>Coordenar com a Acção Social para providenciar o transporte para o paciente ( se for necessário).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Orientações para a alta do pacient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414B1-5AF7-4D21-A53A-672FB61B77E1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ooter Placeholder 5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685440" y="114300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Conduzir o paciente em carrinho de rodas ou apoiá–lo a caminhar até a porta(se necessário);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Permanecer com o paciente na porta até que entre na viatura e esteja instalado com segurança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companhamento do Pacient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6EB2F-6EA6-4690-87A8-3FDC870CF049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ooter Placeholder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456840" y="11430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24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500" spc="-1" strike="noStrike">
                <a:solidFill>
                  <a:srgbClr val="000066"/>
                </a:solidFill>
                <a:latin typeface="Arial"/>
              </a:rPr>
              <a:t>Retirar os lençóis e cobertores da  cama;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24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500" spc="-1" strike="noStrike">
                <a:solidFill>
                  <a:srgbClr val="000066"/>
                </a:solidFill>
                <a:latin typeface="Arial"/>
              </a:rPr>
              <a:t>Desinfectar a cama;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24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500" spc="-1" strike="noStrike">
                <a:solidFill>
                  <a:srgbClr val="000066"/>
                </a:solidFill>
                <a:latin typeface="Arial"/>
              </a:rPr>
              <a:t>Arrumar o quarto, ou a cama e deixar pronto para a recepção de outro paciente.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Limpeza Final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1C7CA-86EB-4206-88E3-1327729A2D03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ooter Placeholder 5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7T06:59:16Z</dcterms:created>
  <dc:creator>Carlos Catingue</dc:creator>
  <dc:description/>
  <dc:language>en-US</dc:language>
  <cp:lastModifiedBy>Hamido</cp:lastModifiedBy>
  <dcterms:modified xsi:type="dcterms:W3CDTF">2011-07-26T08:33:36Z</dcterms:modified>
  <cp:revision>675</cp:revision>
  <dc:subject/>
  <dc:title>ANATOMIA E FISIOLOGIA HUMANA</dc:title>
</cp:coreProperties>
</file>