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6080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DB319FE-950B-4FE7-BAB3-AF12DE90A6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04301F4-049C-4F09-BD48-CE6E70383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F7C53-E7DB-4AA9-B08A-C9C55926D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5FAA-1745-47D5-9740-112E6DACD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A9F89-A36F-48DD-BB5C-19D78921D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16F98-AA1E-4602-BC7A-95770123F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1FE41-3132-4BA2-A225-0A17F8940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9D796-C5C3-43B6-B86C-C53ACD39B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85FDF-BB85-4279-9963-CD1E09612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BDE8E-E900-4832-841C-6D8641567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0E0E2-2E17-4939-AAB4-830DEE7A5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56B0-46BC-47A3-B9C7-89B7473CB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BE7D-887D-4D3E-BFC0-EEEB66ECA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C136E-6844-439D-B8FA-BC0939B83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A0E8-06B7-48AE-8D57-72BA37E3AE8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google.com.br/imgres?imgurl=http://www.cantocidadao.org.br/uploads/image/Geral/brinquedo1.jpg&amp;imgrefurl=http://www.cantocidadao.org.br/visualizaritem.php?ItemId=92&amp;usg=__ZVZRpM__UYqQW65_v6GYOolF_iY=&amp;h=532&amp;w=471&amp;sz=204&amp;hl=pt-BR&amp;start=22&amp;tbnid=EJbYikfQLJCiXM:&amp;tbnh=132&amp;tbnw=117&amp;prev=/images?q=brinquedo&amp;gbv=2&amp;ndsp=18&amp;hl=pt-BR&amp;sa=N&amp;start=18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.br/imgres?imgurl=http://www.preceonline.com.br/ntc/fotos/ter&#231;o.jpg&amp;imgrefurl=http://www.preceonline.com.br/ntc/default.asp?Cod=16&amp;usg=__gVB3XXNdfkZcPla8Qad961GIwTA=&amp;h=400&amp;w=400&amp;sz=32&amp;hl=pt-BR&amp;start=21&amp;tbnid=zICT4hRf-6qxlM:&amp;tbnh=124&amp;tbnw=124&amp;prev=/images?q=ter&#231;o&amp;gbv=2&amp;ndsp=18&amp;hl=pt-BR&amp;sa=N&amp;start=18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m.br/imgres?imgurl=http://www.digitaldrops.com.br/drops/imagens/MagnoRadio1.jpg&amp;imgrefurl=http://rosaliraster.blogspot.com/2009/06/fotografias-de-uma-historia-radiofonica.html&amp;usg=__7a2F9CI5Y5XzXdd7YiuHAu8X6F8=&amp;h=581&amp;w=400&amp;sz=29&amp;hl=pt-BR&amp;start=48&amp;tbnid=cfKSMGCOb67t4M:&amp;tbnh=134&amp;tbnw=92&amp;prev=/images?q=r&#225;dio&amp;gbv=2&amp;ndsp=18&amp;hl=pt-BR&amp;sa=N&amp;start=36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google.com.br/imgres?imgurl=http://www.vivermelhor.pt/loja/images/carro%20roupa%20suja1540.bmp&amp;imgrefurl=http://www.vivermelhor.pt/loja/index.php?cPath=22&amp;osCsid=9eokc05omrvn7b3c204e6ak9l2&amp;usg=__9QX-UVQzgVRArrN9lS7TR7T4NuY=&amp;h=348&amp;w=344&amp;sz=351&amp;hl=pt-BR&amp;start=15&amp;tbnid=Trh5jHsnf1QyRM:&amp;tbnh=120&amp;tbnw=119&amp;prev=/images?q=roupa+suja&amp;gbv=2&amp;hl=pt-BR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shop.hokohoko.com/images/_original/ts_np_nachttisch_weiss_02.png&amp;imgrefurl=http://estrategiaempresarial.wordpress.com/2008/10/17/porta-livros-e-copo-dagua-hanno-da-nordprodukt/&amp;usg=__yaFR8gD6qRoKg0nGpA_iWhlthAM=&amp;h=346&amp;w=320&amp;sz=162&amp;hl=pt-BR&amp;start=32&amp;tbnid=N6RUBJmi0cwqzM:&amp;tbnh=120&amp;tbnw=111&amp;prev=/images?q=cabeceira+com+&#225;gua+e+copo&amp;gbv=2&amp;ndsp=18&amp;hl=pt-BR&amp;sa=N&amp;start=18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m.br/imgres?imgurl=http://catalogohospitalar.com.br/img/produtos/9672/01.jpg&amp;imgrefurl=http://catalogohospitalar.com.br/moveis-para-quarto-mesa-de-cabeceira-em-formica-ib-122.html&amp;usg=__n-asR0t84JkM0S9tjTB5K0kaXjc=&amp;h=325&amp;w=217&amp;sz=6&amp;hl=pt-BR&amp;start=3&amp;tbnid=BL8OApVZcbHvVM:&amp;tbnh=118&amp;tbnw=79&amp;prev=/images?q=cabeceira+de+quarto+de+hospital&amp;gbv=2&amp;hl=pt-BR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65"/>
          <p:cNvSpPr/>
          <p:nvPr/>
        </p:nvSpPr>
        <p:spPr>
          <a:xfrm>
            <a:off x="685800" y="4800600"/>
            <a:ext cx="81532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Módulo 7: Bases científicas para prática de Enfermagem II – Fundamentos de Enferm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67"/>
          <p:cNvSpPr/>
          <p:nvPr/>
        </p:nvSpPr>
        <p:spPr>
          <a:xfrm>
            <a:off x="1066680" y="2133720"/>
            <a:ext cx="7467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EIOS PARA PROPORCIONAR CONFORTO AO UTENTE: ARRUMAÇÃO DE CAMAS E ORNAMENTAÇÃO DA ENFERMA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28760" y="1500120"/>
            <a:ext cx="841032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lém de a estética proporcionar uma sensação agradável, a assistência humanizada pressupõe a preservação dos direitos dos utentes, boas relações interpessoais e a realização das actividades de forma a melhor atender às necessidades do ut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mpliação do horário de visitas, facilitação do uso de meios de comunicação com o exterior e conservação de objectos pessoais são formas de melhor atender às necessidades dos utent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Espaço Reservado para Rodapé 4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6920" y="304920"/>
            <a:ext cx="76518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namentação da unidade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85480" y="1214280"/>
            <a:ext cx="4429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 enfermaria pode permitir que o utente se considere em sua casa, um local privativo e sob seu controlo;</a:t>
            </a:r>
            <a:endParaRPr b="1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ve proporcionar ao utente expressar seus sentimentos e valores, dispor objectos pessoais e que lhe despertam recordações, como fotografias, objectos religiosos e outros. </a:t>
            </a:r>
            <a:endParaRPr b="1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 equipe de enfermagem deve zelar pela unidade do utente sem desrespeitar sua privacidade.</a:t>
            </a:r>
            <a:endParaRPr b="1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1" name="Picture 2" descr="http://www.bahianoticias.com.br/fotos/editor/Image/hge-enfermaria.jpg"/>
          <p:cNvPicPr/>
          <p:nvPr/>
        </p:nvPicPr>
        <p:blipFill>
          <a:blip r:embed="rId1"/>
          <a:stretch/>
        </p:blipFill>
        <p:spPr>
          <a:xfrm>
            <a:off x="4859280" y="1197000"/>
            <a:ext cx="3807000" cy="2489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t0.gstatic.com/images?q=tbn:EJbYikfQLJCiXM:http://www.cantocidadao.org.br/uploads/image/Geral/brinquedo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3716280"/>
            <a:ext cx="1616040" cy="1824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ttp://t3.gstatic.com/images?q=tbn:zICT4hRf-6qxlM:http://www.preceonline.com.br/ntc/fotos/ter%C3%A7o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236000" y="3860640"/>
            <a:ext cx="1657080" cy="165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t2.gstatic.com/images?q=tbn:cfKSMGCOb67t4M:http://www.digitaldrops.com.br/drops/imagens/MagnoRadio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84720" y="4653000"/>
            <a:ext cx="1170000" cy="1704960"/>
          </a:xfrm>
          <a:prstGeom prst="rect">
            <a:avLst/>
          </a:prstGeom>
          <a:ln w="0">
            <a:noFill/>
          </a:ln>
        </p:spPr>
      </p:pic>
      <p:sp>
        <p:nvSpPr>
          <p:cNvPr id="135" name="Espaço Reservado para Rodapé 8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770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namentação da unidade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6840" y="1143000"/>
            <a:ext cx="4329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anter a cama com roupas  limpas, secas e bem esticadas;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Roupas sujas devem ser deitadas imediatamente em recipiente para roupa suja;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anter o ambiente arejado e iluminado, conforme vontade do utente;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anter arrastadeira, escarradeira, urinol, limpos e ao alcance do utente;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8" name="Picture 6" descr="http://www.hbarreiro.min-saude.pt/NR/rdonlyres/3D768CDF-2774-4471-9306-DC2A0C02D7C7/8778/enfermaria3.JPG"/>
          <p:cNvPicPr/>
          <p:nvPr/>
        </p:nvPicPr>
        <p:blipFill>
          <a:blip r:embed="rId1"/>
          <a:stretch/>
        </p:blipFill>
        <p:spPr>
          <a:xfrm>
            <a:off x="4853160" y="1341360"/>
            <a:ext cx="4128840" cy="3095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http://t1.gstatic.com/images?q=tbn:Trh5jHsnf1QyRM:http://www.vivermelhor.pt/loja/images/carro%2520roupa%2520suja1540.bm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86280" y="4429080"/>
            <a:ext cx="1984680" cy="2000160"/>
          </a:xfrm>
          <a:prstGeom prst="rect">
            <a:avLst/>
          </a:prstGeom>
          <a:ln w="0">
            <a:noFill/>
          </a:ln>
        </p:spPr>
      </p:pic>
      <p:sp>
        <p:nvSpPr>
          <p:cNvPr id="140" name="Espaço Reservado para Rodapé 6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namentação da unidade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294920"/>
            <a:ext cx="464832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ssegurar que estão disponíveis: recipiente para água potável e cop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locar a mesa de cabeceira do lado oposto a porta, à cabeceira desta, e a cadeira do mesmo lado aos pés da ca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erificar as condições dos móveis, paredes, janelas, portas, tecto, e comunicar ao administrativo necessidades de manutenç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3" name="Picture 2" descr="http://t0.gstatic.com/images?q=tbn:N6RUBJmi0cwqzM:http://shop.hokohoko.com/images/_original/ts_np_nachttisch_weiss_02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57880" y="1928880"/>
            <a:ext cx="1428840" cy="1714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t2.gstatic.com/images?q=tbn:BL8OApVZcbHvVM:http://catalogohospitalar.com.br/img/produtos/9672/0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29200" y="3429000"/>
            <a:ext cx="2071800" cy="278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Ver imagem em tamanho grande"/>
          <p:cNvPicPr/>
          <p:nvPr/>
        </p:nvPicPr>
        <p:blipFill>
          <a:blip r:embed="rId5"/>
          <a:stretch/>
        </p:blipFill>
        <p:spPr>
          <a:xfrm>
            <a:off x="6572160" y="2000160"/>
            <a:ext cx="1500120" cy="1690920"/>
          </a:xfrm>
          <a:prstGeom prst="rect">
            <a:avLst/>
          </a:prstGeom>
          <a:ln w="0">
            <a:noFill/>
          </a:ln>
        </p:spPr>
      </p:pic>
      <p:sp>
        <p:nvSpPr>
          <p:cNvPr id="146" name="Espaço Reservado para Rodapé 7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namentação da unidade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rrumação de cam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143000"/>
            <a:ext cx="85345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 cama confortável, devidamente preparada e limpa, favorece o repouso e o sono adequado d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7" name="Picture 4" descr="http://ww3.scml.pt/media/hosa/enfermaria_01.jpg"/>
          <p:cNvPicPr/>
          <p:nvPr/>
        </p:nvPicPr>
        <p:blipFill>
          <a:blip r:embed="rId1"/>
          <a:stretch/>
        </p:blipFill>
        <p:spPr>
          <a:xfrm>
            <a:off x="2571840" y="2057400"/>
            <a:ext cx="5829120" cy="4371840"/>
          </a:xfrm>
          <a:prstGeom prst="rect">
            <a:avLst/>
          </a:prstGeom>
          <a:ln w="0">
            <a:noFill/>
          </a:ln>
        </p:spPr>
      </p:pic>
      <p:sp>
        <p:nvSpPr>
          <p:cNvPr id="98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ipos de cam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1143000"/>
            <a:ext cx="4392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ma fechad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a que está desocupada, a espera de um nov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ma abert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a cama ocupada, que pode ser por um utente ambulante, em condições de se locomover ou por um utente que não deambul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1" name="Picture 6" descr="http://www.moveishospitalares.form-email.com.br/images/cama_padrao_2.jpg"/>
          <p:cNvPicPr/>
          <p:nvPr/>
        </p:nvPicPr>
        <p:blipFill>
          <a:blip r:embed="rId1"/>
          <a:stretch/>
        </p:blipFill>
        <p:spPr>
          <a:xfrm>
            <a:off x="4746600" y="1676520"/>
            <a:ext cx="4237200" cy="3408120"/>
          </a:xfrm>
          <a:prstGeom prst="rect">
            <a:avLst/>
          </a:prstGeom>
          <a:ln w="0">
            <a:noFill/>
          </a:ln>
        </p:spPr>
      </p:pic>
      <p:sp>
        <p:nvSpPr>
          <p:cNvPr id="102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cam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14300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ma cirúrgica ou cama de anestesi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preparada para receber utente operado ou submetido a procedimentos diagnósticos ou terapêuticos sob anestesia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i um lençol em forma de travessa para facilitar seu recebimento, deslocamento  e higiene (trocar apenas a travessa); dispor cobertor para conter o frio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importante ter suporte lateral, para prevenir quedas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5" name="Picture 2" descr="http://t2.gstatic.com/images?q=tbn:ANd9GcQni-Bbegwaofjsl-C0SqQ7Y_2nms_ojJxwl3jwGt0qchDBWFiBAA"/>
          <p:cNvPicPr/>
          <p:nvPr/>
        </p:nvPicPr>
        <p:blipFill>
          <a:blip r:embed="rId1"/>
          <a:stretch/>
        </p:blipFill>
        <p:spPr>
          <a:xfrm>
            <a:off x="5183280" y="1143000"/>
            <a:ext cx="3760560" cy="4952880"/>
          </a:xfrm>
          <a:prstGeom prst="rect">
            <a:avLst/>
          </a:prstGeom>
          <a:ln w="0">
            <a:noFill/>
          </a:ln>
        </p:spPr>
      </p:pic>
      <p:sp>
        <p:nvSpPr>
          <p:cNvPr id="106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577280" cy="633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rrumação de cam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1920" y="1218960"/>
            <a:ext cx="449604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mpre que a roupa de cama apresentar sujidade ou estiver molhada com fluidos corporais deve ser trocada, para garantir o conforto do utente e evitar a formação de úlcera de pressão e lesões na pel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arrumação da cama deve ser sempre precedida da limpez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o término da arrumação da cama, observar a reorganização da unidade do utent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1" descr="C:\Documents and Settings\Administrador\Meus documentos\Moçambique GERAL\fotos formacao serventes xaixai fev 2007\P2010016.JPG"/>
          <p:cNvPicPr/>
          <p:nvPr/>
        </p:nvPicPr>
        <p:blipFill>
          <a:blip r:embed="rId1"/>
          <a:stretch/>
        </p:blipFill>
        <p:spPr>
          <a:xfrm>
            <a:off x="4648320" y="1981080"/>
            <a:ext cx="4286160" cy="3214800"/>
          </a:xfrm>
          <a:prstGeom prst="rect">
            <a:avLst/>
          </a:prstGeom>
          <a:ln w="0">
            <a:noFill/>
          </a:ln>
        </p:spPr>
      </p:pic>
      <p:sp>
        <p:nvSpPr>
          <p:cNvPr id="110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65324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rrumação de cam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1268280"/>
            <a:ext cx="84582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a arrumação da cama a equipe deve organizar o trabalho de forma a evitar problemas posturais e desperdício de energ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rtanto, dev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videnciar todo o material necessário ante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obrar a roupa de cama de maneira funcional, na ordem de instalaçã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ltar, primeiramente, todo o lençol da cama e, em seguida, preparar todo um lado da cama e depois o out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Espaço Reservado para Rodapé 4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ixaDeTexto 5"/>
          <p:cNvSpPr/>
          <p:nvPr/>
        </p:nvSpPr>
        <p:spPr>
          <a:xfrm>
            <a:off x="539640" y="5373720"/>
            <a:ext cx="8280360" cy="82548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arrumação será praticada no Laboratório Humanístico (L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506000" cy="633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rrumação de cam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4920" y="1267920"/>
            <a:ext cx="8458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ra prevenir infecções, lavar sempre as mãos antes e após a realização da arrumação de cam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unca pôr roupa limpa sobre a cama de outro utente ou na cama a ser arrumada sem antes limp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vitar manuseio excessivo da roupa e seu contato com o uniforme ou com o ch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 a cama estiver destinada a receber utente operado, a arrumação dos lençóis deve ser feita de modo a facilitar seu recebimento e higiene (travessa) e aquecimento do mesmo (cobertor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uidado ao deslocar o utente, evitando trauma(s) e não puxar as sondas, cateteres e tubos, que podem desconectar-se com movimentos bruscos ou mesmo lesar o local onde estão instal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Espaço Reservado para Rodapé 4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namentação da unidade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295280"/>
            <a:ext cx="443412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unidade do utente, quer seja um ambiente individualizado (quarto) ou espaço colectivo (enfermaria), deve proporcionar-lhe completa segurança e bem-est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conservação do teto, piso e paredes, instalação elétrica e hidráulica, disposição do mobiliário e os espaços para a movimentação do utente, da equipa e dos equipamentos são aspectos importa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0" name="Picture 2" descr="http://www.rafaelgreca.org.br/blog2/wp-content/uploads/bnovo-12.jpg"/>
          <p:cNvPicPr/>
          <p:nvPr/>
        </p:nvPicPr>
        <p:blipFill>
          <a:blip r:embed="rId1"/>
          <a:stretch/>
        </p:blipFill>
        <p:spPr>
          <a:xfrm>
            <a:off x="4565520" y="1905120"/>
            <a:ext cx="4329360" cy="2892240"/>
          </a:xfrm>
          <a:prstGeom prst="rect">
            <a:avLst/>
          </a:prstGeom>
          <a:ln w="0">
            <a:noFill/>
          </a:ln>
        </p:spPr>
      </p:pic>
      <p:sp>
        <p:nvSpPr>
          <p:cNvPr id="121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219320"/>
            <a:ext cx="495288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ambiente e os factores estéticos influenciam o estado emocional e o humor das pessoa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coração atraente, cores de paredes e tectos agradáveis, iluminação adequada, ambiente arejado, calmo e silencioso, proporcionam maior aconchego às pessoas, especialmente quando do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3" name="Picture 2" descr="http://zairaempreendimentos.com/imagesuploads/fb68c2e21bcccf7491273f616486edce.jpg"/>
          <p:cNvPicPr/>
          <p:nvPr/>
        </p:nvPicPr>
        <p:blipFill>
          <a:blip r:embed="rId1"/>
          <a:stretch/>
        </p:blipFill>
        <p:spPr>
          <a:xfrm>
            <a:off x="5508720" y="1268280"/>
            <a:ext cx="3398760" cy="2549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ttp://1.bp.blogspot.com/_kG7GIu-WnY4/R2kFkS2sNoI/AAAAAAAAABk/qxM_FHePWhI/s400/silencio.jpg"/>
          <p:cNvPicPr/>
          <p:nvPr/>
        </p:nvPicPr>
        <p:blipFill>
          <a:blip r:embed="rId2"/>
          <a:stretch/>
        </p:blipFill>
        <p:spPr>
          <a:xfrm>
            <a:off x="6400800" y="3886200"/>
            <a:ext cx="2281320" cy="2457360"/>
          </a:xfrm>
          <a:prstGeom prst="rect">
            <a:avLst/>
          </a:prstGeom>
          <a:ln w="0">
            <a:noFill/>
          </a:ln>
        </p:spPr>
      </p:pic>
      <p:sp>
        <p:nvSpPr>
          <p:cNvPr id="125" name="Espaço Reservado para Rodapé 6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46784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namentação da unidade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7T13:02:48Z</dcterms:created>
  <dc:creator>Escolástica Moura</dc:creator>
  <dc:description/>
  <dc:language>en-US</dc:language>
  <cp:lastModifiedBy>Hamido</cp:lastModifiedBy>
  <cp:lastPrinted>1999-03-19T19:46:22Z</cp:lastPrinted>
  <dcterms:modified xsi:type="dcterms:W3CDTF">2011-07-26T13:08:22Z</dcterms:modified>
  <cp:revision>173</cp:revision>
  <dc:subject/>
  <dc:title>Intodução a Patologia Bás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../../2cts1pg.htm</vt:lpwstr>
  </property>
  <property fmtid="{D5CDD505-2E9C-101B-9397-08002B2CF9AE}" pid="9" name="LinkColor">
    <vt:r8>16711782</vt:r8>
  </property>
  <property fmtid="{D5CDD505-2E9C-101B-9397-08002B2CF9AE}" pid="10" name="MailAddress">
    <vt:lpwstr>repro@jhpiego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L:\english\2tools\2presgrp\ctschpt1\html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