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835C-CED6-47F3-9C0C-7154BF81D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8D52-7E59-4D37-AC5B-27011CD0A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5214-5D08-4519-8716-EA112B333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9383-45D4-4211-B957-08BD8E360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ACFA-9DE4-4706-A34E-183912FF3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2EBFA-F728-426F-9686-213C7144F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EAE44-A918-4B8F-BC47-6171AF392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9266-E0D4-49F5-B336-38C442E26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57FE-B6A7-48E7-8D75-59ECF7BFF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FA52-3B51-4B83-99DC-53779F87C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CF5F-B90C-477C-8A26-1C2182CE7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32C21-A929-4BCA-9DCA-9D452199D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F271D-F891-41BD-9395-F45B09A24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A3B4-7DDD-45A8-B629-B0A397909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7DF4-4D93-4DFE-AD34-307802264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F6CF-6CCC-4F37-8C93-E5094F6BD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D8C4-516F-49A8-B44D-DDDD1990F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81E9-7A2B-4E33-8F3B-2F9C9B5746D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1593360"/>
            <a:ext cx="6623280" cy="262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ÉDICO-CIRÚ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4572000"/>
            <a:ext cx="69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UBMÓDULO  12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UIDADOS DE ENFERMAGEM NAS EMERGENCIAS E URGENCI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ENDIMENTO INI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objetivo principal deste atendimento é manter a vida do cliente e prevenir seqüelas, estabelecendo prioridades ante cuidados prest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atendimento se realiza antes mesmo do estabelecimento do diagnóstico, pois visa minimizar os efeitos dos agravos que colocam o paciente em risco de vi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gra básica do atendimento, conhecida como o  da assistência de emergência, prioriza três ações a avalia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nível de consciênc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Manter as vias aéreas desobstruída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reservar a respiração e a cir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RAGEM CARDIORRESPIRATORI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agem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2781000"/>
            <a:ext cx="8381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Respiratóri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obstrução das vias aéreas, falência respiratór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Circulatória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rritmias, IAM,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Distúrbios metabólico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cidose, alcalose, desequilíbrio hidreletrolític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Ação de drog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nestésicos, cloreto de potássio, intoxicação digitálic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entagon 3"/>
          <p:cNvSpPr/>
          <p:nvPr/>
        </p:nvSpPr>
        <p:spPr>
          <a:xfrm>
            <a:off x="826920" y="1341360"/>
            <a:ext cx="2554560" cy="93528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41" y="0"/>
                </a:lnTo>
                <a:lnTo>
                  <a:pt x="21600" y="10800"/>
                </a:lnTo>
                <a:lnTo>
                  <a:pt x="17641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Paragem Cardior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4"/>
          <p:cNvSpPr/>
          <p:nvPr/>
        </p:nvSpPr>
        <p:spPr>
          <a:xfrm>
            <a:off x="3059280" y="1341360"/>
            <a:ext cx="2952720" cy="9352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os batimentos Cardí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5"/>
          <p:cNvSpPr/>
          <p:nvPr/>
        </p:nvSpPr>
        <p:spPr>
          <a:xfrm>
            <a:off x="5724360" y="1341360"/>
            <a:ext cx="2951280" cy="9352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a respi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826920" y="227664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Impossibilidade da oxigenação dos órgãos v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P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341000"/>
            <a:ext cx="4259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Dificuldade respiratória </a:t>
            </a:r>
            <a:r>
              <a:rPr b="1" lang="pt-BR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 Paragem respiratória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Ausência de puls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erda de consciênc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Imobilidad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Palidez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Cianose de extremidade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Midrías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6" name="Picture 2" descr="http://2.bp.blogspot.com/-LolAgJXegv4/TbrJw7CKuYI/AAAAAAAAAXE/Cp98ku4Rec8/s320/MwKBT0sF_desfibrilador1.jpg"/>
          <p:cNvPicPr/>
          <p:nvPr/>
        </p:nvPicPr>
        <p:blipFill>
          <a:blip r:embed="rId1"/>
          <a:stretch/>
        </p:blipFill>
        <p:spPr>
          <a:xfrm>
            <a:off x="4932360" y="3357720"/>
            <a:ext cx="3768840" cy="282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t0.gstatic.com/images?q=tbn:ANd9GcQhz-JhCsYgtpMVGtV1GngxBnqk_POh2jAiPb-ScizqAkIXJP_jsA"/>
          <p:cNvPicPr/>
          <p:nvPr/>
        </p:nvPicPr>
        <p:blipFill>
          <a:blip r:embed="rId2"/>
          <a:stretch/>
        </p:blipFill>
        <p:spPr>
          <a:xfrm>
            <a:off x="4562640" y="1341360"/>
            <a:ext cx="274608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t3.gstatic.com/images?q=tbn:ANd9GcSDnp4Hx4Xax-GaSwMF6Jw1dZiEQrwqAS3CwGfJSyv8cBNQg8fWTg&amp;t=1"/>
          <p:cNvPicPr/>
          <p:nvPr/>
        </p:nvPicPr>
        <p:blipFill>
          <a:blip r:embed="rId3"/>
          <a:stretch/>
        </p:blipFill>
        <p:spPr>
          <a:xfrm>
            <a:off x="6515280" y="1341360"/>
            <a:ext cx="2628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par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980640"/>
            <a:ext cx="5267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Na Sala de Emergência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Tábua de massagem cardíaca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edicamentos de atendimento de paragem cardíac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aterial de entub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ndas de aspir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mbu e máscar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luções endovenos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eringas + agulh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quipos de solução venosa e sang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parelho de desfibrilaçã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Balao de oxigeni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012000" y="1096920"/>
            <a:ext cx="2089080" cy="2979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5991120" y="4191120"/>
            <a:ext cx="22528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ssuscitação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 conjunto de manobras destinadas a garantir a oxigenacao dos órgãos quando a circulação do sangue de uma pessoa para paragem cardiorrespirato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bjectiv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onsiste na manutencao da via respiratoria pervia, fornecimento de ventilacao artificial por medidas de urgencia para respiracao e producao de circulacao artificial pela massagem cardiaca exter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TAPAS DE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- Vias aereas(Airway)-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nter as vias aereas permea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- Respiracao (Breathing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eservar a respiracao ( respiracao boca-boca, boca-mascara, ventilacao artificial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- Circulacao (Circulation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rantir a distribuicao de nutrientes e oxigenio as celulas (pressao intratorax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42640"/>
            <a:ext cx="83818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RCP inicia-se com os cuidados para a desobstrução das vias aéreas mediante a retirada de próteses, corpos estranhos e secreçõ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seguir, são realizados os procedimentos de abertura das vias aéreas superior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No caso de o utente não apresentar trauma, devemos hiperextender seu pescoço colocando uma das mãos sob sua nuca, levantando-a ligeiramente; com a outra mão posicionada sobre sua testa, traciona-se a cabeça para trás; ou pode-se colocar um coxim sob seus ombros, de forma a provocar a </a:t>
            </a:r>
            <a:r>
              <a:rPr b="0" lang="pt-PT" sz="2600" spc="-1" strike="noStrike">
                <a:solidFill>
                  <a:srgbClr val="c00000"/>
                </a:solidFill>
                <a:latin typeface="Arial"/>
              </a:rPr>
              <a:t>hiperextensão desejad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2457360" cy="27367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395280" y="52308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Avaliação da ví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4438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2124000" y="105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pt-PT" sz="1800" spc="-1" strike="noStrike">
                <a:solidFill>
                  <a:srgbClr val="00007d"/>
                </a:solidFill>
                <a:latin typeface="Arial"/>
              </a:rPr>
              <a:t>Obstrucao</a:t>
            </a: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da via aé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pela língua e epig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4788000" y="5445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c00000"/>
                </a:solidFill>
                <a:uFillTx/>
                <a:latin typeface="Arial"/>
              </a:rPr>
              <a:t>3</a:t>
            </a:r>
            <a:r>
              <a:rPr b="1" lang="pt-BR" sz="1800" spc="-1" strike="noStrike" u="sng">
                <a:solidFill>
                  <a:srgbClr val="002060"/>
                </a:solidFill>
                <a:uFillTx/>
                <a:latin typeface="Arial"/>
              </a:rPr>
              <a:t>. Abertura da via aérea </a:t>
            </a: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- o alívi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obstrução se dá pela inclinaçã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cabeça e elevação do que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o final do modulo o estudante tera adiquirido as seguintes competenci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erenciar emergencia de urge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ender o paciente e familia de forma humaniz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dentificar os sinais e sintomas das patologi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leccionar o material e EPI necessario para execussao das tecn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cutar os procedimentos correctamen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gistar corretamente no processo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4516560" y="1197000"/>
            <a:ext cx="4303440" cy="4746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382920" cy="2521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1042920" y="429264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4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Ventilação arti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2 insufl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68360" y="1066680"/>
            <a:ext cx="4032360" cy="15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348000" y="2733840"/>
            <a:ext cx="5516640" cy="3492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4500720" y="1413000"/>
            <a:ext cx="4392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5.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 relação insuflação:compres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2:15  - Adu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1:5 - Cria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obras RCP em crianç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928800" y="1628640"/>
            <a:ext cx="7878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OBSTRUCAO DAS VIAS AEREAS SUPERIOR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TRUCAO DAS VIAS AERE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 uma emergencia medica que pode estar ocluida de maneira parcial complet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Sinais e sintom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ufocaca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parencia apreensiv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ridor expiratorio e inspirator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Uso da musculatura acessoria (retracao supra esternal e intercostal)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Batimento de asas de nariz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nsiedade crescen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quietacao e confusa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75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TAMENTO/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inclinacao da cabeca e levantamento do queixo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-se com o paciente em decubito dorsa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golpe mandibular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sao levantados os angulos da mandibula inferior do paciente e desloca-se a mandibula para dia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sercao da via aerea orofaringea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inserido sobre a parte posterior da lingua dentro da faringe posterior inferior em paciente que respira de maneira exponta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tubacao endotraqueal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iste em estabelecer e manter a via aerea nos pacientes com insuficiencia respiratoria ou hipox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poio psicologic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EMORRAGIA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a saída de sangue do espaço intravascular (vasos e coração) para o compartimento extravascular ou para fora do organism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Tip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hemorragia pode ser interna ou extern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IN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332000" y="2276640"/>
            <a:ext cx="230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826920" y="191628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lteração do nível de consciência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gressividade ou passivi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remores e arrepios do corp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lso rápido e frac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spiração rápida e artifi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le pálida, fria e úmi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udorese;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pilas dilat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5435640" y="1989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aquez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Se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Ansiedade ou indiferença</a:t>
            </a:r>
            <a:r>
              <a:rPr b="0" i="1" lang="pt-BR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1042920" y="1268280"/>
            <a:ext cx="26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5724360" y="1268280"/>
            <a:ext cx="19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T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GENCIAS E EMERG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U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instalação súbit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sde as não graves até às graves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 risco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falência de funçõe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Eme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úbito, em que existe, estabeleci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u eminente, o compromiss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uma ou mais funções vitais. ( Rede de referencia hospitalar, Portugal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EX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75564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3708360" y="1341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6372360" y="1341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AP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755640" y="2133720"/>
            <a:ext cx="24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angue é vermelho v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ico em oxigên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rda é pulsátil, obedecendo às contrações sistólicas do coraçã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É mai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3635280" y="2276640"/>
            <a:ext cx="21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Vermelho e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obre em oxig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erda continua e com pouca pressao.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Menos grave que a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6659640" y="2421000"/>
            <a:ext cx="23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quenas perdas de sangue, em vasos de pequeno calibre que recobrem a superfície do corp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Sao as menos gr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QUENCIA E 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1. Choque hipovolêmico: perda rápida de grande quantidade de sangu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2. Anemia : sangramento crônico e repetido (ex : úlcera gástr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3. Asfixia : quando há hemorragia pulmon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4. Tamponamento cardíaco : especialmente por ruptura ventricular (infarto agudo do miocárdio)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5. Hemorragia intracraniana: o sangramento pode causar destruição do tecido nervoso e compressão dos vasos adjacentes, causando isque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s hemorragias pequenas em locais vitais podem ser fatais.Por exemplo: a ocorrência de um hemorragia no espaço subaracnóide pode causar vasoconstrição arterial prolongada, que por sua vez pode causar infarto do tecido nervoso e a morte d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In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o acidentado e elevar os membros inferior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Prevenir o estado de choque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Referir a equipe de cirur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Controlar regularmente os parametros hemodinamicos e circulatorio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Ex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a vítima; o repouso da parte ferida ajuda a formação de um coágul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Se o ferimento estiver coberto pela roupa, descobri-lo (evitar, porém, o resfriamento do acidentado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ter a hemorragi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Evitar o estado de choqu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NICAS PARA ESTANCAR 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levacao da regiao acident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mponamen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pressao arterial ( directa e indirect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rniquete ( como ultima tentativ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HOQU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uma crise aguda de insuficiência cardiovascular, ou seja, o coracao e vasos não são capazes de irrigar todos os tecidos do corpo com oxigenio sufi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CHO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ipovolem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hemorragia grave, desidratacao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p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bacterias que produzem endotoxina que causa vasodilatacao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rdiogen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falencia do coracao em manter pressao sanguine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afilatic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(causada por alergeno derivado dedrogas, mordedura ou picadas de insectos, medicamentos, alimentos, derivados de sangue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hipovolemic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42640"/>
            <a:ext cx="83818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aquicardia, Hipotensão, Sede, Oliguria,  Alterações de comportamento, Taquipn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rigoroso da Tensao Ar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posição dos volumes dos líquidos perdidos:  - SF a 0,9% e Ringer Lacta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reparo do paciente para cirurgia em caso de hemorragia persistent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dministração de anti-hemorrágicas prescrito pelo méd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e vigilância constantes no pa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ANAFILAT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ianose, comichao, perda da consciência, paragem cardiorrespiratoria progressiva, queda repentina da tensao sanguínea, respiração ruidosa, tosse, rubor de fac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locar o paciente em posição supin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livre as vias aére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onitorar os sinais vit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Administrar oxigênio, epenifrina, aminofilina,corticoides injetáveis, segundo a prescrica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veia canalizada com soluções de cloreto de sódio a 0,9%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OS ETICO-LEG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lação entre enfermeiro e pacientes  e assentada em bases humanitárias, éticas e legais, garante a melhor relação interpessoal e favorece o correto processo diagnós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e terapêu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Responsabilidade de enfermagem: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corre quando o enfermeiro não cumpre a obrigação que tem em relação ao paciente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ndo-lhe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crescentar outros tipos de choqu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UMATISMO E POLITRAUMATISM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umatis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uma lesao ou ferida mais ou menos estensa, produzida por accao violenta de natureza fisica ou quimica externa ao organis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olitraumatis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lesões múltiplas de diversas naturezas que podem comprometer diversos órgãos e sistem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TRAUMATISM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tuso: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superficie corporal externa, nao penetrando 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enetra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area concentrada, com isso ha pouca dispersao de energia provocando laceracao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tensa dor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de ter sangrament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iculdade em movimentar o local afect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 for na cabeca pode ter perda de visao, incosciencia, sangramento nas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9640" y="1142640"/>
            <a:ext cx="8299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da hemorrag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unção de veia para reposição das perdas sangüíneas e administração de medicament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Sondagem vesical, se prescrita, para avaliação do débito urinári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rigoroso da administração e perda de líquidos, PVC e sinais vitai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mobilização das fraturas, observando as extremidades (coloração, temperatura e puls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valiação da ansiedade do paciente, orientando e esclarecendo sobre o seu estado, procedimentos e dúvi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QUEIMADURA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imadu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ao lesoes na pele, provocada geralmente pelo calor ou pelo frio, mas que podem tambem ser provocadas pela electricidade, por contacto com certos produtos quimicos, radiacoes, ou ate por fri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profund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extens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67480" cy="936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o a profundida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1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ncontra-se vermelha e dolorida.  Atinge a epiderme. A resposta capilar é normal. Com o tempo, a pele descasca-se mas cura-se espontaneamente depois de 5 a 7 dias. Este estado não requer tratamento. 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83664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esponsabilidade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 enfermeiro nao deve se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egligente, imprudente e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ericia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ir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. Neglig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u a não observância de determinados deveres por parte do enfermeiro. Exemplo: procedimento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2. Imprud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cautela, precipitação ou audácia 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o médico. Exemplo: utilizacao de tecnica de penso nao adequ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superficiai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 com bolhas e dolorid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sposta capilar é normal. Quando as bolhas são abertas, a pele por baixo das bolhas é vermelha e brilha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 a queimadura for mantida livre de infecções, a pele cura-se espontaneamente entre 10 a 14 di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143000"/>
            <a:ext cx="641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profunda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, rosada ou pálida. Sente-se a pele grossa e existem bolh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a der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não fica branca quando se testa a resposta capilar. As sensações de dor e toque estão reduzid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queimadura cura-se deixando uma cicatriz, normalmente, no decurso de três seman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7" name="Picture 2" descr="http://4.bp.blogspot.com/_pMxMXFn7L-4/TOmTpQzbMMI/AAAAAAAARF8/RyNteagoYLU/s1600/queimadura+2%25C2%25BA+grau.jpg"/>
          <p:cNvPicPr/>
          <p:nvPr/>
        </p:nvPicPr>
        <p:blipFill>
          <a:blip r:embed="rId1"/>
          <a:stretch/>
        </p:blipFill>
        <p:spPr>
          <a:xfrm>
            <a:off x="6227640" y="1628640"/>
            <a:ext cx="28083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08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143000"/>
            <a:ext cx="627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3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branca, castanha ou preta e se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m bolh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os musculos e os os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 sensação de toque ou dor. Não existe resposta capilar e por isso não há sinais de circulação de sangue através dos teci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0" name="Picture 2" descr="http://4.bp.blogspot.com/_pMxMXFn7L-4/TOmUKll0cRI/AAAAAAAARGA/2JDrT2EfK9o/s1600/queimadura+3%25C2%25BA+grau.jpg"/>
          <p:cNvPicPr/>
          <p:nvPr/>
        </p:nvPicPr>
        <p:blipFill>
          <a:blip r:embed="rId1"/>
          <a:stretch/>
        </p:blipFill>
        <p:spPr>
          <a:xfrm>
            <a:off x="6372360" y="1989000"/>
            <a:ext cx="2466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O A EXTEN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Varios metodos sao usados para estimar a area de superficie corporal total (ASCT) lesada por queimadura, entre eles esta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1. Regra dos noves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 que designa percentuais em multiplos de nove para as principais superficies corporais. A cabeca e os membros superiores tem a percentagem de 9%, MI 18% cada, Torax e Abdomem 18% cada e orgaos genitais 1%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.Metodo de Lund e Browder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vide o corpo em areas pequenas e estima a percentagem da area queimada com a idade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. Metodo de palm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ste metodo usa a palma do paciente para medir a percentagem da zona queimada, a palma e de 1%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ra dos no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2" descr="http://3.bp.blogspot.com/_pMxMXFn7L-4/TOh2CJOmIsI/AAAAAAAARF4/-ok1NmwRlyA/s1600/queimaduras.jpg"/>
          <p:cNvPicPr/>
          <p:nvPr/>
        </p:nvPicPr>
        <p:blipFill>
          <a:blip r:embed="rId1"/>
          <a:stretch/>
        </p:blipFill>
        <p:spPr>
          <a:xfrm>
            <a:off x="1835280" y="1052640"/>
            <a:ext cx="5184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feccoes da pel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eloid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atu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rda de grande quantidade de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UIDADOS DE ENFERMAGEM DE EMERGENCIA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143000"/>
            <a:ext cx="8370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nalizar veia e administrar muitos fluidos EV segundo a prescricao medic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o paciente a beber muito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onda vesical para medicao de diure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analgesicos segundo a prescri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olar os SV regularm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VAT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IDADOS DE ENFERMAGEM TARDI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er penso com sulfadiazina de prat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rcicio de fisioterapia para impedir atrofia muscular e mobil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ducaca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TOXICACAO EXOGENA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. Impericia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inaptidão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gnorância, falta de destreza ou insuficiência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 conhecimento técnico por parte do enfermeiro.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mplo: introduç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alimentação no trato respiratóri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ravés de sonda mal posicion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OXICACAO EXOGE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ção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a condição seguida da administração de substâncias psicoativas e resultante em distúrbios no nível de consciência, congnição, percepção, julgamento, afeto ou comportamento, ou outra resposta ou função psicofisiológ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cao exogena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: pode ser definida como consequencia clinica e ou bioquimicas, da exposicao a substancias quimicas encontradas no ambiente isolad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as de intox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gest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ala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aminacao cutane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odutos alimenta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secticidas (organofosforados e carbamat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salicil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animais venenosos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o clin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24000" y="1341360"/>
            <a:ext cx="2519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DIGES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Vóm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Diarre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Hemorragias digestivas  - Acção directa do tó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132000" y="1413000"/>
            <a:ext cx="5688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RESPIRATÓ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Obstrução das vias aé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Paralisia muscu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epressão do centro respirató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a hemoglobina e normal transporte de oxigé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iminuição da pressão ar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os sistemas enzimáticos celulares que têm a cargo a utilização do oxigénio pela célu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Edema pulmonar agudo – inalação de gases e aspiração de liqu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324000" y="1413000"/>
            <a:ext cx="273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RE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Oligú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Insuficiência renal ag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2987640" y="1413000"/>
            <a:ext cx="295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NEUR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Convulsões – A morte ocorre por espasmos dos músculos respiratórios ou depressão respiratória após convul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Pupila    midríase            Mi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79280" y="3500280"/>
            <a:ext cx="28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CARDIOVAS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lesão do miocárdio por tóxicos é r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taquicardia é um sinal frequ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5940360" y="1413000"/>
            <a:ext cx="3025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HEMAT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Reacções hemol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Febre,  Vómitos / naúseas,  Dor abd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Discrasias sangu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Agranuloci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Leucopenia e Trombocitop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das Ger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valiar os sinais vitais e mantê-los em parâmetro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dequad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vagem gas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arvao activado, apos a lavagem gastrica: consiste na absorsao de compostos presentes no intestino e os ja absorv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xativos: manitol a 20% 150 a 200ml de 8/8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FALTA OS SINAIS E SINTOMAS DE OUTRAS INTOXICACO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RDEDURAS E PICADA POR ANIMAI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DEDURAS E PICA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fere se accao ou efeito de morder, dentada ou picada como consequencia duma accao animal ou huma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o padrão de encaixe dos dentes inferiores aos superiores na arcada dentária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143000"/>
            <a:ext cx="4043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mordeduras  mais frequentes sa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b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oedo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imais ferroz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uman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5003640" y="112536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picadas mais frequentes s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be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s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orm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qu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ixes venen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QUENCIAS DE MORDEDURA E PICA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41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aiv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Vene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Hemorrag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ec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erda de tecido, em ferimentos desfigurante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Téta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eacções alérgic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MORDEDURA ANIM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a ferida estiver inchada, aplicar gelo embrulhado num pano limpo por 10 minuto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ormar-se se o cão está correctamente vacinad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rovidencie que a vítima receba a vacina do tétano, se não a tiver tom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unca se deve suturar a fer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delidad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fidencialidad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racidade das informações prestad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IDADOS NA MORDEDURA HUM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Lavar o ferimento com água e sabão pelo menos durante 5 minutos, mas sem esfregar com forç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Cobrir o ferimento com compressa esterilizad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estiver inchada colocar gelo</a:t>
            </a:r>
            <a:r>
              <a:rPr b="1" lang="pt-PT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P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ão retire os ferrões com pinças nem os esprema. Raspe o local com lâmin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com álcool ou outro anti-séptico (Betadine dérmico)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Aplicar gelo local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SMAIO/SINCOP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MA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a perda subita e transitoria de consciencia e consequentemente da postura, devido a isquemia cerebral transitoria ( reducao na irrigacao do sangue para o cerebr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Hipoglicem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Factor emocional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or extrem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mbiente confin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ont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nsação de mal est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ulso rápido e frac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spiração presente de ritmos vari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remor nas sobrancelh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ele fria, pálida e húmi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 superfic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A PREST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rejar o ambiente, ou transportar a vítima para um local com melhor venti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levar os membros inferiores, com uma mochila, roupas, etc. com isso, o sangue circula em maior quantidade no cérebro e nos órgãos nobres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Virar a cabeça para o lado, evitando que a vítima venha a vomitar e possa se asfixiar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frouxar a roupa, para uma melhor circu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pós o desmaio ter passado, não dê água imediatamente, para evitar que a vítima se afogue, pois ainda não está com seus reflexos recuperados totalmente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mesmo em relação a deixá-la caminhar sozinha imediatamente após o desmaio. Faça-a sentar e respirar fundo, após auxilie-a a dar uma volta, respirando fundo e devag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m isso, o organismo se readapta a posição vertical e evita que ela possa desmaiar novamente, o que pode ocorrer se ela levantar brusca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pós esses procedimentos, pode dar água a víti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CONVULSO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vulsã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erda súbita da consciência acompanhada de contrações musculares bruscas e involuntárias, conhecida popularmente como “ataque”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ausas variadas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pilepsi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ebre alt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Traumatismo crani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nfecções do cérebro, HIV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Malária, raiva, sífilis, tét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luxo sangüíneo inadequado para o céreb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ipertensã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emorragia intracranian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Queda abrupta da viti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alivação abundante e vôm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ntração brusca e involuntária dos múscul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nrijecimento da mandíbula, travando os dent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laxamento dos esfíncteres (urina e/ou fezes soltas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sque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E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5e"/>
                </a:solidFill>
                <a:uFillTx/>
                <a:latin typeface="Arial"/>
              </a:rPr>
              <a:t>O atendimento de urgência é uma obrigação do Estado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direito ao atendimento de emergência é igual ao direito à vida, à educação, ao trabalh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tc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da acção n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tor de urgência deve ser fundamentada em rotinas próprias e protocolo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sistenciais previamente aprovados e constantemente revis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143000"/>
            <a:ext cx="83818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Generalizadas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ocorrem em qualquer idade, em qualquer momento. O intervalo entre as crises varia bastant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ão generalizada aguda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caracterizado por perda da consciência e contrações musculares involuntárias tônico-clônicas generaliza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de grande mal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(motoras principais) - convulsões contínuas persistentes ou episódios graves consecutivos sem a restauração da consciência.  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142640"/>
            <a:ext cx="83818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) Proteger o paciente evitar que o paciente se bata nos objetos que o rodeiam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b) Colocar o paciente em decúbito lateral para evitar bronco-aspiraçã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) Proteger a boca e isolar as vias respiratórias, e colocar uma compressa dobrada entre os dent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) Administrar oxigên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e) Controlar os movimentos do paciente, segurando-o com 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f) Aplicar tratamento farmacológico de acordo com o prescrito. O fármaco mais usado durante a crise é o diazepam EV lento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h) Quando o paciente despertar, reoriente-o quanto ao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SOLACAO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OL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o conjunto de sintomas que acometem uma pessoa exposta demasiadamente ao so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contece quando o organismo fica incapacitado de controlar a sua temperatu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tensa falta de ar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esidratação e a queimadura da pel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efalei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Nauseas e tontur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emperatura corporal elevad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Diarre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ele quente, avermelhada e sec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xtremidades roxead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conscienc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ulso rapido e for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omichao terrive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evar o paciente para um local fresco e arejad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ita-la com a cabeca elev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locar compressas frias sobre a cabeca e envolver o corpo com taoalha molhada (agua e vinagre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ncaminhar o paciente ao clin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a beber muito liqu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 NECESS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arrinha de emergencia contendo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buleiro, canula, ambu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eringas, agulhas, esfigmomanomet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etoscopio, termometro clinico, espatul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Fios de sutura, kit A de penso, garo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ateter venoso, adesivo, couve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ca com quadrados de algodao, laringoscop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Otoscopio, ataduras, algodao, gess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ondas, vaselina e lidocaina loc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cia com agu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pirador, Balao de oxigeni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ti-septicos, sor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iomb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uvas de procedimento ou cirurg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scaras descartavei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vental impermeave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rre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culos de prote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Rede de Referenciação Hospitalar de Urgência/Emergência 14 de Novembro de 2001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orensen e Luckmann, Enfermagem Fundamental, 3ª edicao, Edictora Lusodidactica, Lisboa, 1998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melter e Bare, Enfermagem Medico-cirurgica, Editora Guanabarra, Vol 2, 10ª Edicao, 2005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2.unoeste.br/~aulasmedicina/arquivos/07e 08.../saud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LEG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Código Civil normatiza aquele que por ação ou omissão voluntária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negligência ou imprudênci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violar direito ou causar dano a outrem, ainda que exclusivamente moral, comete acto ilícito, sendo obrigado a reparar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17:46Z</dcterms:created>
  <dc:creator>Hamido</dc:creator>
  <dc:description/>
  <dc:language>en-US</dc:language>
  <cp:lastModifiedBy>hp</cp:lastModifiedBy>
  <dcterms:modified xsi:type="dcterms:W3CDTF">2013-10-31T10:22:01Z</dcterms:modified>
  <cp:revision>52</cp:revision>
  <dc:subject/>
  <dc:title>Paragem Cardiorrespiratória</dc:title>
</cp:coreProperties>
</file>