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0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2EBA-DB90-4E03-AEFC-D027DF8AC423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4FD5-DFC6-487E-8EAC-D1EA6659E9D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F96DD-ADDC-455B-8BA7-19DBAA964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DA087-4EA6-4251-AECD-8A10C4361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FD95B-DCE7-4E20-B913-F22EA1133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C2F44-10C2-4969-A636-1B786D874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D0C4E-2223-490F-BC8E-30D7E131C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883EC-7B52-4534-9B61-3635122729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994F6-E0ED-4223-A2BD-AC082657C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1D573-D01F-49F6-B332-9A4FD4396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32976-2CB5-4402-A20A-F0AB83B1D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DB124-0F15-4359-9C4D-AAA6D2D22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1F1D4-1EBD-4C34-A2B3-A4D207B6C5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E3DC3-4406-4E08-BE51-D7DE0CDD6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BF1D-DD8B-4646-BCD3-3E24AA94C24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diagnosticoenfer.hdfree.com.br/DIAGNOSTICOS%20DE%20ENFERMAGEM/Sindrome/SINDROME%20DO%20%20DESUSO.htm" TargetMode="External"/><Relationship Id="rId2" Type="http://schemas.openxmlformats.org/officeDocument/2006/relationships/hyperlink" Target="http://diagnosticoenfer.hdfree.com.br/DIAGNOSTICOS%20DE%20ENFERMAGEM/Sindrome/SINDROME%20DO%20DEFICIT%20NO%20AUTOCUIDADO.htm" TargetMode="External"/><Relationship Id="rId3" Type="http://schemas.openxmlformats.org/officeDocument/2006/relationships/hyperlink" Target="http://diagnosticoenfer.hdfree.com.br/DIAGNOSTICOS%20DE%20ENFERMAGEM/Risco/RISCO%20PARA%20LESAO.htm" TargetMode="Externa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5560&amp;ST=SE&amp;franq=136426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9"/>
          <p:cNvSpPr/>
          <p:nvPr/>
        </p:nvSpPr>
        <p:spPr>
          <a:xfrm>
            <a:off x="243828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76960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ODULO 9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RÁTICAS DE ENFERMAGEM II: ENFERMAGEM MÉDICO-CIRÚRGIC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762120" y="2017440"/>
            <a:ext cx="777240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CUIDADOS DE ENFERMAGEM AO DOENTE COM ALTERACÇÕES NEUROLÓGICAS E MOTORA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nter o Equilíbrio Hídrico e Controlando as Necessidade Nutricionai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estado de hidratação é avaliado examinando-se o turgor tecidual e as membranas mucosa, avaliando-se as tendências de ingestão e excreção e analisando-se os dados laboratoriais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porcionar o cuidado da boc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boca é inspeccionada quanto a ressecamento, inflamação e formação de crostas. Os pacientes inconscientes precisam de um cuidado oral consciencioso, porque há um risco de parotidite se a boca não mantida bem limp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1546-CD89-44F8-89E4-942D43906DA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nter a integridade da pele e das Articulaçõe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vitar a ruptura da pele exige avaliações contínuas da Enfermagem. Dá-se uma atenção especial aos pacientes inconscientes, porque eles não podem responder a estímulos externos. Uma prescrição inclui virar o paciente a intervalos regulares para evitar a pressão, que pode causar a ruptura e a necrose da pel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eservar a Integridade da Córne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guns pacientes inconscientes ficam com os olhos abertos e têm reflexos córneos inadequados ou ausentes. A córnea pode ficar irritada, ressecada ou arranhada, ocasionando ulceraçõ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99EE-E53A-4F48-8853-B4EAAF7C296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nter a Temperatura Corporal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Uma febre alta num paciente inconsciente pode ser causada por uma infecção de trato respiratório ou urinário, reacções de drogas ou uma lesão de centro hipotalâmicos para a regulação da temperatura. Uma ligeira elevação de temperatura pode ser causada pela desidrataçã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vitar a retenção Urinari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paciente com alteração do nível de consciência com frequência apresenta incontinência ou tem retenção urinári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2A2F-3E26-4EA7-82E8-02FE93926CB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bexiga é palpada ou examinada periodicamente por técnicas de aquisição de imagens para determinar se está presente a retenção urinária, porque uma bexiga cheia pode ser uma causa não - percebida de incontinência por transbordamen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mover o Funcionamento Intestinal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abdómen é avaliado quanto à distensão auscultando-se os sons intestinais e medindo-se as circunferências do abdómen com uma fita métrica. Há risco de diarreia por infecção, uso de antibióticos e líquidos hiperosmolar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0C4E-438B-45B0-AD4E-AC82A5A9A43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porcionar Estimulação Sensorial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enfermeira toca o paciente e fala com ele encorajando familiares e amigos do paciente a fazer o mesmo. A comunicação é extremamente importante e inclui tocar o paciente e passar tempo suficiente com ele para ficar sensível a sua necess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tender às Necessidades da Famíli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família do paciente com alteração de nível de consciência pode ser lançada num súbito estado de crise e passar pelo processo de ansiedade grave, negação, raiva, remorso, tristeza e reconcili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197B-BC87-40B5-AF76-AE2F75CB4DB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onitorar e Tratar as Complicações Potenciai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neumonia, aspiração e insuficiência respiratória são complicações potenciais em qualquer paciente que tenha um rebaixamento do nível de consciência e que não possa proteger suas vias aéreas ou de virar tossir e respirar fundo. Quanto maior for a duração do período de inconsciência, maior o risco de complicações pulmonar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AD56-80CE-443E-AD07-82FC7CE0034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VULSÕ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vulsões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As convulsões são episódios de actividades motora, sensorial, autonómica ou psíquica anormal (ou uma combinação destas), que decorrem de uma descarga súbita e excessiva de neurónios cerebrais (Hickey) parte do cérebro ou todo ele pode ser envolvi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classificação internacional de crises convulsivas diferencia dois tipos principai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rises parciais, que se iniciam numa parte de cérebr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rises generalizadas, que envolvem descargas eléctricas no cérebro inter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53F3-9EE1-4D56-A9E5-7BB30F8AEF1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NIFESTAÇÕES CLÍN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09480" y="1143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Numa crise parcial simple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consciência permanece intacta, enquanto, numa crise parcial complexa, a consciência se altera. As crises não classificadas são designadas desse modo devido a dados incomple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causa subjacente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 distúrbio eléctrico (disritmia) nas células nervosas numa região do cérebro; essas células emitem descargas eléctricas anormais, recorrentes e não controladas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1885-EA01-45A7-89E8-C6280423D6F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crise convulsiva típic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a manifestação dessa descarga neuronal excessiva. Pode haver também uma perda de consciência associada, movimento excessivo, ou perda do tonus muscular ou do movimento e distúrbios do comportamento, humor, sensação e percep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3BBF-0F66-4CDA-9863-65483D6DA4C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NIFESTAÇÕES CLÍN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causas específicas das crises convulsivas são variad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 podem ser classificadas como idiopáticas (defeit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genéticos, defeitos do desenvolvimento) e adquirida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s causas das convulsões adquiridas incluem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enças Vasculares Cerebr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ipoxémia por qualquer causa, incluindo insuficiência vascula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ebre (na infância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esões Crânio-encéfalo</a:t>
            </a: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0C08-0C57-40EB-BDA1-41A878C8126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7D20-36BB-46CA-B5EC-107A6426623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160" y="2819160"/>
            <a:ext cx="830556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conhecer o estado de inconsciência usando a escala de coma de Glasgow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leccionar os cuidados de enfermagem a prestar ao utente inconsciente, prevenindo as complicações decorrentes do estado clínico do ut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0A45-5A0D-4470-B2CC-04D2B4934C78}" type="slidenum">
              <a:rPr b="1" lang="pt-B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143000" y="12193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Após a discussão desse tema os alunos deverão ser capaz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3657600" y="2286000"/>
            <a:ext cx="18288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1371600" y="22860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A35F-19AB-476D-9427-41E0E29D3EB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ipertens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fecção do Sistema Nervoso Centr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dições metabólicas e tóxicas (Ex: Insuficiência renal, hiponatrémia; hipoglicémia, insecticidas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umor cerebr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bstinência a droga e álcoo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ergi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533520" y="1523880"/>
          <a:ext cx="8381880" cy="4800600"/>
        </p:xfrm>
        <a:graphic>
          <a:graphicData uri="http://schemas.openxmlformats.org/drawingml/2006/table">
            <a:tbl>
              <a:tblPr/>
              <a:tblGrid>
                <a:gridCol w="3276360"/>
                <a:gridCol w="510552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RISES PARCIAIS (COM INICIO LOCALIZA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INTO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7080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rises parciais simples (com sintomas elementares, geralmente sem alteração de consciênci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mot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sensoriais especiais ou somatossensori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autonóm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ormas compos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16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parciais complexas (com sintomas complexos, geralmente com alteração de consciênci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alteração de consciência tão-so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cogni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afec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psicossensori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psicomotores (automatism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ormas compos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17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8DD6-70F8-4EAB-B52E-7EAF90D80DA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533520" y="10666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CLASSIFICAÇÃO INTERNACIONAL DAS CRISES CONVULS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533520" y="990720"/>
          <a:ext cx="8305560" cy="3627360"/>
        </p:xfrm>
        <a:graphic>
          <a:graphicData uri="http://schemas.openxmlformats.org/drawingml/2006/table">
            <a:tbl>
              <a:tblPr/>
              <a:tblGrid>
                <a:gridCol w="3352680"/>
                <a:gridCol w="495288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RISES PARCIAIS (COM INICIO LOCALIZA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INTO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71160">
                <a:tc rowSpan="7"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rises parciais secundariamente generaliz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RISES GENERALIZADAS (CONVULSIVAS OU NÃO-CONVULSIVAS, BILATERALMENTE SIMÉTRICAS SEM INICIO LOCALIZAD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 tónica - clônica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tón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clôn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de ausência (pequeno m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atón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mioclônicas (epilépticas bilateralmente maciças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não-classificad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17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0A23-FEC8-4386-BD4C-36D2C97C443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urante uma Convuls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privacidade e proteger o paciente dos curiosos (o paciente que tiver uma aura- aviso de uma convulsão importante-pode ter de procurar um lugar seguro e com privacidade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ocar o paciente no chão, se possíve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teger a cabeça com uma almofada para evitar uma lesão (por bater uma superfície dura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366F-0016-4CE3-A845-66DACA04583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533160" y="114264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urante uma Convuls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purrar para longe quaisquer móveis que possam lesar o paciente durante a convuls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 o paciente estiver na cama, remover travesseiro e elevar ao gradis later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 uma aura preceder a crise, inserir uma vis aérea oral para reduzir a possibilidade de o paciente morder a língua ou a bochech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55C2-A427-44FA-A09A-5591662C702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6840" y="12193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tentar abrir a boca que está cerrada nem inserir objectos. Dentes quebrados e lesão dos lábios e da língua podem ocorrer em consequência dessa ac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se deve fazer nenhuma tentativa de conter o paciente durante a crise, porque as contracções musculares são fortes e a contracção pode produzir lesõe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86BB-7FF9-42F8-ABB8-6DCAE44B016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6840" y="10663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pois da Cri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o paciente deitado de lado para evitar a broncoaspiração. Certificar-se que a via aérea está permeáve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á geralmente um período de confusão mental após uma crise de grande m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Um curto período de apneia pode ocorrer durante uma crise generalizada ou imediatamente após a mesm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o despertar, o paciente deve se reorientado quanto ao ambiente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8D0C-6A01-4014-97B1-38214AE636E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6840" y="11430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 o paciente ficar agitado após uma crise (período pos-ictal), usar persuasão tranquila e uma concentração lev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56EB-08C6-48FE-959C-DEB5331D36C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</a:t>
            </a:r>
            <a:br>
              <a:rPr sz="2800"/>
            </a:b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Depois da Cr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3" descr="4ABE2E0"/>
          <p:cNvPicPr/>
          <p:nvPr/>
        </p:nvPicPr>
        <p:blipFill>
          <a:blip r:embed="rId1"/>
          <a:srcRect l="19086" t="5674" r="9939" b="53748"/>
          <a:stretch/>
        </p:blipFill>
        <p:spPr>
          <a:xfrm>
            <a:off x="533520" y="1981080"/>
            <a:ext cx="82296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erturbações do sono: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São alterações na conciliação do sono ou durante o mesmo, ou então alterações relativas à duração do sono, ou a comportamentos anormais associados ao sono, como o terror nocturno e o sonambulism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on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algo necessário para sobreviver e gozar de boa saúde, mas ainda não se sabe porque se necessita do sono nem exactamente como nos benefici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C3B6-D920-4B1F-83B4-15B5C510CE4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necessidades individuais de sono variam amplamente 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os adultos saudáveis vão de apenas 4 horas diárias 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ono até 9 hora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Geralmente, as pessoas dormem de noite, embora muitas 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açam durante o dia devido aos seus horários de trabalho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ituação que muitas vezes provoca perturbações do son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71A5-24E3-419B-80E5-BE1142824A8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4B09-495C-4BC0-9C14-84DA8DF1133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11430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conhecer o utente em estado convulsivo de forma a prestar medidas de enfermagem prevenindo as complicaçõe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conhecer a importância dos cuidados de enfermagem no utente com mobilidade física prejudicada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leccionar os cuidados de enfermagem a prestar ao utente com mobilidade física prejudicad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ÊNCI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0948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uitos factores, como a excitação ou o </a:t>
            </a:r>
            <a:r>
              <a:rPr b="0" i="1" lang="pt-PT" sz="2400" spc="-1" strike="noStrike">
                <a:solidFill>
                  <a:srgbClr val="000066"/>
                </a:solidFill>
                <a:latin typeface="Arial"/>
              </a:rPr>
              <a:t>stress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ocional, podem determinar as horas de sono de uma pessoa e a forma como se sente ao despertar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s medicamentos podem também desempenhar u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pel: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guns produzem sonolência enquanto outros dificultam o so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clusive certos alimentos ou aditivos, como a cafeína, as especiarias fortes e o glutamato monos sódico, podem afectar o so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E6BB-9FE7-4B79-AA88-683B0AFC3E8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sónia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É a dificuldade em conciliar o sono ou permanecer adormecido, ou uma alteração no padrão do sono que, ao despertar, leva à percepção de que o sono foi insuficiente. A insónia não é uma doença, mas um sintoma. Pode ser consequência de diversas perturbações emocionais e físicas e do uso de medicament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78BD-A4D5-4DBC-A6DE-245DC556ED0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6840" y="114300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dificuldade em conciliar o sono é frequente entre jovens e idosos e muitas vezes manifesta-se no decurso de alterações emocionais, como a ansiedade, o nervosismo, a depressão ou o temor. Há mesmo pessoas que têm dificuldade em conciliar o sono simplesmente porque não experimentam cansaço, nem físico nem ment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4AA3-A9DE-459D-A183-A9D4A20F85C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0948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Hipersónia: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É um aumento das horas absolutas de sono, aproximadamente em 25 % mais do que padrão normal de so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bora seja menos frequente que a insónia, a hipersónia é um sintoma que muitas vezes indica a possibilidade de uma doença grave. As pessoas saudáveis podem experimentar uma hipersónia temporária durante algumas noites ou dias como consequência de um período de privação de sono continuado ou devido a um esforço físico pouco habitual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2947-2309-477F-8FA0-455EE81BF0F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160" y="99036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Narcolepsi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a alteração pouco frequente do sono, que se caracteriza por crises recidivantes de sono durante as horas normais de vigília e também de cataplexia, paralisia do sono e alucinaçõ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conhece-se a causa, mas a perturbação costuma apresentar-se em pessoas com antecedentes familiares, o que sugere uma predisposição genétic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bora a narcolepsia não tenha consequências graves para a saúde, pode produzir um sentimento de temor e aumentar o risco de acident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3303-92EA-456C-8961-9D0CF6DFD0D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pneia durante o son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 grupo de perturbações graves em que a respiração se suspende repetidamente durante o sono (apneia) um tempo suficientemente prolongado para provocar uma desoxigenação sanguínea e cerebral e aumentar a quantidade de anidrido carbónic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apneia obstrutiva deve-se a uma obstrução na garganta ou nas vias respiratórias superior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apneia central é consequência de uma disfunção na zona do cérebro que controla a respir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4543-97F8-4A5D-B81B-4B10A7EAD4B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rassónia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ão sonhos e actividades físicas particularmente vividas que se apresentam durante o so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síndroma das pernas inquietas (acatisia)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a perturbação bastante comum que costuma aparecer exactamente antes de adormecer, particularmente entre os maiores de 50 an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0065-F108-4ED0-B84A-2FC930A4D89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obretudo em situações de </a:t>
            </a:r>
            <a:r>
              <a:rPr b="0" i="1" lang="pt-PT" sz="2400" spc="-1" strike="noStrike">
                <a:solidFill>
                  <a:srgbClr val="000066"/>
                </a:solidFill>
                <a:latin typeface="Arial"/>
              </a:rPr>
              <a:t>stress,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as pessoas com acatisia experimentam um ligeiro mal-estar nas pernas, juntamente com movimentos espontâneos e incontroláveis das mesm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conhece-se a causa desta perturbação, mas mais de Um terço dos afectados têm antecedentes familiares. Por Vezes, pode prevenir-se tomando benzodiazepinas antes de se deit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1C93-2B78-486F-94D7-8BB875D854A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errores nocturno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ão episódios de medo com gritos e agitação e muitas vezes são acompanhados de sonambulismo. Estes episódios costumam aparecer durante as fases não do ciclo do sono. Pode ser útil o tratamento com benzodiazepinas, como o diazepa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esadelo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fectam crianças e adultos e são sonhos particularmente vividos e aterradores, seguidos de um despertar brusco. Os pesadelos verificam-se durante o sono e são mais frequentes em estados febris, situações de cansaço excessivo ou depois da ingestão de bebidas alcoólicas. Não existe um tratamento específico para corrigir a perturb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45E5-2FDD-484B-9020-4FBCC76D8E9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onambulismo: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É o acto de andar de forma semiconsciente durante o sono sem se aperceber disso e é mais frequente no final da infância e durante a adolescênci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pessoas não sonham durante os estados de sonambulismo; de facto, a actividade cerebral nesse período, embora normal, parece-se mais com a de um indivíduo desperto do que com a de um estado de so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s sonâmbulos podem murmurar de forma repetida e alguns magoam-se ao tropeçar em obstáculos. Geralmente, a maioria não recorda o episód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556D-7850-4C89-9EA4-A8B244E6927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ALTERAÇÃO DA CONSCIÊNCIA 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CEIT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ceito de consciênci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dição de responder a estímulos ambientais e perceber esses estímul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ceito de inconsciênci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dição de responder menos a estímulos ambientais e perceber menos esses estímul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m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 estado de ausência de resposta não possível de activação no qual não há respostas intencionais e estímulos internos e externos, embora possam estar presentes respostas não-intencionais a estímulos dolorosos e reflexos do tronco cerebral. A duração do coma limita-se habitualmente a 2 a 4 seman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7E64-23E1-4BED-B5F5-84A3B635602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OBILIDADE FÍSICA PREJUD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FIN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obilidade Física Prejudicada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Estado em que um indivíduo apresenta, ou está em ris­co de apresentar, limitação do movimento físico, mas não está imóve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associa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obilidade Física Prejudicada descreve um indivíduo com o uso limitado do (s) braço (s) ou perna (s) ou com limitação da força muscular</a:t>
            </a: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88CD-61AB-479B-A232-71C0AA1ACDA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obilidade Física Prejudicada não deve ser usada para descrever a imobilidade completa; nesse caso, é mais aplicável a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Síndrome do Desus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limitação do movimento físico pode ser também a etiologia de outros diagnósticos de enfermagem, como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Deficit no Autocuidad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ou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Risco para Les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7DEE-D05D-4707-9A68-C684CE1CD37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OBILIDADE FÍSICA PREJUD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índrome do Desus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do em que o indivíduo apresenta ou está em risco de apresentar deterioração dos sistemas orgânicos ou de alteração no funcionamento, resultante de inactividade musculo esquelética prescrita ou inevitá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índrome do Dificuldade no Autocuidado:</a:t>
            </a:r>
            <a:r>
              <a:rPr b="1" i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do em que o indivíduo apresenta prejuízo função motora ou cognitiva, causando uma diminuição na capacidade de desempenhar cada uma das cinco actividades de autocuidad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A8BD-F0E8-4B29-A2DA-EC1A0D4F0E9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OBILIDADE FÍSICA PREJUD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associados à diminuição da força e d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sistência secundária 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ficiência neuromuscular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terações auto-imunes (ex: esclerose múltipla, artrite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enças do sistema nervoso (ex: Parkinsonismo,  miastenia gravi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strofia muscula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aralisia total ou parcial (ex: traumatismo  raquimedular, derrame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B3F3-280B-4B15-9C85-7A283D9C107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OBILIDADE FÍSICA PREJUD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umor no sistema nervoso centr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essão intracraniana aumentad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ficits sensoria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ficiência músculo esquelét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ractur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ença do tecido conectivo (lúpus eritematoso sistémic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lacionados ao edema (líquido sinovial aumentad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01CF-E4F0-4092-BE5A-2E5DCEEE027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OBILIDADE FÍSICA PREJUD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TERVENÇÕES GERAI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pessoa a usar as lentes conectivas prescritas ou o aparelho auditiv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mover a independência no vestir por meio da prática contínua e sem auxíl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colher roupas folgadas, com mangas e pernas largas e com fecho anterior. Permitir tempo suficiente para o vestir-se e o despir-se, pois a tarefa pode ser fatigante dolorosa ou difíci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2CA8-16E5-4110-8D10-9B243D21EAA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lanificar que a pessoa aprenda e demonstre uma parte da actividade antes de progredir para a segui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ocar as roupas na ordem em que devem ser vestid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cuidados de vestir necessário (alguns comummente usados incluem os adesivos de velcro, o puxador de zipe, o gancho para o botões, a calçadeira com o cabo longo, os sapatos com elástico substituindo os cordões; todas as peças de vestuário podem ter o fechamento adaptado para o velcro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9246-CE78-4A2D-BF32-BEAF72D4771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pessoa a usar roupas comuns ou especiais em lugar de roupas de dormi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privacidade para a rotina de vestir-s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ra as pessoas com deficiência visual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mitir que a pessoa estabeleça o local mais conveniente para colocar as roupas e adaptar o ambiente para a melhor realização da tarefa (ex: remover as barreiras desnecessárias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67AD-8A6F-4B62-958D-C1F54D73462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nunciar-se verbalmente antes de entrar ou sair da área de vestir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belecer uma rotina adequada para proporcionar um programa estruturado que diminua a confus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as instruções simples e repeti-las frequentemente evitar as distracç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troduzir um artigo de vestuário de cada vez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6298-17BA-4B91-8935-4E4212628E2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533160" y="99072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atenção para a tarefa; estar alerta quanto à fadiga, que pode aumentar a confus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vestigar a compreensão e o conhecimento do indivíduo e da família sobr</a:t>
            </a: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e as instruções e a justificativa acim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ra as pessoas com membros amputados ou ausente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Banho cedo pela manhã ou antes de deitar para evitar o vestir-se e despir-se des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3D91-CE71-4A59-91B9-24FDEE66CDF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A INCONSCIÊNCI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1574640"/>
          <a:ext cx="8153640" cy="4597560"/>
        </p:xfrm>
        <a:graphic>
          <a:graphicData uri="http://schemas.openxmlformats.org/drawingml/2006/table">
            <a:tbl>
              <a:tblPr/>
              <a:tblGrid>
                <a:gridCol w="2590920"/>
                <a:gridCol w="2844720"/>
                <a:gridCol w="2718000"/>
              </a:tblGrid>
              <a:tr h="46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ÂME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PO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ONTU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590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sposta de abertura dos olh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spontân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6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À vo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À 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6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enh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604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lhor resposta verb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Orien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5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fu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6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lavras inadequ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5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ons incompreensíve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6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enh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10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458F-435F-4D63-A7B5-AFF24240355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609480" y="9907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Escala de Coma de Glasg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pessoa a usar o espelho durante o banho para inspeccionar a pele das áreas paralisad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pessoa submetida à amputação a inspeccionar o coto quanto à integridade da pel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apenas a quantidade de supervisão ou de auxílio necessário para aprendizagem do uso da extremidade ou para a adaptação à deficiênc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7F78-2670-4C80-B957-141693F827B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índrome do Deficiência no Autocuidad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do em que o indivíduo apresenta prejuízo função motora ou cognitiva, causando uma diminuição na capacidade de desempenhar cada uma das cinco actividades de autocuid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ficiência no Autocuidado Alimentaçã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do em que o indivíduo apresenta habilidade prejudicada para realizar ou completar as actividades alimentares por si mesm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D238-146F-461B-B405-A1E638A77C1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TERVENÇÕES GERA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veriguar com a pessoa ou os membros da família que alimentos ela aprecia ou nã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azer com que as refeições sejam feitas sempre no mesmo local: ambiente agradável, sem muitas distracç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a temperatura correcta dos alimentos (os alimentos quentes, quentes e os ali­mentos frios, frios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0795-BB0D-4947-AE7D-4CFFE050485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o alívio da dor, pois ela pode afitar o apetite e a habilidade de alimentar-s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uma boa higiene oral antes e depois das refeiç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pessoa a usar dentaduras e ócul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ocar a pessoa na posição mais normal para alimentar-se, de acordo com a sua in­capacidade (a melhor posição é a sentada na cadeira, à mesa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o contacto social durante a refe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EF89-1573-4DD4-8AB5-CC673DE0894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ra a deficiência perceptiva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colher louças de cores diferentes para ajudar a distinção dos itens (ex: bandeja vermelha, pratos brancos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rificar os padrões habituais de alimentação da pessoa e proporcionar itens alimentares de acordo com a preferência (ou organizá-los no sentido do relógio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5D83-86E5-4521-8CC4-B016DE173E1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gistar no plano de cuidados a organização utilizada (ex: a carne na posição de 6 horas; as batatas, às 9 horas; os vegetais, às 12 horas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ingestão de alimentos com as mãos (ex: o pão, as frutas, salsichas) para proporcionar independênc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6374-4958-432A-B9E3-37ABF21FB7E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ra reforçar a independência máxima, proporcionar os equipamentos adaptativos necessári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ato com bordas altas para evitar que o alimento caia para for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ucção sob o prato ou a tigela para manter a estabilida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abos forrados nos talheres para uma prensa mais firm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674F-91D0-4FEA-A60F-43C3C8AEA5C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684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ala no pulso e na mão, com um prendedor para fixar os talher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po especial para os líqui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aca arredondada para corta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xiliar a servir, se necessário, abrindo as embalagens, os guardanapos, os condimentos; cortando a carne; passando manteiga no p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E5B2-FA02-4984-8521-F3402523499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ara as pessoas com deficiência cognitiv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um ambiente isolado, quieto até que a pessoa seja capaz de alimentar-se sem distrair-se facilmente da taref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rientar a pessoa quanto à localização e à finalidade do equipamento para a alimentação Colocar a pessoa na posição mais normal que ela fisicamente é capaz de suportar, para alimentar-s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A9B8-C7E8-47A4-85F8-D355E8EA2BE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pessoa a prestar atenção na tarefa, mas ficar alerta quanto à fadiga, frustração ou agitação. Para as pessoas com medo de envenenamento: permitir que ela abra os alimentos enlatad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mer primeiramente um biscoi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azer as refeições em estilo famili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vestigar, para garantir que tanto a pessoa quanto a família compreendam a razão e a finalidade de todas as intervenç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3708-A5D8-47C4-BA35-62E8737C320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609480" y="1295280"/>
          <a:ext cx="8229600" cy="2743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756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lhor resposta moto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Obedece a coman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ocaliza a 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trai-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ctr" pos="930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lexão</a:t>
                      </a: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xten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enh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11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CEBD-A5EC-4346-B220-DD9C9960092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A INCONSCIÊNCI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FB31-7131-46F4-9606-51592653BF5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"/>
              </a:rPr>
              <a:t>Tratado de Enfermagem Médico-Cirúrgica</a:t>
            </a:r>
            <a:r>
              <a:rPr b="1" lang="pt-PT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Brunner &amp; Suddarth – Vol. 2 – Guanabara Koogan - 2009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66"/>
                </a:solidFill>
                <a:latin typeface="Arial"/>
              </a:rPr>
              <a:t>www.manualmerck.net/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7FF1-9BF4-48A8-B16A-8AC97AADF84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2120" y="1066320"/>
            <a:ext cx="8076960" cy="334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s respostas do paciente são avaliadas numa escala de 3 a 15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Um escore de 3 indica uma alteração grave da função neurológic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Um escore de 15 indica que o paciente está respondendo plenam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197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A INCONSCIÊNCI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3160" y="1294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ssistência de Enfermagem num utente inconscien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nter as vias aére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À consideração mais importante de pacientes com alterações do nível de consciência e estabelecer uma via aérea adequada e assegurar a ventil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teger o paciente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ara a protecção do paciente, os gradis laterais são acolchoados, dois gradis são mantidos na posição levantada durante o dia e três à noite; entretanto, levantar todos os quatro gradis é considerado uma conten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0C91-67DD-4D9D-BABE-7754611FF1B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C0DA-AA49-4EC2-B67E-65A2D02B4A0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" descr="4ABE2E0"/>
          <p:cNvPicPr/>
          <p:nvPr/>
        </p:nvPicPr>
        <p:blipFill>
          <a:blip r:embed="rId1"/>
          <a:srcRect l="19086" t="5674" r="9939" b="53748"/>
          <a:stretch/>
        </p:blipFill>
        <p:spPr>
          <a:xfrm>
            <a:off x="609480" y="990720"/>
            <a:ext cx="8153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Maputo</cp:lastModifiedBy>
  <dcterms:modified xsi:type="dcterms:W3CDTF">2011-10-11T13:30:39Z</dcterms:modified>
  <cp:revision>753</cp:revision>
  <dc:subject/>
  <dc:title>ANATOMIA E FISIOLOGIA HUMANA</dc:title>
</cp:coreProperties>
</file>