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DD77-D2B6-41DC-9515-85F82D0F2151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205F-26E2-4186-BB9E-4043D7EE1D9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E317-55D6-4769-A699-96B3509C2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BC85-80B1-49E4-9D11-9E3F04156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B8D2-9357-4482-AE58-237A0B014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B4212-75FD-46B6-A78E-A798175F2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7266D-DD72-4C57-AEC8-9E8CEEA36C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1E8C3-0290-484A-A72F-7669D8FDB0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782D2-3B06-4990-9D59-4132F4614B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5A810-B1FA-4E05-9542-9EAC5C7972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04222-2075-4D99-B7D5-FDAE368FC0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4E0FD-5BE0-4819-B8EF-68674C3E53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629C3-2D59-4231-A2A6-03F74E0FA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7DE8-11A5-4669-8A83-253F39C7B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D3C87-D02C-445C-B03D-7B4416EA0D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4C5CC-F723-4AF9-BBAE-49D8ED7FD8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766FB-03C4-4619-8295-41B99310F2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CE6A1-2F32-438B-A0C3-84CB19A91B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17206-0090-4ABF-B53E-7AD6C5B3EF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83E7-3C88-4ED9-82EC-6BFAEC0BE9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F539-94BC-40BF-BD17-F9D817242B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C5B7-1B4D-4869-8A6E-5F55378A0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0CE80-9451-4D0B-96E1-16782DEB7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BA0B-73DF-4CFE-A5E6-7A52F180D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BEE4-D8CE-45A6-8D05-82988501A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EA63D-51BB-43AE-B703-0C7B6C55F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560E-DD90-452E-A943-6C713F61FF4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F3DF-AB2A-4EFE-BB88-80326C48AF1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2286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129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6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 POS-OPERATO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2640" y="472428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ula 1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39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uidados Pós-operatórios Mediat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8380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omover o conforto psicológico e emociona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ncorajar a mobilidade activa e passiva no leit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Humedecer os lábios do paciente com compressas molhada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Mudar de decúbito a cada 2/2 horas, se nao </a:t>
            </a:r>
            <a:r>
              <a:rPr b="1" lang="pt-PT" sz="2300" spc="-1" strike="noStrike">
                <a:solidFill>
                  <a:srgbClr val="1818ff"/>
                </a:solidFill>
                <a:latin typeface="Arial"/>
              </a:rPr>
              <a:t>contra-indicado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ovidenciar a higiene corporal e mudança de roup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stimular a eliminação urinária espontâne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ntrolar o balanço hídric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stimular a eliminação intestina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Incentivar exercícios respiratóri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omover o ensino para auto-cuidado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CF96-F9D4-47FF-BEB1-6850AAA9038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omplicações Pós-operató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91404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s complicações pós-operatórias pioram o quadro clínico do paciente, aumentam o período de recuperação e, nalguns casos levam a mor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É importante e indispensável que a prevenção, identificação e imediata intervenção sejam feitas 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is precoce possí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s complicações mais comuns s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ACC9-6DCF-424C-BA97-802AC33A540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ontent Placeholder 2"/>
          <p:cNvSpPr/>
          <p:nvPr/>
        </p:nvSpPr>
        <p:spPr>
          <a:xfrm>
            <a:off x="533520" y="3962520"/>
            <a:ext cx="396216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Alterações dos sinais vit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Alterações neurológic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Complicações pulmonar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Complicações urinári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ontent Placeholder 2"/>
          <p:cNvSpPr/>
          <p:nvPr/>
        </p:nvSpPr>
        <p:spPr>
          <a:xfrm>
            <a:off x="4495680" y="3962520"/>
            <a:ext cx="426744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Complicações gastrointestin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Complicações vascular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Complicações na ferida operatór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Cho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467840" cy="63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lterações dos Sinais Vit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017360"/>
            <a:ext cx="404028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Manifestações comun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447920"/>
            <a:ext cx="4040280" cy="495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As alterações térmicas comprometem as funções cardiovascular e respiratória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Alterações respiratórias por efeito do anestésico ou obstrução das vias aéreas por vómitos ou secreções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Instabilidade orgânica pode levar hipertermia ou hipotermia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Queda de TA e pulso por perda de sangue durante a cirurgia, efeito do anestésico ou mudanças bruscas de posição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4720" y="1017360"/>
            <a:ext cx="41180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Cuidados de Enfermagem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4720" y="1447920"/>
            <a:ext cx="4118040" cy="495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2060"/>
                </a:solidFill>
                <a:latin typeface="Arial"/>
              </a:rPr>
              <a:t>Controlar os sinais vitais até a estabilização do paciente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2060"/>
                </a:solidFill>
                <a:latin typeface="Arial"/>
              </a:rPr>
              <a:t>Aspirar as vias aéreas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2060"/>
                </a:solidFill>
                <a:latin typeface="Arial"/>
              </a:rPr>
              <a:t>Na </a:t>
            </a:r>
            <a:r>
              <a:rPr b="1" i="1" lang="pt-PT" sz="1900" spc="-1" strike="noStrike">
                <a:solidFill>
                  <a:srgbClr val="1818ff"/>
                </a:solidFill>
                <a:latin typeface="Arial"/>
              </a:rPr>
              <a:t>hipertermia</a:t>
            </a:r>
            <a:r>
              <a:rPr b="1" lang="pt-PT" sz="1900" spc="-1" strike="noStrike">
                <a:solidFill>
                  <a:srgbClr val="002060"/>
                </a:solidFill>
                <a:latin typeface="Arial"/>
              </a:rPr>
              <a:t>: retirar </a:t>
            </a:r>
            <a:r>
              <a:rPr b="1" lang="pt-BR" sz="1900" spc="-1" strike="noStrike">
                <a:solidFill>
                  <a:srgbClr val="002060"/>
                </a:solidFill>
                <a:latin typeface="Arial"/>
              </a:rPr>
              <a:t>os cobertores, resfriar o ambiente, aplicar compressas frias nas regiões da fronte, axilar e inguinal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2060"/>
                </a:solidFill>
                <a:latin typeface="Arial"/>
              </a:rPr>
              <a:t>Na </a:t>
            </a:r>
            <a:r>
              <a:rPr b="1" i="1" lang="pt-BR" sz="1900" spc="-1" strike="noStrike">
                <a:solidFill>
                  <a:srgbClr val="1818ff"/>
                </a:solidFill>
                <a:latin typeface="Arial"/>
              </a:rPr>
              <a:t>hipotermia</a:t>
            </a:r>
            <a:r>
              <a:rPr b="1" lang="pt-BR" sz="1900" spc="-1" strike="noStrike">
                <a:solidFill>
                  <a:srgbClr val="002060"/>
                </a:solidFill>
                <a:latin typeface="Arial"/>
              </a:rPr>
              <a:t>: agasalhar o paciente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2060"/>
                </a:solidFill>
                <a:latin typeface="Arial"/>
              </a:rPr>
              <a:t>Hidratar rigorosamente o paciente pela via EV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2060"/>
                </a:solidFill>
                <a:latin typeface="Arial"/>
              </a:rPr>
              <a:t>Manter o paciente na posição de Trendelemburg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4572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81CE-E181-412B-9AF5-1CB2D283219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467840" cy="63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lterações Neurológic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1660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Dor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420920"/>
            <a:ext cx="4116600" cy="5029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Observar </a:t>
            </a: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o nível de consciência e as funções motora e sensitiv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dministrar analgésico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plicar manobras ou estratégias para o alívio da dor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700" spc="-1" strike="noStrike">
                <a:solidFill>
                  <a:srgbClr val="000066"/>
                </a:solidFill>
                <a:latin typeface="Arial"/>
              </a:rPr>
              <a:t>Afrouxar e/ou trocar </a:t>
            </a:r>
            <a:r>
              <a:rPr b="1" lang="pt-BR" sz="1700" spc="-1" strike="noStrike">
                <a:solidFill>
                  <a:srgbClr val="000066"/>
                </a:solidFill>
                <a:latin typeface="Arial"/>
              </a:rPr>
              <a:t>os curativos;</a:t>
            </a: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66"/>
                </a:solidFill>
                <a:latin typeface="Arial"/>
              </a:rPr>
              <a:t>Aliviar a retenção de urina e fezes;</a:t>
            </a: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66"/>
                </a:solidFill>
                <a:latin typeface="Arial"/>
              </a:rPr>
              <a:t>Fazer a mudança de Decúbito;</a:t>
            </a: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66"/>
                </a:solidFill>
                <a:latin typeface="Arial"/>
              </a:rPr>
              <a:t>Aplicar compressas frias ou quentes;</a:t>
            </a: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66"/>
                </a:solidFill>
                <a:latin typeface="Arial"/>
              </a:rPr>
              <a:t>Escurecer o ambiente e diminuir os barulhos;</a:t>
            </a: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66"/>
                </a:solidFill>
                <a:latin typeface="Arial"/>
              </a:rPr>
              <a:t>Incentivar a distracção e repouso.</a:t>
            </a: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4720" y="990360"/>
            <a:ext cx="41180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Sonolênc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4720" y="1420560"/>
            <a:ext cx="4118040" cy="12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Avaliar o nível de consciência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Estimular o paciente com perguntas e estímulos táctei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4572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8C9E-5C51-4B6F-BBD0-029FD7274B1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Placeholder 6"/>
          <p:cNvSpPr/>
          <p:nvPr/>
        </p:nvSpPr>
        <p:spPr>
          <a:xfrm>
            <a:off x="4648320" y="2819520"/>
            <a:ext cx="411768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Soluç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ontent Placeholder 7"/>
          <p:cNvSpPr/>
          <p:nvPr/>
        </p:nvSpPr>
        <p:spPr>
          <a:xfrm>
            <a:off x="4648320" y="3249720"/>
            <a:ext cx="4117680" cy="322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1818ff"/>
                </a:solidFill>
                <a:latin typeface="Arial"/>
                <a:ea typeface="Arial"/>
              </a:rPr>
              <a:t>Causa a distensão abdominal e a hipotermia no pós-operat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  <a:ea typeface="Arial"/>
              </a:rPr>
              <a:t>Eliminar as causas pela aspiração ou lavagem gástr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  <a:ea typeface="Arial"/>
              </a:rPr>
              <a:t>Incentivar a deambulação e a mudança frequente de decúb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  <a:ea typeface="Arial"/>
              </a:rPr>
              <a:t>Aquecer o paciente hipotérm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  <a:ea typeface="Arial"/>
              </a:rPr>
              <a:t>Orientar o paciente para inspirar e expirar em um saco de pap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467840" cy="63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omplicações Pulmona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050480"/>
            <a:ext cx="8305920" cy="777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São as complicações mais sérias e frequentes no pós-operatório, comum em pacientes obesos, fumantes e idos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18288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Observar precocemente os sinais e sintomas de complicações: cianose, dispneia, tiragem intercostal e agitaçã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Incentivar o movimento e deambulação precoc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olocar lateralizada a cabeça do paciente com vómito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Remover as secreções brônquica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Hidratar adequadamente o pacient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Incentivar o paciente a tossir e a realizar exercícios respiratório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4572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565B-E030-4039-BE7F-1B59B22E377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5867280" y="1960560"/>
            <a:ext cx="2895840" cy="44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Urinár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Na </a:t>
            </a:r>
            <a:r>
              <a:rPr b="1" lang="pt-BR" sz="2400" spc="-1" strike="noStrike">
                <a:solidFill>
                  <a:srgbClr val="1818ff"/>
                </a:solidFill>
                <a:latin typeface="Arial"/>
              </a:rPr>
              <a:t>infecção urinária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:  hipertermia, disúria e alterações nas características da uri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Manter a higiene íntima adequada do cliente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Obedecer à técnica asséptica quando da passagem da sonda e sempre utilizar extensões, conectores e coletores esterilizados com sistema fechado de drenagem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Na </a:t>
            </a:r>
            <a:r>
              <a:rPr b="1" lang="pt-BR" sz="2400" spc="-1" strike="noStrike">
                <a:solidFill>
                  <a:srgbClr val="1818ff"/>
                </a:solidFill>
                <a:latin typeface="Arial"/>
              </a:rPr>
              <a:t>retenção urinária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Aliviar a dor com administração de analgésicos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Promover a privacidade e estimular a eliminação urinári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Avaliar a presença de dobraduras e grumos nas extensões das sondas e drenos nas proximidades da bexiga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Footer Placeholder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7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7C3F-8988-40DA-917C-BCF74ADF01B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467840" cy="63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omplicações Gastrointestin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1660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Náuseas e Vómito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520" y="1420920"/>
            <a:ext cx="4116600" cy="5029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lvl="1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Causas: </a:t>
            </a:r>
            <a:r>
              <a:rPr b="1" lang="pt-BR" sz="1900" spc="-1" strike="noStrike">
                <a:solidFill>
                  <a:srgbClr val="1818ff"/>
                </a:solidFill>
                <a:latin typeface="Arial"/>
              </a:rPr>
              <a:t>efeitos colaterais dos anestésicos e diminuição dos peristaltismo levam a acúmulo de líquidos, distensão abdominal, e restos alimentares no trato digestivo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Colocar o paciente em decúbito lateral ou a cabeça lateralizad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Paciente com SNG: Abrir a sonda e esvaziar o estómago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Proceder a higiene oral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dministrar antiemético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Introduzir a dieta gradualmente após o retorno do peristaltismo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4720" y="990360"/>
            <a:ext cx="41180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Sede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1420920"/>
            <a:ext cx="4118040" cy="147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 fontScale="98000"/>
          </a:bodyPr>
          <a:p>
            <a:pPr lvl="1" marL="33444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Observar e corrigir sinais de desidratação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3444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Manter a hidratação oral ou EV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3444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Humedecer os lábios e a boca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4572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0FC9-EA5C-4FCA-BA35-0CA6C41BEE4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Placeholder 6"/>
          <p:cNvSpPr/>
          <p:nvPr/>
        </p:nvSpPr>
        <p:spPr>
          <a:xfrm>
            <a:off x="4648320" y="3048120"/>
            <a:ext cx="411768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Constipação intest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tent Placeholder 7"/>
          <p:cNvSpPr/>
          <p:nvPr/>
        </p:nvSpPr>
        <p:spPr>
          <a:xfrm>
            <a:off x="4648320" y="3478320"/>
            <a:ext cx="4117680" cy="2998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818ff"/>
                </a:solidFill>
                <a:latin typeface="Arial"/>
                <a:ea typeface="Arial"/>
              </a:rPr>
              <a:t>Resulta de medo da dor, diminuição do peristaltismo e imobilidade prolongada no leito, exposição e manipulação dos intest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  <a:ea typeface="Arial"/>
              </a:rPr>
              <a:t>Movimentar o paciente no le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  <a:ea typeface="Arial"/>
              </a:rPr>
              <a:t>Instituir deambulação preco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  <a:ea typeface="Arial"/>
              </a:rPr>
              <a:t>Incentivar a ingestão de líquidos e dieta rica em celul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omplicações vascula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99072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permanência prolongada no leito associada a imobilidade após cirurgia, provoca a estase venosa o que predispõe a ocorrência de trombose, tromboflebite e embol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romover melhoria na circulação periférica, exercitando os MI e das articulaçõ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Apoiar o paciente na mudança de decúbito a cada 2 hora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Incentivar exercícios activos no leit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ncorajar para o início da deambulação o mais precoce possível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429D-FD1C-4F47-8ECC-E42AA370F5E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rcRect l="0" t="13638" r="49502" b="22730"/>
          <a:stretch/>
        </p:blipFill>
        <p:spPr>
          <a:xfrm>
            <a:off x="7086600" y="990720"/>
            <a:ext cx="1752480" cy="2133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2"/>
          <a:srcRect l="48315" t="0" r="1187" b="0"/>
          <a:stretch/>
        </p:blipFill>
        <p:spPr>
          <a:xfrm>
            <a:off x="7086600" y="3124080"/>
            <a:ext cx="1752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467840" cy="63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omplicações Gastrointestin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1660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Hemorrag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520" y="1420560"/>
            <a:ext cx="4116600" cy="277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Colocar </a:t>
            </a: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Observar a presença de sangramento no curativo e/ou roupa e alterações sistémica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Comunicar o médico assistente e tomar medidas para estancar hemorragia e de prevenção ou combate a choqu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Avaliar os sinais vitai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4720" y="990360"/>
            <a:ext cx="41180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Infecção da ferid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4720" y="1420560"/>
            <a:ext cx="4118040" cy="277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Prevenir a infecção usando técnica asséptica na feitura do penso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Instruir o paciente para não molhar o penso durante o banh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Trocar o penso diariament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Inspeccionar a ferida e informar o médico em caso de alteraçõ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4572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92F4-C8BB-4EA5-9919-30A1DCCC9E4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Placeholder 6"/>
          <p:cNvSpPr/>
          <p:nvPr/>
        </p:nvSpPr>
        <p:spPr>
          <a:xfrm>
            <a:off x="380880" y="4343400"/>
            <a:ext cx="838512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Deiscê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ontent Placeholder 7"/>
          <p:cNvSpPr/>
          <p:nvPr/>
        </p:nvSpPr>
        <p:spPr>
          <a:xfrm>
            <a:off x="380880" y="4773600"/>
            <a:ext cx="8385120" cy="170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818ff"/>
                </a:solidFill>
                <a:latin typeface="Arial"/>
                <a:ea typeface="Arial"/>
              </a:rPr>
              <a:t>É abertura total ou parcial da incisão cirúrgica provocada por infecção, rompimento da sutura, distensão abdominal, ascite ou desnutri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  <a:ea typeface="Arial"/>
              </a:rPr>
              <a:t>Fazer a lavagem ou irrigar a com soro fisiológ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  <a:ea typeface="Arial"/>
              </a:rPr>
              <a:t>Avaliar a necessidade de revisão dos pontos cirúrg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467840" cy="63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hoque Hipovolém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1660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Definição e Sintomatolog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0520" y="1420560"/>
            <a:ext cx="4116600" cy="4979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Resulta da perda sanguínea excessiva ou reposição hídrica ou sanguínea inadequada durante ou após a cirurgia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É caracterizado por: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Taquicardia e filiform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hipotensão arterial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Dispnéi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Palidez, Sudorese fri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Hipotermia,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Cianose de extremidade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gitação, oligúria ou anúria,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Valores de PVC </a:t>
            </a: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abaixo do normal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4720" y="990360"/>
            <a:ext cx="41180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Cuidados de Enfermagem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44720" y="1420560"/>
            <a:ext cx="4118040" cy="4979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Detectar </a:t>
            </a: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 notificar de forma precoce os sinais de choqu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onitorar o nível de consciência e controlar a pressão venosa central, bem como os sinais vitai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Observar focos hemorrágicos na ferida cirúrgica e fazer penso compressivo se necessário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anter a venoclise e infusõe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Colocar o paciente na posição  Tredelemburg;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Preparar a carrinha de emergência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4572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9593-A267-471B-BCA9-B835F1B5A44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2374-5560-47CF-A17E-3558CEDF316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80C7-DF5A-4FFC-AC8D-C71AD0ED8C67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43000" y="12193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Após a discussão desse tema os estudantes deverão ser capaz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3657600" y="2286000"/>
            <a:ext cx="1828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ontent Placeholder 2"/>
          <p:cNvSpPr/>
          <p:nvPr/>
        </p:nvSpPr>
        <p:spPr>
          <a:xfrm>
            <a:off x="457200" y="2743200"/>
            <a:ext cx="8381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Reconhecer os objectivos dos cuidados de enfermagem no pós-operatóri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Distinguir os períodos do cuidados pós-operatório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Prestar os cuidados pós-operatórios imediatos e mediato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Identificar as anormalidades e complicações pós-operatórias, prestando os cuidados apropriad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renos e catete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Drenos: são tubos ou materiais colocados no interior de uma ferida ou cavidade, visando permitir a saída de fluído ou 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teteres: são tubos de diversos materiais e calibres inseridos no organismo, tendo como função a infusão de líquidos ou a sua retirad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2AFB-B672-47BE-BEA0-1070441531C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NECESSARI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notar volume e aspecto da drenagem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ter gaze estéril sob o dren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cluir o orifício de saída do dreno com gaze estéril ou colocar bolsa plástica estéril coleto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ter curativo sempre limpo e se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bs: fixação com ponto ou alfinete pode ser utilizada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342E-4DA6-421C-A07C-E5654746A74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ferências Bibliográf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ISAU. </a:t>
            </a:r>
            <a:r>
              <a:rPr b="1" i="1" lang="pt-PT" sz="2600" spc="-1" strike="noStrike" u="sng">
                <a:solidFill>
                  <a:srgbClr val="000066"/>
                </a:solidFill>
                <a:uFillTx/>
                <a:latin typeface="Arial"/>
              </a:rPr>
              <a:t>Guião de Procedimentos Básicos de Enfermagem</a:t>
            </a:r>
            <a:r>
              <a:rPr b="1" i="1" lang="pt-PT" sz="26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aputo</a:t>
            </a:r>
            <a:r>
              <a:rPr b="1" i="1" lang="pt-PT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- Moçambique, 2009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Instituto de Ciências de Saúde de Maputo. </a:t>
            </a:r>
            <a:r>
              <a:rPr b="1" i="1" lang="pt-PT" sz="2600" spc="-1" strike="noStrike" u="sng">
                <a:solidFill>
                  <a:srgbClr val="000066"/>
                </a:solidFill>
                <a:uFillTx/>
                <a:latin typeface="Arial"/>
              </a:rPr>
              <a:t>Manual de Enfermagem Cirúrgica. 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aputo – Moçambique, 1995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Smeltzer &amp; Bare; Brunner/Suddarth. </a:t>
            </a:r>
            <a:r>
              <a:rPr b="1" i="1" lang="pt-PT" sz="2600" spc="-1" strike="noStrike" u="sng">
                <a:solidFill>
                  <a:srgbClr val="000066"/>
                </a:solidFill>
                <a:uFillTx/>
                <a:latin typeface="Arial"/>
              </a:rPr>
              <a:t>Tratado de Enfermagem Médico-Cirúrgica.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 Guanabara Koogan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PROFAE. </a:t>
            </a:r>
            <a:r>
              <a:rPr b="1" i="1" lang="pt-PT" sz="2600" spc="-1" strike="noStrike" u="sng">
                <a:solidFill>
                  <a:srgbClr val="000066"/>
                </a:solidFill>
                <a:uFillTx/>
                <a:latin typeface="Arial"/>
              </a:rPr>
              <a:t>Saúde do Adulto. Assistência Cirúrgica e Atendimento de Emergência.</a:t>
            </a:r>
            <a:r>
              <a:rPr b="1" i="1" lang="pt-PT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Brasília - Brasil, 2003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Footer Placeholder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7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7176-9E0F-4CD2-B2E6-C51DBC4CCB2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uidados Pós-operatór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Pós-operatório inicia-se a partir da saída do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cliente</a:t>
            </a: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1818ff"/>
                </a:solidFill>
                <a:latin typeface="Arial"/>
              </a:rPr>
              <a:t>paciente</a:t>
            </a: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 da sala de operação e perdura até sua total recuper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bjectivo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ptimizar a oxigenação e ventilação, mantendo a vigilância as complicaçõ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, prevenir e tratar os problemas comuns aos procedimentos anestésicos e cirúrgic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stabelecer o equilíbrio e manutenção das funções cardiorrespirató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B033-B429-410A-9061-E56E5833A4E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Pós-operató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Classificação dos cuidados pós-operatóri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Pós-operatório Imediato: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té às 24 horas posteriores à cirurg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Pós-operatório Mediat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: após as 24 horas e até 7 dias depo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818ff"/>
                </a:solidFill>
                <a:latin typeface="Arial"/>
              </a:rPr>
              <a:t>Pos-operatorio Tardi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: após 7 dias d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ebimento da alt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5DD5-DE4A-4199-820B-7857E109CFC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uidados Pós-operatórios Imediat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É considerado período crítico pois o paciente é bastante vulnerável às complicações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Estende se desde o termino da cirurgia até 24 horas após a cirurgi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Geralmente, o paciente permanece na sala de recuperação até 6 horas após a cirurgia e os cuidados são continuados na Enfermaria ou na UTI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Os cuidados de enfermagem visam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Restabelecer as funções vitai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liviar a dor e os desconfortos pós-operatóri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Manter a integridade da pel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Prevenir a ocorrência de infecçõe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D5B6-C41A-4FE2-8E0C-C49FB311979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Pós-operatórios Imedia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ranquilizar o paciente e perguntar se sente alguma anormalidade e/ou desconfor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e o paciente estiver sonolento ou inconsciente, não devem ser feitos comentários indevi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erificar e ler atentamente o processo do paciente e atender recomendações especi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ectar os drenos no leito ou outro local adequad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locar no suporte os frascos de solução, sangue e deriva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trolar o gotejamento das infusões e dos líquidos infundidos e eliminados pelas sondas, drenos e cateter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8BC8-8409-4EDF-AA9F-7775ECE733F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uidados Pós-operatórios Imediat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eitar o paciente em decúbito dorsal horizontal sem travesseiro, com a cabeça lateralizada para evitar aspiração de vômito (caso ocorra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e o paciente tiver SNG, deitar-lhe na posição semifowler, para prevenir esofagite de reflux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Levantar as grades da cama para evitar a queda dos pacientes sonolentos, confusos e/ou agita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revenir e controlar hipoterm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Aquecer o paciente com cobertore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Fechar as janelas e ligar o aquecedor de ambient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Avaliar com frequência a temperatura corporal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NÃO APLICAR bolsa de água quente com o paciente no leit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CBAE-4905-4024-A192-187CADF4FFB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uidados Pós-operatórios Imediat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valiar os sinais vit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Na 1ª hora: 15/15 minutos, se regular, de 30/30 minutos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Se os sinais vitais mantidos regulares, o tempo de verificação deve ser espaçado para 1/1h, 2/2h, por diante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Observar o penso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Se está apertado demais ou esteja a provocar edema no local;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Se está frouxo demais ou se </a:t>
            </a:r>
            <a:r>
              <a:rPr b="1" lang="pt-BR" sz="2200" spc="-1" strike="noStrike">
                <a:solidFill>
                  <a:srgbClr val="1818ff"/>
                </a:solidFill>
                <a:latin typeface="Arial"/>
              </a:rPr>
              <a:t>esta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desprendendo da pel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Se apresenta-se sujo de sangue (sinal de hemorragia)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e apresentar sinais de hemorragia solicitar avaliação médica, refazer o penso </a:t>
            </a:r>
            <a:r>
              <a:rPr b="1" lang="pt-BR" sz="2400" spc="-1" strike="noStrike">
                <a:solidFill>
                  <a:srgbClr val="1818ff"/>
                </a:solidFill>
                <a:latin typeface="Arial"/>
              </a:rPr>
              <a:t>compressiv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e manter maior vigilância ao utente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236A-7A96-4364-ABB7-0ACC959DCB2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uidados Pós-operatórios Imediat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Se o pacientes tiver os reflexos presentes, sinais vitais estabilizados, drenos e sondas funcionantes é transferido do recobro para enfermaria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Na Enfermaria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Ajudar o paciente a manter uma função respiratória excelente: aspirar as secreções e manter o tubo de May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Avaliar o estado cardiovascular e corrigir alterações: 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vigiar sinais de choque e hemorragi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Vigiar os sinais vitais 1/1 hora nas 1ªs 6 hora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Vigiar o penso e a funcionalidade dos drenos e sonda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Vigiar a coloração da pele: cianose e palidez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5386-8918-40E1-9ACD-93A263ADE53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aputo</cp:lastModifiedBy>
  <dcterms:modified xsi:type="dcterms:W3CDTF">2011-10-11T13:38:17Z</dcterms:modified>
  <cp:revision>758</cp:revision>
  <dc:subject/>
  <dc:title>ANATOMIA E FISIOLOGIA HUMANA</dc:title>
</cp:coreProperties>
</file>