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BAC-B12B-4B97-AB53-54F3FEBD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3B8-8B1E-421D-81B0-E0365B07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768-0000-47A1-8CBE-B18D755C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B16-6596-4A66-9BB3-DA93FC97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AB2-163F-4559-8B42-B1B8176F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724-3E08-42C4-86DF-E027803F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B3C-14E1-45B9-A25E-6CA161FD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F1A-0538-4C94-9C1A-88B8E0D5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0B6-60AA-4BFC-AF52-800B01F9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5CA-62F1-4FF6-BE84-A2D5C0AD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33FB-053B-45B7-839B-871C393C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E5A-6BD0-4297-9F8E-542DCCC9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399A-3BBA-44F5-810B-75A5F2630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5560&amp;ST=SE&amp;franq=136426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777240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MODULO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PRÁTICAS DE ENFERMAGEM II: ENFERMAGEM MÉDICO-CIRÚRG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558ed5"/>
                </a:solidFill>
                <a:latin typeface="Calibri"/>
              </a:rPr>
              <a:t>Sub-modulo 6: Cuidados de enfermagem nas alterações  espe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uidados com a higiene ora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valiar diariamente a mucosa or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nstruir o paciente a relatar a queimação oral, dor, áreas de rubor, lesões abertas nos lábios, dor ao deglutir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Realizar a higiene oral após as refeiçõe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40CC-F826-48C5-8A93-0CDACCF0B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Visitar o dentista regularmente; usar escovas de cerdas macia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vitar e tratar rapidamente as cári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plicar lubrificante labial; evitar o álcool e fum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8CF7-8CA8-48E7-95E7-7F9859378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2. Cuidados com a aplicação de Insulina: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Locais para aplicação de insulin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Região deltóid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Região glúte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ce ântero-extrema da cox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arede abdominal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eri-umbili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Variar o local da aplicação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Registar os locais e utilizar todos os possívei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Numa mesma área use aproximadamente uma distância de 2 a 3 c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A9B5-B418-47D0-A630-6932519DC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7036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uidados com os pé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Lavar diariamente, enxugar cuidadosamente entre os dedo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ortar e limpar as unha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Usar sapatos macios e não andar descalço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stimular a circulação com massagen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B376-1ABB-4F40-BD1F-9323A7181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Outros cuidado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Fornecer instruções por escrito sobre o cuidado com os pés, e programas de exercício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uxiliar para garantir que as roupas estejam adequadamente ajustad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Encorajar a ingestão adequada de proteínas e calori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Encorajar a participação nos programas de exercícios planejado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54EB-D9FE-4960-8FDB-59A2B80EC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AULA PRÁ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1206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emonstração dos tipos de insulina e seus respectivos cálcul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1206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dministração da insulina (Aula Práti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2707-90B9-4110-9507-44CD5DF2F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ASSISTÊNCIA DE ENFERMAGEM EM QUIMIOTERAP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nceito de quimioterap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refere-se ao tratamento de doenças por substâncias químicas que afectam o funcionamento celular </a:t>
            </a:r>
            <a:r>
              <a:rPr b="0" lang="pt-PT" sz="1400" spc="-1" strike="noStrike">
                <a:solidFill>
                  <a:srgbClr val="558ed5"/>
                </a:solidFill>
                <a:latin typeface="Calibri"/>
              </a:rPr>
              <a:t>(http://pt.wikipedia.org/wiki/Quimioterapia)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É aquele que pudesse destruir apenas as células cancerosas sem lesar as normais, mas este fármaco não existe. Apesar da estreita margem entre o benefício e o dano, muitas pessoas com cancro podem tratar-se com medicamentos anticancerosos (quimioterapia) e algumas podem curar-se. Actualmente, podem minimizar-se os efeitos secundários da quimioterap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6181-B697-420E-BF1F-EE16C6CB3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EFEITOS COMUNS DOS AGENTES QUIMIOTERÁP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s medicamentos anticancerosos estão agrupados em várias categori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gentes alquilantes, antimetabólitos, alcalóides derivados de plantas, antibióticos antineoplásicos, enzimas, hormonas e moduladores da resposta biológica. Muitas vezes, dois ou mais medicamentos são usados em associação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C18A-E219-4450-9E86-A88E6DDD2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 motivo principal da quimioterapia combinada é utilizar medicamentos que actuem sobre diferentes partes do processo metabólico das células, aumentando assim a probabilidade de morrerem muito mais células cancerosas. Os efeitos secundários tóxicos da quimioterapia podem reduzir-se quando se combinam medicamentos com diferentes toxicidades, cada um numa dose mais baixa do que seria necessário se fossem usados sozinh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DA61-9394-42A3-A1C7-7FA6541A9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EFEITOS COMUNS DOS AGENTES QUIMIOTERÁP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or fim, por vezes combinam-se medicamentos com propriedades diferentes. Por exemplo, os medicamentos que matam as células tumorais podem ser combinados com os que estimulam o sistema imunológico do organismo para lutar contra o cancro (moduladores da resposta biológi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E67E-B33F-4C2C-9025-CBCBE8AA5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EFEITOS COMUNS DOS AGENTES QUIMIOTERÁP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1534-188B-4BC9-8446-9FDEBB979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743200"/>
            <a:ext cx="83757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efinir e classificar as diabetes mellitu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dentificar as causas e quadro clínico das diabetes melli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Seleccionar e prestar os cuidados de enfermagem ao utente com diabetes, ensinando o uso da insulin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BEC6-F832-4446-AA34-12CE6B7592B6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143000" y="12193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Calibri"/>
              </a:rPr>
              <a:t>Após a discussão desse tema os alunos deverão ser capaz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3657600" y="2286000"/>
            <a:ext cx="1828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MPET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s efeitos tóxicos dos medicamentos variam de acordo com o grupo a que pertence a droga e com a sensibilidade individual de cada pacient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s sintomas mais frequentes são: anorexia, náusea, vómito, febre, calafrios, mal-estar geral, diarreia ou 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obstipacao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, eritema, descamação da pele, necrose tecidual e hemorragia, 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queda do cabelo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 uso dos quimioterápicos por um período prolongado ocasiona o desenvolvimento de outros tipos de cânceres, depressão da medula óssea, que gera anemia, tendência hemorrágicas e diminuição da resistência a infecçõ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B949-95CF-4CF4-B360-3515DB8F3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FEITOS COLATERAIS DOS AGENTES QUIMIOTERÁP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PRECAUÇÕES NA ADMINISTRAÇÃO DOS QUIMIOTERÁPIC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4D1C-4688-434A-90FC-268E39854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1298520"/>
          <a:ext cx="8229600" cy="4740480"/>
        </p:xfrm>
        <a:graphic>
          <a:graphicData uri="http://schemas.openxmlformats.org/drawingml/2006/table">
            <a:tbl>
              <a:tblPr/>
              <a:tblGrid>
                <a:gridCol w="2362320"/>
                <a:gridCol w="2971800"/>
                <a:gridCol w="2895480"/>
              </a:tblGrid>
              <a:tr h="335160">
                <a:tc grid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nde e como se administra a quimiot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4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m que frequ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0880">
                <a:tc>
                  <a:txBody>
                    <a:bodyPr lIns="9360" rIns="9360" tIns="9360" bIns="9360" anchor="ctr">
                      <a:noAutofit/>
                    </a:bodyPr>
                    <a:p>
                      <a:pPr lvl="1"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ospi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oentes clínicos exter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ultório do méd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enos frequentemente, na sala de operações para poder aplicar os medicamentos perto do tum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m casa (por uma enfermeira, pelo próprio ou por um membro da famíl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lvl="1" marL="291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irectamente nos vasos sanguíneos que chegam à área de crescimento do tumo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9196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or perfusão gota a gota endovenosa (de um saco ou garrafa com solução endovenosa, durante vários minutos até várias horas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9196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or estímulo intravenoso (directamente na veia, um cateter na veia central ou implantado no orifício durante alguns minutos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9196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ralmente (cápsulas, pastilhas ou líquid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lvl="1" marL="291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ria, dependendo do cancro: vários medicamentos num dia, uma dose diária durante vários dias, continuamente durante muitos dias, uma dose semanal, uma dose ou alguns dias de medicação uma vez por mê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9196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s tratamentos podem ser administrados por períodos de várias semanas a vários a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9196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ma fase do tratamento pode ser fornecida de uma só vez, aplicar com intervalos entre duas aplicaçõ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CUIDADOS DE ENFERMAGEM NA ADMINISTRAÇÃO DOS QUIMIOTERÁP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roporcionar conforto e repouso ao paciente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Verificar sinais vitais de 6/6 hora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bservar e relatar o aparecimento de efeitos colaterai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uxiliar o paciente com episódios de náuseas, vómitos e diarrei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Realizar higiene or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8381-A691-41A5-B844-AE694B515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504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ferecer líquidos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servar o local da punção venosa, para evitar extravasamento da droga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Caso ocorra o extravasamento venoso, interromper o gotejamento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ssistir o paciente com gentileza, ouvindo suas queixas e demonstrando o devido interesse pela sua recuperação e bem-est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0C8A-EF97-4DB4-870E-92104892E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CUIDADOS DE ENFERMAGEM NA ADMINISTRAÇÃO DOS QUIMIOTERÁP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Precauçõ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Usar o EPI recomendado durante o manuseio de medicamentos quimioterap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Canalizar uma veia de grande calibre para o tratament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roteger a pele do contacto com estes medicament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Rever as recomendações para identificar medicamentos que necessitam de protecção do efeito dos factores ambientai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Nao incluir no manuseio de medicamentos quimioterapic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uncionarios que tenham doenças crónicas debilitant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uncionarios que tenham tido exposição prolongada a ambientes radiológic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uncionarios idos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ASSISTÊNCIA DE ENFERMAGEM NO UTENTE EM DIÁLISE PERITON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ncei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Dialise – e um conjunto de tecnicas usada para remover liquidos e produtos residuais uremicos do corpo quando os rins nao conseguem faz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Tipos de Diali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558ed5"/>
                </a:solidFill>
                <a:latin typeface="Calibri"/>
              </a:rPr>
              <a:t>Dialise peritoni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558ed5"/>
                </a:solidFill>
                <a:latin typeface="Calibri"/>
              </a:rPr>
              <a:t>Hemodial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iálise peritoneal: Introdução para dentro da cavidade abdominal 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de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um líquido que contém uma mistura especial de glicose e de sais que arrasta as substâncias tóxicas dos tecidos. Depois extrai-se o líquido e despeja-se. A quantidade de glicose pode ser modificada para extrair mais ou menos líquido do organis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4D80-1428-4D5E-B9E0-FA33B8DDC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REPARAÇÃO DO U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Quanto às técnicas de inserção, cuidado e retirada do cateter, podem variar de acordo com as características específicas para cada caso, são sugeridas as seguintes instruçõ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olocar o paciente em posição adequada, em ambiente cirúrgic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reparar todo material e a sala, utilizando-se de medidas assépticas respeitando as rotinas da instituiçã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B456-A6B5-41C6-9F51-4C5B9CB62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oceder a aplicação do anestésico de acordo com a indicaçã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oceder a incisão da pele superficialmente atravessando todas as camadas (planos) para posteriormente por punção atingir  o peritóni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Uma vez localizada a cavidade peritoneal, introduzir o cateter com o extremo fenestrado no interior do peritónio de modo que toda extremidade fenestrada fique no interior da cavidade peritoneal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37E6-1030-4D80-A3EF-55569D1C6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REPARAÇÃO DO U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alizar a cauterização dos vasos sanguíneos segundo normas institucionai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ssegurar que um dos “cuff” fique loca</a:t>
            </a:r>
            <a:r>
              <a:rPr b="0" lang="pt-PT" sz="2600" spc="-1" strike="noStrike">
                <a:solidFill>
                  <a:srgbClr val="558ed5"/>
                </a:solidFill>
                <a:latin typeface="Calibri"/>
              </a:rPr>
              <a:t>liza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do no espaço entre a camada muscular e o peritónio e o outro “cuff” fique loca</a:t>
            </a:r>
            <a:r>
              <a:rPr b="0" lang="pt-PT" sz="2600" spc="-1" strike="noStrike">
                <a:solidFill>
                  <a:srgbClr val="558ed5"/>
                </a:solidFill>
                <a:latin typeface="Calibri"/>
              </a:rPr>
              <a:t>liza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do no tecido subcutâneo logo abaixo da pele, para permitir que se fixe no tecido para evitar perda de líquido e contaminação do catet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Fixar o cateter na superfície da pele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Conectar a extensão ao extremo proximal do catet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EFB2-902D-42C8-B84C-33DDA6C27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REPARAÇÃO DO U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restar os cuidados de enfermagem ao utente em tratamento com agentes quimioterápic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Seleccionar e prestar cuidados de enfermagem ao utente em diálise periton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Seleccionar e prestar cuidados de enfermagem nas alterações osteomusculares e na integridade cutânea prejudic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0DB4-EB68-4A19-BB44-1BB9525AD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ETÊ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daptar ao extremo proximal da extensão um conector três vias para permitir o controle do que é drenado e do que é infundido na cavidade peritoneal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anter fechado o sistema com auxílio do conector três vias e conectar o reservatório de drenagem e o equipo para irrigaçã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brir o sistema e verificar o funcionamento do reservatório de drenagem. Colocar na altura indicada. 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alizar o controle radiológico correspondente para verificar a posiçã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92A8-28AF-4A62-BE17-B7F4F66A7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REPARAÇÃO DO U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SOLUÇÃO DIALISAD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5040" indent="-235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nicia-se com a infusão de 2L de volume de solução com dextrose a 1,5 % na cavidade abdominal durante 10 minutos e deixa-se dialisar durante 2,5 hor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A solução é depois drenada durante 20 minutos antes da próxima troca. 3 trocas/d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Uma vez que os indivíduos têm membranas peritoneais diferentes uns dos outros deve-se fazer, nos primeiros 2 meses, o teste do equilíbrio peritoneal para avaliar a taxa de transporte da ureia e da creatinina através da membrana peritoneal, de forma a adequar a terapêutica (dialisadores rápidos 10-17%, dialisadores moderados 50%, dialisadores médio-lentos 25-30%, dialisadores lentos 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9EFC-9CAF-4EBC-A07B-CC9E15ADA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CIDENTES COMU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or Abdomina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norexi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renagem inadequad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ificuldade Respiratóri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Hérnia Abdominal, Sangrament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roblemas mecânic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29AD-7271-4D61-9054-83619B120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OMPLICAÇ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eritonite, principal complicação da diálise periton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fecções no local de saída do cateter e túne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Falhas na ultrafiltração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;?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Calibri"/>
              </a:rPr>
              <a:t>Ou acid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mplicações mecânic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Hérni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or abdominal, Hipersensibilidade, Rigidez; hipotensão 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arterial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renagem inadequad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Metabólicas 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(</a:t>
            </a:r>
            <a:r>
              <a:rPr b="0" lang="pt-BR" sz="2000" spc="-1" strike="noStrike">
                <a:solidFill>
                  <a:srgbClr val="558ed5"/>
                </a:solidFill>
                <a:latin typeface="Calibri"/>
              </a:rPr>
              <a:t>Hiponatremia e hipernatremia, Hipopotassemia e hiperpotassemia, Alcalose e acidose, </a:t>
            </a:r>
            <a:r>
              <a:rPr b="0" lang="en-US" sz="1700" spc="-1" strike="noStrike">
                <a:solidFill>
                  <a:srgbClr val="558ed5"/>
                </a:solidFill>
                <a:latin typeface="Calibri"/>
              </a:rPr>
              <a:t>Má nutrição protéica, Hipertrigliceridemia, Obesidade, </a:t>
            </a:r>
            <a:r>
              <a:rPr b="0" lang="pt-BR" sz="2000" spc="-1" strike="noStrike">
                <a:solidFill>
                  <a:srgbClr val="558ed5"/>
                </a:solidFill>
                <a:latin typeface="Calibri"/>
              </a:rPr>
              <a:t>Hiperglicemia)</a:t>
            </a:r>
            <a:r>
              <a:rPr b="0" lang="pt-PT" sz="2000" spc="-1" strike="noStrike">
                <a:solidFill>
                  <a:srgbClr val="558ed5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Hiperglicémi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Obesidad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Hipertrigliceridemi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steodistrofi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A283-4D0C-447B-95F6-6B46C8922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SSISTÊNCIA DE ENFERMAGEM ANTES DA DIÁLISE PERITONE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Cuidados antes da diáli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Explicar o procediment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Sinais vitai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s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Electrólito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eparar a unidade e o material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0000"/>
                </a:solidFill>
                <a:latin typeface="Calibri"/>
              </a:rPr>
              <a:t>Banh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00BA-C243-490E-81B4-53EC0A0D8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SSISTÊNCIA DE ENFERMAGEM DURANTE  A DIÁLISE PERITONE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ício, duração e término de cada banh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specto do líquido drenad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Sinais vitai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mbiente tranquilo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edidas de confort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sar a bolsa após cada troc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Usar técnica asséptica rigoros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80BC-A3F3-4F00-8DFA-3F88368FE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ASSISTÊNCIA DE ENFERMAGEM DEPOIS DA DIÁLISE PERITONE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Anotar as condições do pacient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Sinais vitai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Pes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Fechamento da folha de balanço hídric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nício e término de cada troc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Quantidade e tipo de solução drenad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Número de troc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59D4-391F-4D5D-98EC-A9BE4238B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ASSISTÊNCIA DE ENFERMAGEM NAS ALTERAÇÕES OSTEOMUSCULAR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efiniç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Um estado no qual o indivíduo corre o risco de sofrer deterioração dos sistemas d</a:t>
            </a: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 organismo por inactividade musculo esquelét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Factores relacion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s factores relacionados com maior frequência s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5640" indent="289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iminuição da mobilidade físic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 indent="289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 indent="289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ntolerância à activida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BDD2-4402-49F0-804A-9BA342A31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anter a pele intacta e as mucosas com coloração normal; </a:t>
            </a:r>
            <a:r>
              <a:rPr b="0" lang="pt-PT" sz="2600" spc="-1" strike="noStrike">
                <a:solidFill>
                  <a:srgbClr val="00b050"/>
                </a:solidFill>
                <a:latin typeface="Calibri"/>
              </a:rPr>
              <a:t>sem sinais de isquemia e de eritemas não branqueáveis pressão;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anter a circulação adequada; sem sinais de edema, formação de coágulos, flebites ou embolia pulmona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anter um retorno venoso e o débito cardíaco normais; sem sinais de sobrecarga ou falência cardíaca ou hipotensão ortostátic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5331-ED4D-4F0C-8C28-7A176C06D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anter a ventilação adequada; sem sinais de retenção de dióxido de carbono. Ou hipoxi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anter uma alimentação adequada; sem anorexia, má nutrição, catabolismo muscular ou balanço azotado negativ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anter a massa muscular; sem sinais  de diminuição de forca ou de tonus muscula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anter a mobilidade articular passiva de todas as articulações; sem sinais de contractur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FA99-958F-4016-9296-7660D0441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ONCEI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6b9b8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iabetes: É um grupo de doenças metabólicas caracterizadas por </a:t>
            </a: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e associadas a complicações, disfunções e insuficiência de vários órgãos, especialmente olhos, rins, nervos, cérebro, coração e vasos sanguíne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niveis elevados de açúcar no sangue (hiperglicemi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558ed5"/>
                </a:solidFill>
                <a:latin typeface="Calibri"/>
              </a:rPr>
              <a:t>Hiperglicémia: É quando a taxa de glicose no sangue esta alta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558ed5"/>
                </a:solidFill>
                <a:latin typeface="Calibri"/>
              </a:rPr>
              <a:t>Hipoglicémia: É quando a taxa de glicose no sangue esta baix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1B77-6509-459B-9535-125665802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anter o metabolismo ósseo normal; sem reabsorção óssea, hipercalemia, hipercalciúria , formação de cálculos renais  de cálcio, osteoporose ou fracturas patogénic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anter a boa eliminação vesical; sem retenção urinária, urina concentrada, infecção urinária, distensão  vesical, incontinência urinária, urina alcalina ou cálculos renai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E18A-D968-404F-A128-A547DD6C5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Lidar com a incapacidade para realizar tarefas ou atingir objectivos com autonomia; sem sentimentos excessivos de perda de controlo, frustração, hostilidade, agressão ou depressã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Lidar com a incapacidade de afastar autonomamente do que é sentido como ameaça ao seu bem-estar físico ou emocional; sem sentimentos excessivos de ansiedade, medo ou pân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ABA6-A3E2-4DE5-80C8-023D64B66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anter o relacionamento inter-pessoal saudável com os prestadores de cuidados; sem dependência excessiva ou necessidade de lhe agradar ou de o controlar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anter o relacionamento saudável; sem sentimentos de isolamen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BE0C-6B3F-4F90-8155-2FC74942E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SSISTÊNCIA DE ENFERMAGEM NO UTENTE COM INTEGRIDADE CUTÂNEA PREJUDIC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5998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efiniçã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stado em que um individuo tem lesões da integridade e continuidade estrutural dos tecidos moles orgânicos, incluindo a pele, mucosa, tecidos córneo, o tecido subcutâneo, ou o muscu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aracterísticas definidor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única grande característica definidora para este diagnostico de enfermagem é a lesão ou destruição de um dos tecidos mencionados na definiçã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88E1-4C18-4A72-9053-F495E5CB3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CTORES RELACION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lterações mecânicas secundárias a intervenção cirúrgica, traumatismo, pressão, fricçã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lterações térmicas, (queimaduras) secundarias ao calor ou lesões químicas, a lesões provocadas pelo f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utras alterações químicas secundárias às lesões tóxicas, à excepção das relacionadas com o calor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487F-4D3A-4D16-89EC-3C34A8862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lterações circulatórias secundárias a aterosclerose, doenças cardíacas, doença vascular periféric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Défice/excesso do volume de líquidos secundário a desidratação, edem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Compromisso da mobilidade física secundário a paralisia, perda de consciência, fraqueza muscular, compromisso neurológico, depressão, certos medicamentos; de ferid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DAB9-491A-48FC-834B-21555163E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CTORES RELACION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éfice/excesso nutricional secundário a desnutrição, nutrição deficiente prolongada em um ou mais elementos nutricionais essenciais, obesidad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éfice de conhecimento a respeito de segurança, prevenção de lesões, tratamen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486E-651E-44F5-9BAE-DDC791E7B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CTORES RELACION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CUIDADOS DE ENFERMAGEM NA INTEGRIDADE CUTÂNEA PREJUDICAD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evenir fracturas lesões teciduai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evenir a infecção de ferid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evenir lesões de outros sistemas orgânico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omover conforto do utente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omover a cicatrização da ferida através de nutrição adequad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estar os cuidados apropriados à ferida - limpeza, medicamentos, pens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E355-A6A5-4E7D-8D14-009494C69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684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Eliminar os défices de conhecimentos do utente relacionados com a lesã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judar a utente a recuperar a independênci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judar o utente a adaptar-se a eventuais alterações transitórias ou permanentes resultantes da ferida ou lesã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judar o utente, família ou amigos a alcançarem as competências necessárias à prestação de bons cuidados à ferida ou lesão, aquando da alt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4F91-E6E1-4E0B-8EBE-777AEDFE9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CUIDADOS DE ENFERMAGEM NA INTEGRIDADE CUTÂNEA PREJUDICAD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3E14-556C-4AF1-9FE0-2377532FA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Enfermagem Fundamental Abordagem Psicofisiologica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RENSEN &amp; LUCKMANN  1ª Edição em Português -1998 - Lusodidac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ado de Enfermagem Médico-Cirúrgica  Brunner &amp; Suddarth – Vol. 2 – Guanabara Koogan -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Calibri"/>
              </a:rPr>
              <a:t>www.medicalline.com.br/index.php?option=com...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LASSIFICAÇÃO DAS DIABE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iabetes tipo 1- (diabetes insulinodependente) Destruição de células pancreáticas por processo auto-imune. (anteriormente conhecido como diabetes juvenil), que compreende cerca de 10% do total de cas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iabetes tipo 2 – (diabetes não insulinodependente) Resulta da sensibilidade diminuída à insulina (anteriormente conhecido como diabetes do adulto), que compreende cerca de 90% do total de cas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D235-010E-4EC9-8DF4-92CC34148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99072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Diabetes gestacional – </a:t>
            </a:r>
            <a:r>
              <a:rPr b="0" lang="pt-PT" sz="2200" spc="-1" strike="noStrike">
                <a:solidFill>
                  <a:srgbClr val="ff0000"/>
                </a:solidFill>
                <a:latin typeface="Calibri"/>
              </a:rPr>
              <a:t>Causada </a:t>
            </a:r>
            <a:r>
              <a:rPr b="0" lang="pt-PT" sz="2200" spc="-1" strike="noStrike">
                <a:solidFill>
                  <a:srgbClr val="558ed5"/>
                </a:solidFill>
                <a:latin typeface="Calibri"/>
              </a:rPr>
              <a:t>qualquer  grau de intolerância à glicose com inicio durante a gravidez (2⁰ ou 3⁰ trimestre)</a:t>
            </a: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 devido aos hormónios secretados pela placenta </a:t>
            </a:r>
            <a:r>
              <a:rPr b="0" lang="pt-PT" sz="2200" spc="-1" strike="noStrike">
                <a:solidFill>
                  <a:srgbClr val="558ed5"/>
                </a:solidFill>
                <a:latin typeface="Calibri"/>
              </a:rPr>
              <a:t>que</a:t>
            </a: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 inibirem a acção da insulin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200" spc="-1" strike="noStrike">
                <a:solidFill>
                  <a:srgbClr val="000000"/>
                </a:solidFill>
                <a:latin typeface="Calibri"/>
              </a:rPr>
              <a:t>Etiologia</a:t>
            </a: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Ainda não esclarecida. </a:t>
            </a:r>
            <a:r>
              <a:rPr b="0" lang="pt-PT" sz="2200" spc="-1" strike="noStrike">
                <a:solidFill>
                  <a:srgbClr val="ff0000"/>
                </a:solidFill>
                <a:latin typeface="Calibri"/>
              </a:rPr>
              <a:t>é o que, </a:t>
            </a: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em geral, é um estágio pré-clínico de diabetes, detectado no rastreamento pré-nat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D53F-226C-444D-A53B-516280003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LASSIFICAÇÃO DAS DIABE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AUSAS DE DIABE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Diabetes tipo I: produção inadequada de insul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Factores: Geneticos, imunológicos e ambienta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Diabetes tipo II: Resistência a insulina e secreção deficiente de insul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Factores: genéticos, de risco (idade, obesidade, historia familiar e grupo etnic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alibri"/>
              </a:rPr>
              <a:t>Hiperglicémia: É quando a taxa de glicose no sangue esta alta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alibri"/>
              </a:rPr>
              <a:t>Hipoglicémia: É quando a taxa de glicose no sangue esta baix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18AB-BCB9-43FB-AA2E-093CFB143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QUADRO CLÍNICO DA DIABE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Os sintomas clássicos de diabetes são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oliúria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olidipsia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olifagia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da involuntária de pes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Outros sintomas que levantam a suspeita clínica sã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Fadiga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Fraqueza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Letargi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urido cutâneo e vulva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Bala-nopostite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fecções de repetição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88F7-ED5F-4999-8429-2087CCF6F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25"/>
              </a:spcBef>
              <a:buClr>
                <a:srgbClr val="558ed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558ed5"/>
                </a:solidFill>
                <a:latin typeface="Calibri"/>
              </a:rPr>
              <a:t>Educação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2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558ed5"/>
                </a:solidFill>
                <a:latin typeface="Calibri"/>
              </a:rPr>
              <a:t>Informação sobre o conhecimento, aceitação e convivênci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2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558ed5"/>
                </a:solidFill>
                <a:latin typeface="Calibri"/>
              </a:rPr>
              <a:t>Fisiopatologia simple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2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558ed5"/>
                </a:solidFill>
                <a:latin typeface="Calibri"/>
              </a:rPr>
              <a:t>Modalidades de tratamento (administracao de insulina e monitorizacao de insulina e diet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2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558ed5"/>
                </a:solidFill>
                <a:latin typeface="Calibri"/>
              </a:rPr>
              <a:t>Prevencao das complicacoes ( Hipo e hiperglicemi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Calibri"/>
              </a:rPr>
              <a:t>Cuidados com a pele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vitar infecçõe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vitar fricção vigoros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Usar loções hidratantes na pe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vitar queimaduras, ferimentos e frio excessivo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Tratar ferimentos assertivamente imediatament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Atenção especial quanto à higiene pessoal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505F-DFD8-4591-A7C0-0D59526F8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07:31:15Z</dcterms:created>
  <dc:creator>user</dc:creator>
  <dc:description/>
  <dc:language>en-US</dc:language>
  <cp:lastModifiedBy>Maputo</cp:lastModifiedBy>
  <dcterms:modified xsi:type="dcterms:W3CDTF">2011-10-11T13:42:03Z</dcterms:modified>
  <cp:revision>50</cp:revision>
  <dc:subject/>
  <dc:title>ANATOMIA E FISIOLOGIA        HUMANA  CONCEITOS GERAIS</dc:title>
</cp:coreProperties>
</file>