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8232-42BE-4D41-991B-9117E096B85F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16D9-CC0E-4F35-AB0C-BB34C23F9012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1BD85-32F0-4B26-A910-692B1BDC9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01C3C-8786-421A-BF3E-534D76C30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7AE17-25B4-4FC7-BC7A-770AF6C3D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D811F-00C6-4E6B-9765-4BA0D0B35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872A4-A7F2-42B4-869B-D3051F771F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B1137-9163-42CD-A206-F3416B104B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2C28F-B607-474B-A52F-B255122CE8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ECBD8-BC64-4597-ACEA-5CFD27915E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9CABF-B077-44A3-AE70-51CE83C4A2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7854A-93DD-468E-926F-9F6837900B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85F60-676B-4607-9816-763E3EF20F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512E-BD99-451F-8D81-4D7E24C43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02BFC-B955-4D67-AFD2-E93796C37D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56CFC-0669-49E5-8AD6-88F6E9BF2B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966F2-09E2-45F3-A39F-7BFC05F26F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E72D6-F8B5-4B10-81DC-CF08A257F5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D22BD-C0F8-4553-A197-C3C20979A6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6BF7E-3638-418A-8117-F2468D897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9EA2E-F362-4494-BBB2-D0B1FE997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5E0A-314D-4EA7-995C-E689913C1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6A38F-951B-4575-90F1-0417D4777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7BF8E-7433-4D5B-8AAC-FDAA43062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8C88E-E584-4603-943B-4AF52A336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DF7A-FAE6-4C00-9ACC-8ADA4C11A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0A1A-3FE7-4600-8277-9F00A49E96B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19810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59A5-25CB-4B4C-982D-66DF2467CA9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720" y="1523520"/>
            <a:ext cx="5486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ENFERMAGEM MÉDICO-CIRÚRGICA</a:t>
            </a:r>
            <a:endParaRPr b="1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160" y="46483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400" spc="-1" strike="noStrike">
                <a:solidFill>
                  <a:srgbClr val="000066"/>
                </a:solidFill>
                <a:latin typeface="Arial"/>
              </a:rPr>
              <a:t>SUBMÓDULO  11:</a:t>
            </a:r>
            <a:endParaRPr b="1" lang="en-US" sz="34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3400" spc="-1" strike="noStrike">
                <a:solidFill>
                  <a:srgbClr val="000066"/>
                </a:solidFill>
                <a:latin typeface="Arial"/>
              </a:rPr>
              <a:t>ATENÇÃO À PEQUENAS CIRURGIAS</a:t>
            </a:r>
            <a:endParaRPr b="1" lang="en-US" sz="34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Black"/>
              </a:rPr>
              <a:t>Curso de Enfermagem Geral</a:t>
            </a:r>
            <a:endParaRPr b="1" lang="en-US" sz="20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8C5B-3FF2-4715-B4BA-025634C1EEC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1676520" y="64008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 e Enfermagem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. DA CLASSIFICAÇÃO DOS FIOS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20574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 Quanto à absorçã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Quanto à absorção os fios podem se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 Absorvíveis- São os que podem ser digeridos pelas células do organismo durante ou após a cicatrização dos tecidos. Ex: Catgut (Simples ou plain, cromado)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lagéno ( Simples,cromado e extracromado)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D5F7-3820-4E45-B905-B6574BEE90A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. DA CLASSIFICAÇÃO DOS FIOS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) Não absorvíveis- São aqueles que as células do organismo não conseguem digerir, portanto estes fios devem ser tirados depois da cicatrização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te tipo fios geralmente é usada para suturas superficiai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: Seda cirúrgica, algodão cirúrgico, as metálicase as sintéticas etc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32B8-D083-4244-AEEA-4C6BB267D32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resentação dos fi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fios poderão apresentar-se em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) Embalagem de pequenas carteiras duplas, estando a pequena dentro da grand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B)Rolos como de linha de costura, podendo serem pequenos, portanto individuais ou maior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) Tubos de vidro semelhantes aos tubos de colheita de sangue ( mergulhados em solução alcoolica )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35A1-DDAD-4590-9AF8-EAB2D026764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 DA APRESENTAÇÃO DOS FI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fios também se podem apresentar com agulha já adaptada ou não, sendo assim classificados de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) Traumáticos-Aquelas que não possuem a agulha adaptada (Agulha não embutida). Razão porque traumatizam mai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B) Atraumáticas-Aquelas que se apresentam com agulha já adaptada da fábrica (Agulha embutida)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B9DB-2D94-4360-A30D-6504C27F999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ÇÃO DAS AGULH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função das agulhas é facilitar a passagem da linha pelos tecid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IPOS DE AGULH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 agulhas podem ser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ta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urvas,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/4 do círcul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/2 do círcul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/8 do círcul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1124-C5D5-4640-A65B-BF3D9F47D15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A CLASSIFICAÇÃO DAS AGULH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 acordo com o seu formato as agulhas podem ser classificadas 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-Cortantes ou triangulares-Este tipo de agulhas origina um pequeno corte no tecido e o fio tem tendência de aumentar o cort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ão mais usadas para suturar os tendões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Não cortantes ou redondas-Este tipo de agulhas apresenta o corpo arredondado e são usadas em tecidos pouco resistent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: Fígado, rins etc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9FEF-A441-4733-B722-E0B1658D481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O DE CADA TIPO DE AGULH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uso das agulhas depende do tip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Agulhas Curvas-São mais utilizadas para suturar tecidos profundos e a pel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-Agulhas Semi-rectas-São utilizadas para suturar a pel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3-Agulhas rectas-São utilizadas para algumas suturas gastro-intestinai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efinir a utilidade das agulhas circular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s agulhas variam em tamanho e calibre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F8EE-F7B7-41A2-997C-2CE932DD1FB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ITUIÇÃO DAS AGULH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agulhas são constituidas da seguinte forma</a:t>
            </a:r>
            <a:r>
              <a:rPr b="0" lang="en-US" sz="2800" spc="-1" strike="noStrike">
                <a:solidFill>
                  <a:srgbClr val="000066"/>
                </a:solidFill>
                <a:latin typeface="Agency FB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gency FB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- Fenda-orifício onde se mete o fi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Corpo-É a parte que constitue a verdadeira peça da agulh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ralmente é feita de aço inoxdável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-Ponta- È a parte terminal da agulh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809E-2D6D-4211-B4F9-72C3A4F83D0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ESCOLHA DE AGULH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istem alguns factores que influenciam a escolha da agulha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amanh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po de tecido a sutura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pacidade de sensibilidade da área a sutura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ferência do Cirurgiã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tina da Sala de Operaçõ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1B20-6F15-4ACE-A243-08D37482313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E EPI NECESSÁRI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PI: Luva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irurgica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máscara,avental plástico,barrete e óculos de protecção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TERIA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it de sutura ( couvete, tesoura pequena, pinça porta-agulha, pinça de Kocher, pinça de dissecçã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 dent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compressa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terelizada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65ED-C01E-4FC1-ACDC-8504C63F2B9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PETÊNCIAS              </a:t>
            </a:r>
            <a:endParaRPr b="1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No fim da aula o estudante deve ser capaz de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0000"/>
                </a:solidFill>
                <a:latin typeface="Arial"/>
                <a:ea typeface="Arial"/>
              </a:rPr>
              <a:t>Conceitua suturas, abcessos e corpos estranhos</a:t>
            </a:r>
            <a:r>
              <a:rPr b="0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200" spc="-1" strike="noStrike">
              <a:solidFill>
                <a:srgbClr val="000066"/>
              </a:solidFill>
              <a:latin typeface="Agency FB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0000"/>
                </a:solidFill>
                <a:latin typeface="Arial"/>
                <a:ea typeface="Arial"/>
              </a:rPr>
              <a:t>Descreve os sinais e sintomas das patologias,</a:t>
            </a:r>
            <a:endParaRPr b="1" lang="en-US" sz="2200" spc="-1" strike="noStrike">
              <a:solidFill>
                <a:srgbClr val="000066"/>
              </a:solidFill>
              <a:latin typeface="Agency FB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0000"/>
                </a:solidFill>
                <a:latin typeface="Arial"/>
                <a:ea typeface="Arial"/>
              </a:rPr>
              <a:t>Menciona o material e o EPI necessario para as tecnicas</a:t>
            </a:r>
            <a:endParaRPr b="1" lang="en-US" sz="2200" spc="-1" strike="noStrike">
              <a:solidFill>
                <a:srgbClr val="000066"/>
              </a:solidFill>
              <a:latin typeface="Agency FB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0000"/>
                </a:solidFill>
                <a:latin typeface="Arial"/>
                <a:ea typeface="Arial"/>
              </a:rPr>
              <a:t>Executa as tecnicas de acordo com os procedimentos</a:t>
            </a:r>
            <a:endParaRPr b="1" lang="en-US" sz="2200" spc="-1" strike="noStrike">
              <a:solidFill>
                <a:srgbClr val="000066"/>
              </a:solidFill>
              <a:latin typeface="Agency FB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Prestar cuidados de Enfermagem humanizados ao utente durante a execussão da técnica.</a:t>
            </a:r>
            <a:endParaRPr b="1" lang="en-US" sz="2200" spc="-1" strike="noStrike">
              <a:solidFill>
                <a:srgbClr val="000066"/>
              </a:solidFill>
              <a:latin typeface="Agency FB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Prestar cuidados de urgência e emergência médico-cirúrgica, bem como aplicar medidas preventivas das complicações.</a:t>
            </a:r>
            <a:endParaRPr b="1" lang="en-US" sz="2200" spc="-1" strike="noStrike">
              <a:solidFill>
                <a:srgbClr val="000066"/>
              </a:solidFill>
              <a:latin typeface="Agency FB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-78480" y="7238880"/>
            <a:ext cx="809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Enfermagem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4915-D1D7-4561-95E9-69CF1D1A88D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E MATERIAL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T. DE MATERIAL NECESSÁRIO :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ção fisiológica 0,9 % ; adesivo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aldes com sacos plásticos para o lixo comum e lixo infeccioso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A72C-0878-4002-83DC-14F0FC0D7A8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eve o material para junto do paciente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umprimente o paciente e apresente-se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plique o procedimento a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tent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 peça a sua colaboração; posicione-o de modo a facilitar a realização do procedimento; mantenha a sua privacidade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E167-D73A-4C24-B8E7-BB53406D89B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ave as mãos com água e sabão ou freccione-as com álcool glicerinado, se não estiverem visivelmente sujas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bra o kit de suturas pela parte externa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e a pinça de Kocher segurando-a com ajuda do papel do campo e coloque-a no bordo do campo estéril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B07C-7A32-4798-AF75-84F36321F91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lce as luva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irurgica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e a pinça de dissecção com ajuda da primeira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e uma compressa e dobre-a em 4 partes fixando-a na pinça de Kocher com ajuda da pinça de dissecção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E7DC-84DE-4546-93B0-4B7F0D4772B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mbeba a compressa com a solução fisiológica e desinfecte a ferida; repetir esta operação até a ferida ficar limpa mudando sempre a compress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loque o campo aberto por cima da ferida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bra a carteira da linha de sutura e deixe cair a linha no tabuleiro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BC6D-6269-4342-A107-DC59D4ABCB3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gue na pinça de Kocher com a mão direita; fixe a agulha e pegue a pinça de Dissecção com a mão esquerd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 a pinça de Dissecção fixe o bordo direito da ferida, puncione-o com agulha e puxe a linha até ficar 1cm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2B3F-35B3-4990-B066-8D94FE1A98B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rola a linha na pinça porta-agulha;com a mesma pinça pega na ponta inicial da linha e faça o nó ;corte a linha deixando cerca de 0,5cm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ça a mesma técnica noutro bordo e assim sucessivamente até terminar a sutur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sinfecte e seque a ferid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E283-4C22-4FBE-9EE7-F3A0B54EFB7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E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ça o penso simples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e as luvas de procedimento e deite-as em recipiente com saco plástico para lixo infeccioso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ave as mãos com água e sabão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giste o procedimento no Diário de Enfermagem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79DA-71D0-49E5-A1B9-BFAF9F9F1B5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 usar agulha embutida, ter o cuidado de não apertar com a pinça porta-agulhas a extremidade da agulha onde o fio funde porque é zona oca, porque pode-se parti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mpre que se quebrar uma agulha deve-se certificar se todos os pedaços foram retirados.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F1E7-50AA-481D-A7AC-E7DAD6B3D27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ual de Cirurgia para Técnico de Cirurgi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utor :  Vaz,Fernando. Moçambiqu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ual de Enfermagem Cirúrgic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utor: Instituto de Ciências de Saúde de Maputo.Moçambiqu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tado de Enfermagem Médico-Cirúrgic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utor: Brunner Suddarth. Brasi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rensen e Luckmann, Enfermagem Fundamental, 3ª edicao, Editora Lusodidactica, Lisboa, 1998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0C90-97D0-4B2E-9DB0-EE84E5113DE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as compentênci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758880" indent="-3794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Aplicar os conhecimentos adquiridos ao planificar,executar e avaliar os cuidados de Enfermagem, baseados no diagnóstico realizado,visando a satisfação das necessidades do utente do fóro médico-cirúrgic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758880" indent="-3794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  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Orientar os utentes e a família sobre os cuidados a prestar no pré e pós operatório e prevenção das complicaçõ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758880" indent="-3794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 Black"/>
                <a:ea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gency FB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endParaRPr b="1" lang="en-US" sz="20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0277-54B6-4940-8A19-0B30A918308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SUTUR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UTURA-É a aplicação de qualquer material com o fim de aproximar os tecidos, mantendo-os cosidos até que a cicatrização se conclu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io de sutura e um material flexivel incerrido atraves dos tecidos (com o uso de uma agulha) para aproximar as suas extremidades e diminuir o espaco morto. (Sorensen e Luckmann, 1998)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D639-7C30-4962-B8F5-C219C856E44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AS SUTUR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IPOS DE SUTUR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istem dois tipos de suturas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-Suturas contínuas-São aquelas em que o fio é consecutivo sem sofrer nenhum corte, desde a primeira extremidade até à outra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-Suturas separadas-São aquelas em que os pontos  são separados um do outro, com o corte constante do fio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CE46-DCC7-428F-9CE5-D765A60FB93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ESCOLHA DO FI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factores que influenciam a escolha do fio são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empo desejado para que os fios permaneçam no organismo e se serão ou não absorvido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ipo de tecido a ser suturado. Alguns tecidos absorvem o fio mais rapidamente que outro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stado nutricional do paciente (Mal nutridos, anémicos mais obesos) e Idade (mais idosos) absorvem com dificuldades os tecidos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FB52-424E-43AC-A035-41E90073292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A ESCOLHA DO FI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s fios são também absorvidos com dificuldade onde houver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-Infecçã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Muitas secreçõ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-Muita humidad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3173-2C65-4559-9979-441ED145031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ÇÃO DOS FI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fios podem ser classificados em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 Quanto à sua origem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- Quanto à sua absorçã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 Quanto à sua origem podem ser divididos em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)  Origem animal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-como por exemplo a seda, tendões de animais, crinas,catgut etc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334C-6247-48EE-ACF2-CCA69721D26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A CLASSIFICAÇÃO DOS FIOS 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) Origem  Vegeta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r exemplo: Nylon, polieste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) Origem Minera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r exemplo: fios de aço, de alumínio, de prata, de platina, de cobre etc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gency FB"/>
              </a:rPr>
              <a:t>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183D-DEF5-43AE-BFC9-EA1612CF9AD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Maputo</cp:lastModifiedBy>
  <dcterms:modified xsi:type="dcterms:W3CDTF">2011-10-11T13:47:33Z</dcterms:modified>
  <cp:revision>845</cp:revision>
  <dc:subject/>
  <dc:title>ANATOMIA E FISIOLOGIA HUMANA</dc:title>
</cp:coreProperties>
</file>