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4386-27DC-41D6-A871-E23C2D49C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BDE1-3AEA-4C2F-946B-11D9787142EC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B379-1DD1-436F-8EBD-D57295D953E9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7BE2-E1E3-40B9-B2ED-8D1677F8E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6D45-C114-40D6-A595-28D6E7D5E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2041-DC06-460A-9061-1CDC660BF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6F64-2052-44CD-978E-1E4E857AF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4746-DEC9-47F3-BE94-4409E4031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5B76-AEA2-4FCA-882F-DE8AA1F2C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D098-8864-4EE7-8DCA-699F87FB2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3465-B90C-4E34-9092-D9A648CD5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C51F-82BD-4D00-A112-CA6134510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E9DA-4578-475F-9B7C-E2384F46B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1AF3-9718-47E1-96F7-FB5ECD582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F197-2B09-478A-96F6-DDC779917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55B-986F-4589-A79A-98CA173624C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uidados de Enfermagem nas alterações mais comuns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45720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9 – Enfermagem Médico-cirúrg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ub módulo 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www.blogbebes.com.pt/wp-content/uploads/convulsion.jpg"/>
          <p:cNvPicPr/>
          <p:nvPr/>
        </p:nvPicPr>
        <p:blipFill>
          <a:blip r:embed="rId1"/>
          <a:stretch/>
        </p:blipFill>
        <p:spPr>
          <a:xfrm>
            <a:off x="5143680" y="1905120"/>
            <a:ext cx="4000320" cy="3200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er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ooter Placeholder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66"/>
                </a:solidFill>
                <a:latin typeface="Arial"/>
              </a:rPr>
              <a:t>Complicações: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suficiência respirató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suficiência renal agu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suficiência hepá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Lesão Intestinal Isquêm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ancreati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Trombocitopen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Hemorragia gastrointestinal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/epistax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agulação intravascular dissemina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Lesão cerebral (convulsões, rigidez à mor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er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Cuidados de enfermagem: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Identificar a causa/facto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Reduzir a quantidade de roupa no corp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Ventilar o corpo do </a:t>
            </a:r>
            <a:r>
              <a:rPr b="1" lang="pt-BR" sz="2300" spc="-1" strike="noStrike">
                <a:solidFill>
                  <a:srgbClr val="ff0000"/>
                </a:solidFill>
                <a:latin typeface="Arial"/>
              </a:rPr>
              <a:t>utente</a:t>
            </a: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Seleccionar e aplicar uma das seguintes medidas de arrefecimento corporal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Aplicar toalha molhada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Aplicar compressas frias entre as virilhas, axilas e pescoço; 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Dar banho com água morna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dministrar líquidos orais fri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dministrar antipirético prescrit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Monitorar os sinais vitai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Em casos graves fazer lavagem gástrica gelad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o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0663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osição intensa ao f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xposição a chuvas e ventos fri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masiada aplicação da técnica de arrefecimento corpo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toxicação alcoólic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(ou medicamentosa)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istúrbios metabólicos (hipoglicemia, hipotireoidism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7" name="Picture 4" descr="http://1.bp.blogspot.com/_z9-AMEGTnLY/SR3bFLj56yI/AAAAAAAAANQ/usXrxN-DiuQ/s400/crian%C3%A7a+na+cascata+midi.jpg"/>
          <p:cNvPicPr/>
          <p:nvPr/>
        </p:nvPicPr>
        <p:blipFill>
          <a:blip r:embed="rId1"/>
          <a:srcRect l="13616" t="0" r="11783" b="0"/>
          <a:stretch/>
        </p:blipFill>
        <p:spPr>
          <a:xfrm>
            <a:off x="5181480" y="1612800"/>
            <a:ext cx="37339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o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Sinais e Sintoma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Tremor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Esfriamento das mãos e pé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Pele palida e fr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Fracasso nos membr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ificuldade em respirar/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(dispneia)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bradicard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Edema faci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umento da diures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Nos casos graves: perda de memória, perda de controle dos membros superiores e inferiores, inconsciência, perda da pulsação, pupilas dilatadas e mort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1" name="Picture 2" descr="http://www.anestesiologia.com.br/images/artigos/ANESTESIOLOGIA_55342.jpg"/>
          <p:cNvPicPr/>
          <p:nvPr/>
        </p:nvPicPr>
        <p:blipFill>
          <a:blip r:embed="rId1"/>
          <a:stretch/>
        </p:blipFill>
        <p:spPr>
          <a:xfrm>
            <a:off x="6019920" y="990720"/>
            <a:ext cx="30002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o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mplicaçõe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rritmias cardía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dema d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 pulm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farto do miocárd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úri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cidente vascular cereb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aragem cárdio-respirató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or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o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uidados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gasalhar o paciente, fechar as janelas e manter o ambiente aquecid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plicar massagem corpor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quecer  a cama com sacos de água qu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Trocar roupas e curativos húmid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Ingestão de líquidos quent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e5"/>
                </a:solidFill>
                <a:latin typeface="Arial"/>
              </a:rPr>
              <a:t>Não dar bebidas alcoólicas! </a:t>
            </a:r>
            <a:r>
              <a:rPr b="1" lang="pt-BR" sz="2200" spc="-1" strike="noStrike">
                <a:solidFill>
                  <a:srgbClr val="000072"/>
                </a:solidFill>
                <a:latin typeface="Arial"/>
              </a:rPr>
              <a:t>P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is elas dão uma sensação instantânea de aquecimento, porém, reduzem a temperatura do corp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dministrar soluções endovenosas aquecidas (37ºC)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dministrar oxigéni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Monitorar a temperatura corpora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xercícios de consolid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ferencie hipertermia da hipotermia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is são as causas de hipertermia e hipotermia?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is são os sinais e sintomas de hipertermia e hipotermia?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is são as complicações resultantes da hipertermia e hipotermia?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encione os cuidados de enfermagem a prestar ao utente com hipertermia e hipotermi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300" spc="-1" strike="noStrike">
                <a:solidFill>
                  <a:srgbClr val="ffffff"/>
                </a:solidFill>
                <a:latin typeface="Arial"/>
              </a:rPr>
              <a:t>Dor Aguda e Dor Crónica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huva de ide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80920" y="16765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l a diferença entre a dor aguda e a dor crónica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is os prejuízos da dor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6" name="Picture 4" descr="brainstorm.gif"/>
          <p:cNvPicPr/>
          <p:nvPr/>
        </p:nvPicPr>
        <p:blipFill>
          <a:blip r:embed="rId1"/>
          <a:stretch/>
        </p:blipFill>
        <p:spPr>
          <a:xfrm>
            <a:off x="609480" y="2247840"/>
            <a:ext cx="2928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100" spc="-1" strike="noStrike">
                <a:solidFill>
                  <a:srgbClr val="ffffff"/>
                </a:solidFill>
                <a:latin typeface="Arial"/>
              </a:rPr>
              <a:t>Diferença entre a Dor Aguda e Crónica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426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or Agu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 início recente ;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dura de 0 a 1 m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sulta de uma doença, de um trauma ou de uma lesão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(causa especifica)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senvolvimento rápi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pós o diagnóstico e o tratamento da causa, geralmente ces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16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or Crón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ersiste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/intermitente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por um período longo, em média 3 meses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(mais de 1 měs)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ltera a qualidade de vida da pessoa (biológica, social, profissional, afectiva, e comportamental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ode ser episód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capacita o indivídu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uar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conceitua)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 identificar as causas de hipertermia/hipotermia, edema e do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o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utente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identificando os principais sinais e sintomas das alterações na temperatura corporal (Hipertermia, Hipotermia) que possibilitem a prestação dos cuidados de enfermagem essenci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 material, EPI necessário e prestar os cuidados de enfermagem ao utente com hipertermia/ hipotermia, dor e edem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verb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886200" y="17524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prejuízos da d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76360" y="990720"/>
            <a:ext cx="556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epressão, irritação, ansiedade, tristeza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Fadiga e desconforto físic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Insónia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Ganho</a:t>
            </a: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 ou perda de pes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iminuição da concentraçã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iminuição da produtividade no trabalh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iminuição do apetite e da ingestão de líquid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Náuseas e vómi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Redução do desejo sexua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4" name="Picture 2" descr="http://4.bp.blogspot.com/_gaKc5Ig9aKI/SZMnq7yP9VI/AAAAAAAAAKg/mVyOKcODqe0/s320/dor_opt.jpg"/>
          <p:cNvPicPr/>
          <p:nvPr/>
        </p:nvPicPr>
        <p:blipFill>
          <a:blip r:embed="rId1"/>
          <a:stretch/>
        </p:blipFill>
        <p:spPr>
          <a:xfrm>
            <a:off x="530280" y="1060560"/>
            <a:ext cx="2676600" cy="1968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www.bibliomed.com.br/images/articlesimg/dor_de_barriga.jpg"/>
          <p:cNvPicPr/>
          <p:nvPr/>
        </p:nvPicPr>
        <p:blipFill>
          <a:blip r:embed="rId2"/>
          <a:stretch/>
        </p:blipFill>
        <p:spPr>
          <a:xfrm>
            <a:off x="530280" y="2968560"/>
            <a:ext cx="2676600" cy="1987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1.bp.blogspot.com/-rLZwVNI-zLE/TcnAaVGTX8I/AAAAAAAAAHk/UJ9lsc-6i7U/s1600/depressao2.jpg"/>
          <p:cNvPicPr/>
          <p:nvPr/>
        </p:nvPicPr>
        <p:blipFill>
          <a:blip r:embed="rId3"/>
          <a:stretch/>
        </p:blipFill>
        <p:spPr>
          <a:xfrm>
            <a:off x="530280" y="4857840"/>
            <a:ext cx="2676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que influenciam a d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ecanismos neurofisiológicos da do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nsmissão da do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ndorfinas e encefalin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fluências cultur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xperiências prévias com a do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Medicamentos ou drog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Sex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Fonte da escala de avaliacao da dor abaix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calas da avaliação da d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2" name="Picture 2" descr="http://3.bp.blogspot.com/_fN6jLRmSg8k/SKdTl7we9wI/AAAAAAAAAlc/_nxU0AtPXgg/s400/escala+de+dor+a.jpg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de Enfermagem na d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Identificar a causa/factor da d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segurar ao paciente da sua preocupação em ajudá-lo a controlá-l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Usar a escala de avaliação da dor para identificar a intensidade e o desconfo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e registar a dor e suas características (</a:t>
            </a:r>
            <a:r>
              <a:rPr b="1" lang="pt-PT" sz="2400" spc="-1" strike="noStrike">
                <a:solidFill>
                  <a:srgbClr val="5858ff"/>
                </a:solidFill>
                <a:latin typeface="Arial"/>
              </a:rPr>
              <a:t>localização, qualidade, frequência, duração e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intensidade)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dministrar os analgésicos prescrit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as respostas comportamentais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e incentivar estratégias de alívio da dor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ex:posiçāo de conforto)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sinar ao paciente novas estratégias para alívio da dor e do desconfo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judar o paciente a planificar e a participar de activida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de Enfermagem na d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Medidas não-invasivas: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Relação enfermeiro-paciente e orientação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reduz a ansiedade e aumenta a confianç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Estimulação cutânea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reduz a intensidade da dor. Pode ser aplicada a pressão, vibração, calor, frio, água e creme mentolad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Distracção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reduz a intensidade da dor e aumentar a tolerância a el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Relaxamento dos músculos esqueléticos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reduz a intensidade da dor e aumentar a tolerância a el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Imagens orientadas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uso de imaginação de alguém especial para conseguir efeito positiv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onfusão mental agu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fusão mental agu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É um distúrbio transitório da cognição e da atenção acompanhada por distúrbios do ciclo vigília-sono e do comportamento psicomoto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óxicas e Infeccios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raumáticas e estados de hipoperfu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Uso de restrições físic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terações metabóli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diversas: a privação sensorial, insónia, impactação fecal, retenção urinária e a mudança de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Obnubilação da consciência;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Flutuação do nível de consciência;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Desorientação, ilusões e alucinações;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"/>
              </a:rPr>
              <a:t>Sintomas neurológicos: 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sfas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sartr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m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terações motor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Estado de excitação, alterações psicomotoras, e hipervigilância.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dministrar sedativos prescritos para manter o utente </a:t>
            </a:r>
            <a:r>
              <a:rPr b="1" lang="pt-PT" sz="2600" spc="-1" strike="noStrike">
                <a:solidFill>
                  <a:srgbClr val="ff0000"/>
                </a:solidFill>
                <a:latin typeface="Arial"/>
              </a:rPr>
              <a:t>(paciente)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alm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umentar a ingestão de líquid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dministrar glicose endovenosa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dministrar vitaminas (via oral ou parenteral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odificar o ambiente: reorientação, silêncio, boa iluminaçã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Tranquilizar o paciente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Evitar limitações física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Nunca deixar estes utentes sem acompanhante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(Avaliar rigorosamente os sinais vitai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ferenciar a dor aguda da crón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s factores associados com a dor e ede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specificar as intervenções de enfermagem para o alívio da d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ferenciar a confusão mental aguda da crón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s factores associados a confusão mental agu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specificar as intervenções de enfermagem no utente em confusão mental agu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905120"/>
            <a:ext cx="91440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600200"/>
            <a:ext cx="5867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Alterações da temperatura corpor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100160" y="4419720"/>
            <a:ext cx="804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5858ff"/>
                </a:solidFill>
                <a:latin typeface="Arial"/>
              </a:rPr>
              <a:t>Hipertermia &amp; Hipotermia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mperatura corpo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termorregulação é um conjunto de mecanismos desencadeados pelo organismo para manter o corpo à temperatura compatível com a v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termorregulação gere o calor ganho e o calor perdido pelo corpo afim de manter a temperatura corporal constant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Hipertermia </a:t>
            </a:r>
            <a:r>
              <a:rPr b="1" lang="pt-PT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aumento da temperatura corporal (</a:t>
            </a: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acima do normal)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Hipotermia </a:t>
            </a:r>
            <a:r>
              <a:rPr b="1" lang="pt-PT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diminuição da temperatura corporal </a:t>
            </a: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abaixo do normal)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lassificação da temperatura corpor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752480"/>
          <a:ext cx="5105520" cy="3275280"/>
        </p:xfrm>
        <a:graphic>
          <a:graphicData uri="http://schemas.openxmlformats.org/drawingml/2006/table">
            <a:tbl>
              <a:tblPr/>
              <a:tblGrid>
                <a:gridCol w="2793960"/>
                <a:gridCol w="231156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cação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es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termia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&lt; 36ºC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rmal (Normotermo)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6 - 37,4ºC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ertermia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&gt;37.</a:t>
                      </a:r>
                      <a:r>
                        <a:rPr b="1" lang="pt-PT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ºC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Picture 9" descr="http://i.s8.com.br/images/beautyhealth/cover/img4/21208224_4.jpg"/>
          <p:cNvPicPr/>
          <p:nvPr/>
        </p:nvPicPr>
        <p:blipFill>
          <a:blip r:embed="rId1"/>
          <a:srcRect l="18754" t="0" r="18754" b="0"/>
          <a:stretch/>
        </p:blipFill>
        <p:spPr>
          <a:xfrm>
            <a:off x="5848200" y="1143000"/>
            <a:ext cx="3067200" cy="490680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5" descr=""/>
          <p:cNvPicPr/>
          <p:nvPr/>
        </p:nvPicPr>
        <p:blipFill>
          <a:blip r:embed="rId2"/>
          <a:stretch/>
        </p:blipFill>
        <p:spPr>
          <a:xfrm>
            <a:off x="158760" y="5114880"/>
            <a:ext cx="7199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huva de ide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81280" y="990720"/>
            <a:ext cx="5181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is são as causas de  hipertermia e hipotermia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is os sinais e sintomas de um paciente com hipertermia ou hipotermia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is as complicações que o paciente com hipertermia ou hipotermia pode apresentar em caso de falta ou atraso no tratamento </a:t>
            </a: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e conduta de enfermagem)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Picture 4" descr="brainstorm.gif"/>
          <p:cNvPicPr/>
          <p:nvPr/>
        </p:nvPicPr>
        <p:blipFill>
          <a:blip r:embed="rId1"/>
          <a:stretch/>
        </p:blipFill>
        <p:spPr>
          <a:xfrm>
            <a:off x="609480" y="2247840"/>
            <a:ext cx="2928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erte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xposição a ambientes com temperatura eleva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Factores que impedem o mecanismo de perda de calor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(ex:algumas patologias, como  a Malária)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ática excessiva de actividade fís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sidrat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toxicações divers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rogas como fenotiazinas, depressores, miocárdicos, barbitúricos, anfetaminas, etc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or agentes patológicos. Ex: Malária, Meningite, pneumonias, etc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erte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430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udore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nfusão Ment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âimbr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Náuseas e Vômit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Taquicard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Taquipne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nsie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erda de coordenação motor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alafrios/tremores, astenia, alucinações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Picture 2" descr="http://sitedobareta.com/wp-content/uploads/2010/06/febre.jpg"/>
          <p:cNvPicPr/>
          <p:nvPr/>
        </p:nvPicPr>
        <p:blipFill>
          <a:blip r:embed="rId1"/>
          <a:stretch/>
        </p:blipFill>
        <p:spPr>
          <a:xfrm>
            <a:off x="6213600" y="10666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t2.gstatic.com/images?q=tbn:ANd9GcT0ruAb6F6I0JV3OGfd-CCE2XMg9Y6XKjKPwOV7Re4XbBPBCf0&amp;t=1"/>
          <p:cNvPicPr/>
          <p:nvPr/>
        </p:nvPicPr>
        <p:blipFill>
          <a:blip r:embed="rId2"/>
          <a:stretch/>
        </p:blipFill>
        <p:spPr>
          <a:xfrm>
            <a:off x="6213600" y="3689280"/>
            <a:ext cx="26254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Maputo</cp:lastModifiedBy>
  <dcterms:modified xsi:type="dcterms:W3CDTF">2011-10-13T10:36:44Z</dcterms:modified>
  <cp:revision>159</cp:revision>
  <dc:subject/>
  <dc:title>JHPIEGO PowerPoint Presentation template</dc:title>
</cp:coreProperties>
</file>