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wmf" ContentType="image/x-wmf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36035-A7D4-424C-9604-7F587A9D3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1F763-C30A-4B71-BF78-FD1A5AC6B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87183-9C3F-4B61-8845-D3E10696A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0F542-AB8B-44A8-9356-38CB5C1CC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BB0D7-4BA0-4D6B-807B-475EE626E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2D1BA-33B1-4346-8DC3-3C36A541E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2FCB5-200F-4FF0-A342-91DDEE2FA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7183B-71C4-4A7B-8DD5-F1DC484DD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428CC-3DE6-463A-AF6F-F0EF6ADCF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38012-1B27-4437-84CD-67B2CD1D10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AB074-726E-4E6D-8F08-BF57B68E7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E544B-E322-4B37-84BB-FD969A476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8782-83C0-443E-B580-C2EDE16C81E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5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2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56000" y="1600200"/>
            <a:ext cx="6192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500" spc="-1" strike="noStrike">
                <a:solidFill>
                  <a:srgbClr val="ffffff"/>
                </a:solidFill>
                <a:latin typeface="Arial"/>
              </a:rPr>
              <a:t>TRATAMENTO DE FERIDAS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42920" y="4572000"/>
            <a:ext cx="7058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ódulo 6 – Fundament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ula 18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ipos de Cicatrizaç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907920"/>
            <a:ext cx="6121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818ff"/>
                </a:solidFill>
                <a:latin typeface="Arial"/>
              </a:rPr>
              <a:t>Cicatrização por 1ª Inten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Quando não há perda de tecido e as extremidades da pele ficam justapostas uma à outr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818ff"/>
                </a:solidFill>
                <a:latin typeface="Arial"/>
              </a:rPr>
              <a:t>Cicatrização por 2ª Inten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Ocorre nas feridas onde houve perda de tecido e as extremidades da pele ficam distantes umas das outras, sendo necessário formação de tecido de granulação até que a contração e epitelização aconteçam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818ff"/>
                </a:solidFill>
                <a:latin typeface="Arial"/>
              </a:rPr>
              <a:t>Cicatrização por 3ª Inten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A ferida é deixada aberta por um tempo, sendo suturada posteriormente, como cicatrização por 1ª intençã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E47D-EDB0-49CD-945F-7FD46FE0D5C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rcRect l="0" t="0" r="0" b="13596"/>
          <a:stretch/>
        </p:blipFill>
        <p:spPr>
          <a:xfrm>
            <a:off x="6375240" y="2894040"/>
            <a:ext cx="2444760" cy="1728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6361200" y="1063800"/>
            <a:ext cx="2458800" cy="1755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3"/>
          <a:srcRect l="0" t="0" r="0" b="19383"/>
          <a:stretch/>
        </p:blipFill>
        <p:spPr>
          <a:xfrm>
            <a:off x="6372360" y="4765680"/>
            <a:ext cx="244764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499520" cy="922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Factores que influenciam na cicatrizaçã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40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818ff"/>
                </a:solidFill>
                <a:latin typeface="Arial"/>
              </a:rPr>
              <a:t>Locai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773360"/>
            <a:ext cx="40402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Vascularização (isquemia e estase venosa)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Bordas não adaptada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Deiscência da sutura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Tensão na cicatriz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Corpos estranho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Infecção na ferid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Mobilidade excessiva local (articulação)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4720" y="1268280"/>
            <a:ext cx="4041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818ff"/>
                </a:solidFill>
                <a:latin typeface="Arial"/>
              </a:rPr>
              <a:t>Sistémic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44720" y="1773360"/>
            <a:ext cx="4041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Idade: idosos </a:t>
            </a:r>
            <a:r>
              <a:rPr b="1" lang="pt-PT" sz="2300" spc="-1" strike="noStrike">
                <a:solidFill>
                  <a:srgbClr val="ff0000"/>
                </a:solidFill>
                <a:latin typeface="Arial"/>
              </a:rPr>
              <a:t>há atrasos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Obesidad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Imobilidad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Tabagismo e droga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Desnutriçã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Câncer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Radioterapi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Diabete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Imunodepressão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C6E4-CC82-4896-ABB9-2ACD35B259A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ssistência de Enfermagem a Utente com Ferida Cirúrgica - Pens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Penso - É um conjunto de acções que visam a prevenção de infecção, cicatrização de feridas e a minimização de lesões cutânea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Objectivos do penso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Promover a cicatrizaçã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Minimizar lesões cutânea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Prevenir infecção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8582-DED0-4D42-8817-C76F32F1378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http://t3.gstatic.com/images?q=tbn:ANd9GcRLk4FW4FD_Y0i5uqrTqzr3M8q2sU8J0yFj1gKm601tv4oQOsNB&amp;t=1"/>
          <p:cNvPicPr/>
          <p:nvPr/>
        </p:nvPicPr>
        <p:blipFill>
          <a:blip r:embed="rId1"/>
          <a:stretch/>
        </p:blipFill>
        <p:spPr>
          <a:xfrm>
            <a:off x="5138640" y="2708280"/>
            <a:ext cx="35560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777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ipos de pen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4040280" cy="45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818ff"/>
                </a:solidFill>
                <a:latin typeface="Arial"/>
              </a:rPr>
              <a:t>Se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557360"/>
            <a:ext cx="40402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Asséptic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Antisséptic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Compressiv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Absorvent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ermeável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4720" y="1125000"/>
            <a:ext cx="4041720" cy="45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818ff"/>
                </a:solidFill>
                <a:latin typeface="Arial"/>
              </a:rPr>
              <a:t>Humid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44720" y="1557360"/>
            <a:ext cx="4041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Simples: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Quente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Frio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Com irrigação: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Irrigação contínua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Irrigação intermitente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2A51-58C6-4CA4-BE8F-C621EC3D2AC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ontent Placeholder 9"/>
          <p:cNvSpPr/>
          <p:nvPr/>
        </p:nvSpPr>
        <p:spPr>
          <a:xfrm>
            <a:off x="457200" y="4149720"/>
            <a:ext cx="8381880" cy="2232000"/>
          </a:xfrm>
          <a:prstGeom prst="rect">
            <a:avLst/>
          </a:prstGeom>
          <a:noFill/>
          <a:ln w="28440">
            <a:solidFill>
              <a:srgbClr val="181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100" spc="-1" strike="noStrike">
                <a:solidFill>
                  <a:srgbClr val="1818ff"/>
                </a:solidFill>
                <a:latin typeface="Arial"/>
              </a:rPr>
              <a:t>O</a:t>
            </a:r>
            <a:r>
              <a:rPr b="1" i="1" lang="pt-PT" sz="21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pt-PT" sz="2100" spc="-1" strike="noStrike">
                <a:solidFill>
                  <a:srgbClr val="1818ff"/>
                </a:solidFill>
                <a:latin typeface="Arial"/>
              </a:rPr>
              <a:t>penso com irrigação </a:t>
            </a:r>
            <a:r>
              <a:rPr b="1" i="1" lang="pt-PT" sz="2100" spc="-1" strike="noStrike">
                <a:solidFill>
                  <a:srgbClr val="002060"/>
                </a:solidFill>
                <a:latin typeface="Arial"/>
              </a:rPr>
              <a:t>é feito nas feridas com supuração ou em vias de se infectar. Consiste na instilação duma solução em jacto contínuo ou intermitente, por meio de seringa ou bomba infusora, com a finalidade d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1818ff"/>
                </a:solidFill>
                <a:latin typeface="Arial"/>
              </a:rPr>
              <a:t>Libertar a ferida de pús ou de bactéri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1818ff"/>
                </a:solidFill>
                <a:latin typeface="Arial"/>
              </a:rPr>
              <a:t>Estimular a granulação dos tecidos e acelerar a cicatriz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ipos de Pen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052280"/>
            <a:ext cx="83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1818ff"/>
                </a:solidFill>
                <a:latin typeface="Arial"/>
              </a:rPr>
              <a:t>Penso asséptico: </a:t>
            </a: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é feito em feridas limpas com finalidade de protegê-las de infecções e promover a cicatrizaçã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1818ff"/>
                </a:solidFill>
                <a:latin typeface="Arial"/>
              </a:rPr>
              <a:t>Penso antisséptico: </a:t>
            </a: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feito em feridas infectadas, deixa-se um antisséptico (líquido ou pomada) para destruir os microrganismos existente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1818ff"/>
                </a:solidFill>
                <a:latin typeface="Arial"/>
              </a:rPr>
              <a:t>Penso compressivo: </a:t>
            </a: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tem a finalidade de estancar hemorragia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1818ff"/>
                </a:solidFill>
                <a:latin typeface="Arial"/>
              </a:rPr>
              <a:t>Penso Absorvente: </a:t>
            </a: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tem a finalidade de absorver exsudato ou produtos de drenagem (colostomia). É feito com compressas amachucadas, celulose ou algodão esterilizado para absorver a secreçã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1818ff"/>
                </a:solidFill>
                <a:latin typeface="Arial"/>
              </a:rPr>
              <a:t>Penso permeável ou poroso: </a:t>
            </a: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feita com 1 ou 2 compressas para permitir o arejamento da ferid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Footer Placeholder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7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7E76-5F66-4CD6-8328-E90CADC7B2B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042920" y="188640"/>
            <a:ext cx="7796160" cy="6264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0000"/>
                </a:solidFill>
                <a:latin typeface="Arial"/>
              </a:rPr>
              <a:t>Precauções na feitura do penso: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Utilizar técnica asséptica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Informar o médico em caso de: infecção local, </a:t>
            </a: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 deiscência de bordos; necrose e  exsudado.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Manter a ferida e pele circundante sempre limpa e seca, evitando molhar o penso durante a higiene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Os pensos repassados ou molhados devem ser executados imediatamente, excepto se indicação em contrário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Nos pensos de safenectomia colocar ligaduras elásticas de </a:t>
            </a: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contenção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Utilizar adesivos esterilizados, no contacto directo com a ferida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Providenciar uma boa nutrição para facilitar o processo de cicatrização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Os adesivos devem ser colocados sem tensão e do centro para as </a:t>
            </a: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extremidades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4D02-64F7-4AAA-B467-5B034853954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042560" y="189000"/>
            <a:ext cx="7921800" cy="6192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0000"/>
                </a:solidFill>
                <a:latin typeface="Arial"/>
              </a:rPr>
              <a:t>Precauções na feitura do penso: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Se a ferida tiver drenos, colocar penso poroso e reforçar com compressas esterilizadas no local de implantação dos drenos. Fixar drenos sem dobras ou ansas, permitindo a mobilidade do doente;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Se a ferida tem exsudado abundante, colocar compressas secas antes de aplicar o penso;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Evitar contaminar a ferida aberta ou sem protecção, colocando máscara quando indicado;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Evitar procedimentos que dificultem a circulação sanguínea no local da ferida;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Limitar a circulação de pessoas no local onde se está a executar o penso;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Executar no mesmo doente os pensos de feridas limpas, em primeiro lugar, evitando o contacto com feridas infectadas;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Executar os pensos de feridas infectadas na unidade do doente; </a:t>
            </a:r>
            <a:r>
              <a:rPr b="1" lang="pt-BR" sz="1600" spc="-1" strike="noStrike">
                <a:solidFill>
                  <a:srgbClr val="1818ff"/>
                </a:solidFill>
                <a:latin typeface="Arial"/>
              </a:rPr>
              <a:t>(usar sala de pensos para feridas infectadas/ usar a sala de penso apos a realizacao de pensos de feridas nao infectadas/na unidade do paciente se nao existirem outras alternativas)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BA1B-F68F-464D-8364-5F032CBCB86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Feitura de Penso – Prática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341000"/>
            <a:ext cx="4114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Tabuleiro com: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Tabuleiro de penso simples ou composto de uso único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Soluto desinfectante (solução iodopovidona ou clorohexidina)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Cloreto de sódio a 0,9% (ampola)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Resguardo absorvente e impermeável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Recipiente para cortantes e perfurantes.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00360" y="1341000"/>
            <a:ext cx="43383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Material  Esteril e EPI: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Compressas esterilizadas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Saco de plástico branco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Lâmina de bisturi;</a:t>
            </a: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Máscara cirúrgica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Luvas de procedimento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Luvas esterilizadas (2 pares)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Ligaduras elásticas de contenção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Tiras adesivas cutâneas esterilizadas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Adesivo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A7B1-51A9-4E07-9C91-F9EC8ADC4BF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611280" y="907920"/>
            <a:ext cx="49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Material e EP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Feitura de Penso – Prática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3640" y="1052280"/>
            <a:ext cx="8569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Identificar o doente </a:t>
            </a:r>
            <a:r>
              <a:rPr b="1" lang="pt-PT" sz="2200" spc="-1" strike="noStrike">
                <a:solidFill>
                  <a:srgbClr val="1818ff"/>
                </a:solidFill>
                <a:latin typeface="Arial"/>
              </a:rPr>
              <a:t>e prepara-lo psicologicamente</a:t>
            </a: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Verificar plano de cuidado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Proceder à lavagem higiénica das mão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Preparar o material e transportá-lo para junto do doent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Explicar ao doente o procediment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1818ff"/>
                </a:solidFill>
                <a:latin typeface="Arial"/>
              </a:rPr>
              <a:t>Preparação do ambiente </a:t>
            </a: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(Isolar o doente, </a:t>
            </a:r>
            <a:r>
              <a:rPr b="1" lang="pt-PT" sz="2200" spc="-1" strike="noStrike">
                <a:solidFill>
                  <a:srgbClr val="1818ff"/>
                </a:solidFill>
                <a:latin typeface="Arial"/>
              </a:rPr>
              <a:t>fechar as janelas, desligar a ventoinha...</a:t>
            </a: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)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Posicionar correctamente o pacient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Colocar resguardo impermeável absorvent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Expor unicamente a região necessária à execução do pens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brir o tabuleiro de penso e colocar: Solutos; compressas e outro material necessário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5AD8-D09B-4B47-A662-BEA26920E67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Feitura de Penso – Prática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Retirar o penso com luvas limpas em caso de ferida contaminada, procedendo à remoção do penso da periferia para o centro, humedecendo com cloreto de sódio a 0,9% se este estiver aderent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Colocar o penso removido no </a:t>
            </a:r>
            <a:r>
              <a:rPr b="1" lang="pt-BR" sz="2200" spc="-1" strike="noStrike">
                <a:solidFill>
                  <a:srgbClr val="ff0000"/>
                </a:solidFill>
                <a:latin typeface="Arial"/>
              </a:rPr>
              <a:t>saco para sujos</a:t>
            </a:r>
            <a:r>
              <a:rPr b="1" lang="pt-BR" sz="2200" spc="-1" strike="noStrike">
                <a:solidFill>
                  <a:srgbClr val="1818ff"/>
                </a:solidFill>
                <a:latin typeface="Arial"/>
              </a:rPr>
              <a:t> no balde de lixo infeccioso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Proceder a lavagem higiénica das mãos após retirar o pens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Usar luvas esterilizadas em casos de: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Ferida aberta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Doente portador de doença transmissível por via hematogénica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Avaliar a ferida (recorrendo à visão, ao olfacto e ao tacto)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2E2C-4243-45DE-BAE5-A629659B37E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1818ff"/>
                </a:solidFill>
                <a:latin typeface="Arial"/>
              </a:rPr>
              <a:t>Após a discussão deste tema os alunos deverão ser capazes d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lassificar as feridas de acordo com: o grau de contaminação,  a evolução e o agente caus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racterizar os 3 tipos de cicatriza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dentificar os factores que influenciam a cicatriza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xecutar a técnica de feitura de penso, seleccionando o EPI e material necessár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fectuar os registos de enfermagem após a feitura de penso, incorporando os aspectos fundamentai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&amp;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Down Arrow 4"/>
          <p:cNvSpPr/>
          <p:nvPr/>
        </p:nvSpPr>
        <p:spPr>
          <a:xfrm>
            <a:off x="3962520" y="198108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Feitura de Penso – Prática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Desinfectar e executar penso de acordo com prescrição médica e/ou protocolo de serviço. Com cada compressa, limpar de cima para baixo e, do centro para a periferia </a:t>
            </a:r>
            <a:r>
              <a:rPr b="1" lang="pt-BR" sz="2200" spc="-1" strike="noStrike">
                <a:solidFill>
                  <a:srgbClr val="1818ff"/>
                </a:solidFill>
                <a:latin typeface="Arial"/>
              </a:rPr>
              <a:t>na ferida limpa e da perferia para o centro na infectada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, com uma simples passagem. Substituir a compressa após cada passagem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plicar pomada, se prescrit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818ff"/>
                </a:solidFill>
                <a:latin typeface="Arial"/>
              </a:rPr>
              <a:t>Utilizar compressas </a:t>
            </a:r>
            <a:r>
              <a:rPr b="1" lang="pt-BR" sz="2200" spc="-1" strike="noStrike">
                <a:solidFill>
                  <a:srgbClr val="ff0000"/>
                </a:solidFill>
                <a:latin typeface="Arial"/>
              </a:rPr>
              <a:t>Aplicar penso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 esterilizadas. Colocar uma compressa pequena directamente sobre a ferida. Uma vez colocada não a reposicionar. Cobrir com uma compressa maior, se necessári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Fixar o penso com adesivo ou ligadura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Reposicionar o doent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31D5-EC0D-4BDD-90E3-4F0DC67B87A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Feitura de Penso – Prática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3640" y="1143000"/>
            <a:ext cx="8515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Recolher e dar o destino adequado ao material e equipament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Proceder </a:t>
            </a:r>
            <a:r>
              <a:rPr b="1" lang="pt-BR" sz="2400" spc="-1" strike="noStrike">
                <a:solidFill>
                  <a:srgbClr val="1818ff"/>
                </a:solidFill>
                <a:latin typeface="Arial"/>
              </a:rPr>
              <a:t>a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 lavagem higiénica das mã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Proceder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os respectivos registos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gistos de Enfermagem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Procedimento (data e hora)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Reacção do doente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Tipo e características da ferida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Líquidos drenados e suas características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Avaliação / evolução da cicatrização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Actualização do plano de cuidados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467F-8C93-48E1-B99D-ED490CB3375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IRCUNCIS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ircuncisao: e a excisao do prepucio da glande do pen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Indicacoe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Geralmente e realizada no latente com objectivos de higiene. Em adultos e indicada na fimose, parafimose, infeccoes recorrentes da glande e do prepucio e por desejo pessoal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660E-17B3-46DF-BD7E-226ADB29351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NA CIRCUNCIS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1818ff"/>
                </a:solidFill>
                <a:latin typeface="Arial"/>
              </a:rPr>
              <a:t>Fazer o penso com gaze vaselinada, se necessari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1818ff"/>
                </a:solidFill>
                <a:latin typeface="Arial"/>
              </a:rPr>
              <a:t>Observar o sangrament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1818ff"/>
                </a:solidFill>
                <a:latin typeface="Arial"/>
              </a:rPr>
              <a:t>Observar se apresenta dor considerave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1818ff"/>
                </a:solidFill>
                <a:latin typeface="Arial"/>
              </a:rPr>
              <a:t>Administrar analgesico S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1C69-7B8B-4009-AE8F-058E252491A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Ferid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981000"/>
            <a:ext cx="5699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Definição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Ferida é toda e qualquer solução de continuidade (perda) de tecido ou órgão, podendo atingir desde a epiderme, músculos e órgãos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Causas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Traumas: ferida por faca 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Cirurgias: ferida resultante de uma intervenção cirúrgica (cesariana)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Isquemia: úlcera da pern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ressão: úlceras de decúbito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1B87-323C-4C93-A6DD-934FBF06931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http://t2.gstatic.com/images?q=tbn:ANd9GcSm2UrxUWghG19hVWpNW_-1XjfI9OgaKzo8spHNGZReOxxXnZ-R&amp;t=1"/>
          <p:cNvPicPr/>
          <p:nvPr/>
        </p:nvPicPr>
        <p:blipFill>
          <a:blip r:embed="rId1"/>
          <a:stretch/>
        </p:blipFill>
        <p:spPr>
          <a:xfrm>
            <a:off x="6227640" y="1076400"/>
            <a:ext cx="2521080" cy="1888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http://www.hemoglobinopatias.com.br/d-falciforme/img41.jpg"/>
          <p:cNvPicPr/>
          <p:nvPr/>
        </p:nvPicPr>
        <p:blipFill>
          <a:blip r:embed="rId2"/>
          <a:stretch/>
        </p:blipFill>
        <p:spPr>
          <a:xfrm>
            <a:off x="6227640" y="2997360"/>
            <a:ext cx="2521080" cy="1655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http://t0.gstatic.com/images?q=tbn:ANd9GcQ9U4D-W3i_tGHB9TI7iHVOGNURfGzrFTCt6XFVu3-0nxbgtf968w&amp;t=1"/>
          <p:cNvPicPr/>
          <p:nvPr/>
        </p:nvPicPr>
        <p:blipFill>
          <a:blip r:embed="rId3"/>
          <a:srcRect l="0" t="0" r="0" b="10756"/>
          <a:stretch/>
        </p:blipFill>
        <p:spPr>
          <a:xfrm>
            <a:off x="6227640" y="4724280"/>
            <a:ext cx="25210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lassificação de Ferida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981000"/>
            <a:ext cx="8381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Quanto a evoluçã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3B48-A4B8-4010-9EB4-78A8E90F965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http://1.bp.blogspot.com/_1Yh7-XkIOg0/SstMOdEOMzI/AAAAAAAAAIU/WYAmQqSevio/s320/feridas_e_curativos_html_198764ad%5B1%5D.png"/>
          <p:cNvPicPr/>
          <p:nvPr/>
        </p:nvPicPr>
        <p:blipFill>
          <a:blip r:embed="rId1"/>
          <a:stretch/>
        </p:blipFill>
        <p:spPr>
          <a:xfrm>
            <a:off x="684360" y="1623960"/>
            <a:ext cx="3000240" cy="225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http://www.angionet.med.br/media/DIR_123/ulcera$20venosa.JPG"/>
          <p:cNvPicPr/>
          <p:nvPr/>
        </p:nvPicPr>
        <p:blipFill>
          <a:blip r:embed="rId2"/>
          <a:stretch/>
        </p:blipFill>
        <p:spPr>
          <a:xfrm>
            <a:off x="5651640" y="400536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3419640" y="1623960"/>
            <a:ext cx="53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818ff"/>
                </a:solidFill>
                <a:latin typeface="Arial"/>
                <a:ea typeface="Arial"/>
              </a:rPr>
              <a:t>Feridas Agudas: </a:t>
            </a:r>
            <a:r>
              <a:rPr b="1" lang="pt-PT" sz="2400" spc="-1" strike="noStrike">
                <a:solidFill>
                  <a:srgbClr val="002060"/>
                </a:solidFill>
                <a:latin typeface="Arial"/>
                <a:ea typeface="Arial"/>
              </a:rPr>
              <a:t>cumpre um processo de reparação tecidual ordenado e adequado, que resulta na reparação sustentada da integridade anatómica e fun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324000" y="4226040"/>
            <a:ext cx="504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818ff"/>
                </a:solidFill>
                <a:latin typeface="Arial"/>
                <a:ea typeface="Arial"/>
              </a:rPr>
              <a:t>Feridas Crónicas: </a:t>
            </a:r>
            <a:r>
              <a:rPr b="1" lang="pt-PT" sz="2400" spc="-1" strike="noStrike">
                <a:solidFill>
                  <a:srgbClr val="002060"/>
                </a:solidFill>
                <a:latin typeface="Arial"/>
                <a:ea typeface="Arial"/>
              </a:rPr>
              <a:t>não cumprem o processo de reparação tecidual ordenado e adequado para promover a integridade anatómica e fun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lassificação de Feridas (cont.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052280"/>
            <a:ext cx="83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Quanto ao grau de contaminaçã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1818ff"/>
                </a:solidFill>
                <a:latin typeface="Arial"/>
              </a:rPr>
              <a:t>Ferida Limpa: </a:t>
            </a:r>
            <a:r>
              <a:rPr b="1" lang="pt-PT" sz="2300" spc="-1" strike="noStrike">
                <a:solidFill>
                  <a:srgbClr val="ff0000"/>
                </a:solidFill>
                <a:latin typeface="Arial"/>
              </a:rPr>
              <a:t>não </a:t>
            </a:r>
            <a:r>
              <a:rPr b="1" lang="pt-PT" sz="2300" spc="-1" strike="noStrike">
                <a:solidFill>
                  <a:srgbClr val="1818ff"/>
                </a:solidFill>
                <a:latin typeface="Arial"/>
              </a:rPr>
              <a:t>e aquela que 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contém  um baixo teor de micro-organismos patogénicos </a:t>
            </a:r>
            <a:r>
              <a:rPr b="1" lang="pt-PT" sz="2300" spc="-1" strike="noStrike">
                <a:solidFill>
                  <a:srgbClr val="1818ff"/>
                </a:solidFill>
                <a:latin typeface="Arial"/>
              </a:rPr>
              <a:t>e existe um baixo risco de infecçã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1818ff"/>
                </a:solidFill>
                <a:latin typeface="Arial"/>
              </a:rPr>
              <a:t>Ferida Limpa-contaminada: 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ocorre em condições assépticas mas envolve cavidades do corpo que normalmente abriga microrganismo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1818ff"/>
                </a:solidFill>
                <a:latin typeface="Arial"/>
              </a:rPr>
              <a:t>Ferida Contaminada: 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surge sob condições prováveis de presença de microrganismos. Ex: feridas traumáticas, acidentais, ..Existe alto risco de infecçã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1818ff"/>
                </a:solidFill>
                <a:latin typeface="Arial"/>
              </a:rPr>
              <a:t>Ferida Infectadas: 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apresenta sinais de infecção (inflamação, drenagem purulenta, separação da pele)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6F03-6748-4A83-8C46-33E6BF62E1A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lassificação de Feridas (cont.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980640"/>
            <a:ext cx="5699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Quanto ao agente causal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1818ff"/>
                </a:solidFill>
                <a:latin typeface="Arial"/>
              </a:rPr>
              <a:t>Ferida Incisa ou Cortante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são provocadas por agentes cortantes, como faca, bisturi, lâminas, caracteriza-se por ter: bordos regulares e nítidos, geralmente retilíneas, com profundidade igual de um extremo à outro da lesão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1818ff"/>
                </a:solidFill>
                <a:latin typeface="Arial"/>
              </a:rPr>
              <a:t>Ferida Corto-contusa: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o agente não tem corte tão acentuado, sendo que a força do traumatismo é que causa a penetração do instrumento, tendo como exemplo o machado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22CD-5452-4864-A095-4E11658ED3E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http://www.unimes.br/aulas/MEDICINA/Aulas2005/1ano/Procedimentos_basicos_em_medicina/images/feridas_e_curativos_html_198764ad.png"/>
          <p:cNvPicPr/>
          <p:nvPr/>
        </p:nvPicPr>
        <p:blipFill>
          <a:blip r:embed="rId1"/>
          <a:srcRect l="17897" t="0" r="3839" b="0"/>
          <a:stretch/>
        </p:blipFill>
        <p:spPr>
          <a:xfrm>
            <a:off x="6227640" y="1593720"/>
            <a:ext cx="2521080" cy="2411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http://www.unimes.br/aulas/MEDICINA/Aulas2005/1ano/Procedimentos_basicos_em_medicina/images/feridas_e_curativos_html_1d08f392.jpg"/>
          <p:cNvPicPr/>
          <p:nvPr/>
        </p:nvPicPr>
        <p:blipFill>
          <a:blip r:embed="rId2"/>
          <a:srcRect l="13636" t="0" r="4656" b="0"/>
          <a:stretch/>
        </p:blipFill>
        <p:spPr>
          <a:xfrm>
            <a:off x="6227640" y="4508640"/>
            <a:ext cx="252108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lassificação de Feridas (cont.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980640"/>
            <a:ext cx="5986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Quanto ao agente causal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1818ff"/>
                </a:solidFill>
                <a:latin typeface="Arial"/>
              </a:rPr>
              <a:t>Feridas Perfurantes: </a:t>
            </a: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são ocasionadas por agentes longos e pontiagudos como prego, alfinete. Pode ser transfixante quando atravessa um órgão, estando sua gravidade na importância deste órgão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1818ff"/>
                </a:solidFill>
                <a:latin typeface="Arial"/>
              </a:rPr>
              <a:t>Pérfuro-contusas: </a:t>
            </a: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são as ocasionadas por arma de fogo, podendo existir dois orifícios, o de entrada e o de saída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1818ff"/>
                </a:solidFill>
                <a:latin typeface="Arial"/>
              </a:rPr>
              <a:t>Ferida Lácero-contusas: </a:t>
            </a: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resulta de compressão ou tracção. As bordos são irregulares, com mais de um ângulo. Exemplo clássico as mordidas de cão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C242-FC55-4B74-9DB7-0679F3FB63F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http://www.unimes.br/aulas/MEDICINA/Aulas2005/1ano/Procedimentos_basicos_em_medicina/images/feridas_e_curativos_html_m3c947762.jpg"/>
          <p:cNvPicPr/>
          <p:nvPr/>
        </p:nvPicPr>
        <p:blipFill>
          <a:blip r:embed="rId1"/>
          <a:srcRect l="0" t="0" r="0" b="9557"/>
          <a:stretch/>
        </p:blipFill>
        <p:spPr>
          <a:xfrm>
            <a:off x="6572160" y="1349280"/>
            <a:ext cx="2176560" cy="3087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http://3.bp.blogspot.com/_CSvnSG-9TTg/SYXalQg2NqI/AAAAAAAABBk/Rycna_fWL2M/s400/blog+007.jpg"/>
          <p:cNvPicPr/>
          <p:nvPr/>
        </p:nvPicPr>
        <p:blipFill>
          <a:blip r:embed="rId2"/>
          <a:stretch/>
        </p:blipFill>
        <p:spPr>
          <a:xfrm>
            <a:off x="6564240" y="4599000"/>
            <a:ext cx="21844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lassificação de Feridas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23640" y="980640"/>
            <a:ext cx="6119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Quanto ao agente causal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1818ff"/>
                </a:solidFill>
                <a:latin typeface="Arial"/>
              </a:rPr>
              <a:t>Ferida Perfuro-incisas: </a:t>
            </a: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são provocadas por instrumentos pérfuro-cortantes que possuem gume e ponta, por exemplo um punhal. Pode lesar órgãos internos importantes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1818ff"/>
                </a:solidFill>
                <a:latin typeface="Arial"/>
              </a:rPr>
              <a:t>Escoriações: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São caracterizadas pela retirada de células da epiderme por causa da ação de fricção ou esmagamento de instrumento mecânico</a:t>
            </a: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1818ff"/>
                </a:solidFill>
                <a:latin typeface="Arial"/>
              </a:rPr>
              <a:t>Equimoses e hematomas: </a:t>
            </a: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na equimose há rompimento dos capilares, porém sem perda da continuidade da pele, sendo que no hematoma, o sangue extravasado forma uma cavidade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08CC-B670-4A20-8418-E33E1698714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http://www.unimes.br/aulas/MEDICINA/Aulas2005/1ano/Procedimentos_basicos_em_medicina/images/feridas_e_curativos_html_m7cd248fb.jpg"/>
          <p:cNvPicPr/>
          <p:nvPr/>
        </p:nvPicPr>
        <p:blipFill>
          <a:blip r:embed="rId1"/>
          <a:stretch/>
        </p:blipFill>
        <p:spPr>
          <a:xfrm>
            <a:off x="6529320" y="1413000"/>
            <a:ext cx="2435400" cy="1630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http://ego.globo.com/Entretenimento/Ego/foto/0,,12032993,00.jpg"/>
          <p:cNvPicPr/>
          <p:nvPr/>
        </p:nvPicPr>
        <p:blipFill>
          <a:blip r:embed="rId2"/>
          <a:srcRect l="0" t="28647" r="38910" b="14087"/>
          <a:stretch/>
        </p:blipFill>
        <p:spPr>
          <a:xfrm>
            <a:off x="6516720" y="3068640"/>
            <a:ext cx="2448000" cy="1530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http://4.bp.blogspot.com/-vozG0Tnt3M8/TVggjc5bTbI/AAAAAAAAATI/gfh1h9Rqc8s/s1600/hematoma.jpg"/>
          <p:cNvPicPr/>
          <p:nvPr/>
        </p:nvPicPr>
        <p:blipFill>
          <a:blip r:embed="rId3"/>
          <a:stretch/>
        </p:blipFill>
        <p:spPr>
          <a:xfrm>
            <a:off x="6516720" y="4653000"/>
            <a:ext cx="244800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lassificação de Feridas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Quanto a solução de continuidad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272E-99D4-4BD3-8B95-38CC55E0175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02:19:43Z</dcterms:created>
  <dc:creator>Hamido</dc:creator>
  <dc:description/>
  <dc:language>en-US</dc:language>
  <cp:lastModifiedBy>Maputo</cp:lastModifiedBy>
  <dcterms:modified xsi:type="dcterms:W3CDTF">2011-10-11T13:38:43Z</dcterms:modified>
  <cp:revision>22</cp:revision>
  <dc:subject/>
  <dc:title>TRATAMENTO DE FERIDA</dc:title>
</cp:coreProperties>
</file>