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4BD7-0FCF-416F-A8B0-3E8507D60F3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569A-C3CF-40CB-AA7E-068E4F9A5CC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F8EA-0158-4C2E-AA19-ED42F9229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A756-F21D-4AE6-B0C9-4BFE5BDF4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E740-621A-48CB-AE79-858E1748B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23B4-2AE8-4E90-A7E7-3BF2A42B8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7BFE-D044-478B-A948-C86CE1E4A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C47A-717E-4ECE-875B-6F128C379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A4F9-11AE-4B5C-A999-1A0678C9C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E7EF-4AA1-4866-B21D-2E9D6C676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338F-90F6-4128-9CB2-672E2AC78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6AA2-9A3F-4DFF-8D95-A5409D0C1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2D0E-6FC2-48FB-A171-BF7FD9AF2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C48B-9B52-4F67-BF75-22B8B4E7D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007-8834-40BD-A160-D6FC098A5D3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agnosticoenfer.hdfree.com.br/DIAGNOSTICOS%20DE%20ENFERMAGEM/Sindrome/SINDROME%20DO%20%20DESUSO.htm" TargetMode="External"/><Relationship Id="rId2" Type="http://schemas.openxmlformats.org/officeDocument/2006/relationships/hyperlink" Target="http://diagnosticoenfer.hdfree.com.br/DIAGNOSTICOS%20DE%20ENFERMAGEM/Sindrome/SINDROME%20DO%20DEFICIT%20NO%20AUTOCUIDADO.htm" TargetMode="External"/><Relationship Id="rId3" Type="http://schemas.openxmlformats.org/officeDocument/2006/relationships/hyperlink" Target="http://diagnosticoenfer.hdfree.com.br/DIAGNOSTICOS%20DE%20ENFERMAGEM/Risco/RISCO%20PARA%20LESAO.htm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5560&amp;ST=SE&amp;franq=1364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ODULO 9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ÁTICAS DE ENFERMAGEM II: ENFERMAGEM MÉDICO-CIRÚRG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UIDADOS DE ENFERMAGEM AO DOENTE COM ALTERACÇÕES NEUROLÓGICAS E MOTOR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o Equilíbrio Hídrico e Controlando as Necessidade Nutricion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stado de hidratação é avaliado examinando-se o turgor tecidual e as membranas mucosa, avaliando-se as tendências de ingestão e excreção e analisando-se os dados laboratoriai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o cuidado da bo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oca é inspeccionada quanto a ressecamento, inflamação e formação de crostas. Os pacientes inconscientes precisam de um cuidado oral consciencioso, porque há um risco de parotidite se a boca não mantida bem limp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117-36C8-42E9-91E0-F5FE4C3FFF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integridade da pele e das Articulaçõ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a ruptura da pele exige avaliações contínuas da Enfermagem. Dá-se uma atenção especial aos pacientes inconscientes, porque eles não podem responder a estímulos externos. Uma prescrição inclui virar o paciente a intervalos regulares para evitar a pressão, que pode causar a ruptura e a necros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ervar a Integridade da Córn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acientes inconscientes ficam com os olhos abertos e têm reflexos córneos inadequados ou ausentes. A córnea pode ficar irritada, ressecada ou arranhada, ocasionando ulcer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0EFA-F980-46BF-87C6-E53743158F0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Temperatura Corpor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febre alta num paciente inconsciente pode ser causada por uma infecção de trato respiratório ou urinário, reacções de drogas ou uma lesão de centro hipotalâmicos para a regulação da temperatura. Uma ligeira elevação de temperatura pode ser causada pela desidrat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vitar a retenção Urinar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com alteração do nível de consciência com frequência apresenta incontinência ou tem retenção urinár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FAA9-FFB1-48B8-83E2-97BE1834303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exiga é palpada ou examinada periodicamente por técnicas de aquisição de imagens para determinar se está presente a retenção urinária, porque uma bexiga cheia pode ser uma causa não - percebida de incontinência por transbord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mover o Funcionamento Intestin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dómen é avaliado quanto à distensão auscultando-se os sons intestinais e medindo-se as circunferências do abdómen com uma fita métrica. Há risco de diarreia por infecção, uso de antibióticos e líquidos hiperosmol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3098-3964-4472-A998-5A48DE0CC18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Estimulação Sensor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toca o paciente e fala com ele encorajando familiares e amigos do paciente a fazer o mesmo. A comunicação é extremamente importante e inclui tocar o paciente e passar tempo suficiente com ele para ficar sensível a sua necess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nder às Necessidades da Famíl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amília do paciente com alteração de nível de consciência pode ser lançada num súbito estado de crise e passar pelo processo de ansiedade grave, negação, raiva, remorso, tristeza e reconcili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CA73-6A04-4724-9842-D40B1664051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nitorar e Tratar as Complicações Potenci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neumonia, aspiração e insuficiência respiratória são complicações potenciais em qualquer paciente que tenha um rebaixamento do nível de consciência e que não possa proteger suas vias aéreas ou de virar tossir e respirar fundo. Quanto maior for a duração do período de inconsciência, maior o risco de complicações pulmon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BF67-0952-4CF7-8ADA-E2E9259B117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VULSÕ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vuls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s convulsões são episódios de actividades motora, sensorial, autonómica ou psíquica anormal (ou uma combinação destas), que decorrem de uma descarga súbita e excessiva de neurónios cerebrais (Hickey) parte do cérebro ou todo ele pode ser envolvi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lassificação internacional de crises convulsivas diferencia dois tipos princip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parciais, que se iniciam numa parte de cérebr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generalizadas, que envolvem descargas eléctricas no cérebro in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EB9-032F-4911-9939-814D4DC9BA5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1143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uma crise parcial simpl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onsciência permanece intacta, enquanto, numa crise parcial complexa, a consciência se altera. As crises não classificadas são designadas desse modo devido a dados incomple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ausa subjac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distúrbio eléctrico (disritmia) nas células nervosas numa região do cérebro; essas células emitem descargas eléctricas anormais, recorrentes e não controlada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BF42-DA95-40CB-A6C7-6F1D0EEC99E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rise convulsiva típi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manifestação dessa descarga neuronal excessiva. Pode haver também uma perda de consciência associada, movimento excessivo, ou perda do tonus muscular ou do movimento e distúrbios do comportamento, humor, sensação e percep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45D8-A2B2-44A5-B49B-BA1A3EFA64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ausas específicas das crises convulsivas são variad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 podem ser classificadas como idiopáticas (defei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néticos, defeitos do desenvolvimento) e adquirid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s convulsões adquiridas inclu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Vasculares Cereb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xémia por qualquer causa, incluindo insuficiência vascu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bre (na infânci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Crânio-encéfalo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3691-65D2-46CB-8124-011C4272D88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A80-87F6-4593-8A17-208B8BDABE0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819160"/>
            <a:ext cx="83055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estado de inconsciência usando a escala de coma de Glasgow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inconsciente, prevenindo as complicações decorrentes do estado clínico do ut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7DE2-6C20-4A34-AFD5-8C7E9C4036EE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A699-DF59-4BF0-8D7B-530A811939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erten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cção do Sistema Nervoso Cent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ões metabólicas e tóxicas (Ex: Insuficiência renal, hiponatrémia; hipoglicémia, insectici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cereb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a droga e álcoo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erg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33520" y="1523880"/>
          <a:ext cx="8381880" cy="4800600"/>
        </p:xfrm>
        <a:graphic>
          <a:graphicData uri="http://schemas.openxmlformats.org/drawingml/2006/table">
            <a:tbl>
              <a:tblPr/>
              <a:tblGrid>
                <a:gridCol w="3276360"/>
                <a:gridCol w="51055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08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imples (com sintomas elementares, geralmente se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mo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sensoriais especiais ou somat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utonóm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1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parciais complexas (com sintomas complexos, geralmente co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alteração de consciência tão-so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cogni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fe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motores (automatis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7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CBDB-8932-4208-AF9F-FD40EC676ED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53352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LASSIFICAÇÃO INTERNACIONAL DAS CRISES CONVUL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3520" y="990720"/>
          <a:ext cx="8305560" cy="3627360"/>
        </p:xfrm>
        <a:graphic>
          <a:graphicData uri="http://schemas.openxmlformats.org/drawingml/2006/table">
            <a:tbl>
              <a:tblPr/>
              <a:tblGrid>
                <a:gridCol w="3352680"/>
                <a:gridCol w="49528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16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ecundariamente generaliz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GENERALIZADAS (CONVULSIVAS OU NÃO-CONVULSIVAS, BILATERALMENTE SIMÉTRICAS SEM INICIO LOCALIZAD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 tónica - clônic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clô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de ausência (pequeno m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a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mioclônicas (epilépticas bilateralmente maciça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não-classific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7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0295-B0E8-49B1-B49F-72EFC3CD1D3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e proteger o paciente dos curiosos (o paciente que tiver uma aura- aviso de uma convulsão importante-pode ter de procurar um lugar seguro e com privacidade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paciente no chão, se possí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a cabeça com uma almofada para evitar uma lesão (por bater uma superfície dur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8558-1081-49C1-8C58-37716A77FFD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3160" y="11426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purrar para longe quaisquer móveis que possam lesar o paciente durante a convul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estiver na cama, remover travesseiro e elevar ao gradis late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uma aura preceder a crise, inserir uma vis aérea oral para reduzir a possibilidade de o paciente morder a língua ou a bochech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90F-293D-4F96-8256-BA18510321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entar abrir a boca que está cerrada nem inserir objectos. Dentes quebrados e lesão dos lábios e da língua podem ocorrer em consequência dessa a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deve fazer nenhuma tentativa de conter o paciente durante a crise, porque as contracções musculares são fortes e a contracção pode produzir les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A4B5-739F-4A8D-AD69-04D36DEAA2E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pois da Cr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o paciente deitado de lado para evitar a broncoaspiração. Certificar-se que a via aérea está permeá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geralmente um período de confusão mental após uma crise de grande m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 curto período de apneia pode ocorrer durante uma crise generalizada ou imediatamente após a mes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o despertar, o paciente deve se reorientado quanto ao ambiente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1311-F2C9-4D67-9BC5-74F4B7FC434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ficar agitado após uma crise (período pos-ictal), usar persuasão tranquila e uma concentração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7FD1-9CCC-48C6-85E1-813E6529A0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epois da C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533520" y="19810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turbações do son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São alterações na conciliação do sono ou durante o mesmo, ou então alterações relativas à duração do sono, ou a comportamentos anormais associados ao sono, como o terror nocturno e o sonambuli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lgo necessário para sobreviver e gozar de boa saúde, mas ainda não se sabe porque se necessita do sono nem exactamente como nos benefi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95E-FB54-44E0-B0B5-4316E0ABE1D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necessidades individuais de sono variam amplamente 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s adultos saudáveis vão de apenas 4 horas diárias 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o até 9 hor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pessoas dormem de noite, embora muitas 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çam durante o dia devido aos seus horários de trabalh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que muitas vezes provoca perturbações do son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18AC-D9E8-4FED-B639-1C843FA3A1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0A0-2C39-483E-B07D-93C8A0C3D75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utente em estado convulsivo de forma a prestar medidas de enfermagem prevenindo as complica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a importância dos cuidados de enfermagem no utente com mobilidade física prejudicad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com mobilidade física prejudic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itos factores, como a excitação ou o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ocional, podem determinar as horas de sono de uma pessoa e a forma como se sente ao despert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s medicamentos podem também desempenhar u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pel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roduzem sonolência enquanto outros dificultam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clusive certos alimentos ou aditivos, como a cafeína, as especiarias fortes e o glutamato monos sódico, podem afectar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E97-7DEF-4790-924D-2868D0CBFEF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són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a dificuldade em conciliar o sono ou permanecer adormecido, ou uma alteração no padrão do sono que, ao despertar, leva à percepção de que o sono foi insuficiente. A insónia não é uma doença, mas um sintoma. Pode ser consequência de diversas perturbações emocionais e físicas e do uso de medicamen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ED8D-ED9E-4E12-A3B1-1250043750E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6840" y="11430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ficuldade em conciliar o sono é frequente entre jovens e idosos e muitas vezes manifesta-se no decurso de alterações emocionais, como a ansiedade, o nervosismo, a depressão ou o temor. Há mesmo pessoas que têm dificuldade em conciliar o sono simplesmente porque não experimentam cansaço, nem físico nem men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D2AE-7000-4300-AE75-4F8DFDD8E68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persónia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aumento das horas absolutas de sono, aproximadamente em 25 % mais do que padrão normal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seja menos frequente que a insónia, a hipersónia é um sintoma que muitas vezes indica a possibilidade de uma doença grave. As pessoas saudáveis podem experimentar uma hipersónia temporária durante algumas noites ou dias como consequência de um período de privação de sono continuado ou devido a um esforço físico pouco habitu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54BC-38B4-4ECC-925F-4AE6E3D6522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160" y="9903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arcoleps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alteração pouco frequente do sono, que se caracteriza por crises recidivantes de sono durante as horas normais de vigília e também de cataplexia, paralisia do sono e alucin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, mas a perturbação costuma apresentar-se em pessoas com antecedentes familiares, o que sugere uma predisposição gené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a narcolepsia não tenha consequências graves para a saúde, pode produzir um sentimento de temor e aumentar o risco de acid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ED44-D1E9-454F-B650-7CBECD0B30C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neia durante o 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grupo de perturbações graves em que a respiração se suspende repetidamente durante o sono (apneia) um tempo suficientemente prolongado para provocar uma desoxigenação sanguínea e cerebral e aumentar a quantidade de anidrido carbó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obstrutiva deve-se a uma obstrução na garganta ou nas vias respiratórias sup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central é consequência de uma disfunção na zona do cérebro que controla a re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DD8-55C6-4B03-8DF9-54E4133AE70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ssóni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sonhos e actividades físicas particularmente vividas que se apresentam durante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índroma das pernas inquietas (acatisia)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perturbação bastante comum que costuma aparecer exactamente antes de adormecer, particularmente entre os maiores de 50 an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8D0-2C15-44CF-A7A2-D2A1132A204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tudo em situações de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as pessoas com acatisia experimentam um ligeiro mal-estar nas pernas, juntamente com movimentos espontâneos e incontroláveis das mesm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 desta perturbação, mas mais de Um terço dos afectados têm antecedentes familiares. Por Vezes, pode prevenir-se tomando benzodiazepinas antes de se deit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DDB-9E72-4450-B03A-BFFEE4010D7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errores nocturn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episódios de medo com gritos e agitação e muitas vezes são acompanhados de sonambulismo. Estes episódios costumam aparecer durante as fases não do ciclo do sono. Pode ser útil o tratamento com benzodiazepinas, como o diazepa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sadel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fectam crianças e adultos e são sonhos particularmente vividos e aterradores, seguidos de um despertar brusco. Os pesadelos verificam-se durante o sono e são mais frequentes em estados febris, situações de cansaço excessivo ou depois da ingestão de bebidas alcoólicas. Não existe um tratamento específico para corrigir a perturb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12D0-94F8-425B-BE63-458380C8319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ambulism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o acto de andar de forma semiconsciente durante o sono sem se aperceber disso e é mais frequente no final da infância e durante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essoas não sonham durante os estados de sonambulismo; de facto, a actividade cerebral nesse período, embora normal, parece-se mais com a de um indivíduo desperto do que com a de um estado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onâmbulos podem murmurar de forma repetida e alguns magoam-se ao tropeçar em obstáculos. Geralmente, a maioria não recorda o episó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0700-CB71-457F-9B2D-FBC848ADC41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LTERAÇÃO DA CONSCIÊNCIA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IT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a estímulos ambientais e perceber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in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menos a estímulos ambientais e perceber menos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m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estado de ausência de resposta não possível de activação no qual não há respostas intencionais e estímulos internos e externos, embora possam estar presentes respostas não-intencionais a estímulos dolorosos e reflexos do tronco cerebral. A duração do coma limita-se habitualmente a 2 a 4 seman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71E9-4A82-4B7F-BB13-DFABF8D3B8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bilidade Física Prejudicad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Estado em que um indivíduo apresenta, ou está em ris­co de apresentar, limitação do movimento físico, mas não está imó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descreve um indivíduo com o uso limitado do (s) braço (s) ou perna (s) ou com limitação da força muscula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AFE-63CB-4718-8609-5BAEB3A66DC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não deve ser usada para descrever a imobilidade completa; nesse caso, é mais aplicável a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índrome do Desu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limitação do movimento físico pode ser também a etiologia de outros diagnósticos de enfermagem, com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eficit no Autocuidad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ou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Risco para Le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301-79DD-488F-9712-5AB5B69B155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sus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ou está em risco de apresentar deterioração dos sistemas orgânicos ou de alteração no funcionamento, resultante de inactividade musculo esquelética prescrita ou inevitá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ificuldade no Autocuidado: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45E6-334E-478F-91A0-65B6E3C7C2A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 à diminuição da força e 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istência secundária 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neuromuscula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auto-imunes (ex: esclerose múltipla, artri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do sistema nervoso (ex: Parkinsonismo,  miastenia gravi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trofia muscul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lisia total ou parcial (ex: traumatismo  raquimedular, derram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CEA2-A3A7-47AF-B93B-88B56B21D39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no sistema nervoso cent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ssão intracraniana aument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ts sensori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músculo esquelé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ractu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 do tecido conectivo (lúpus eritematoso sistém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lacionados ao edema (líquido sinovial aument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485-4C3E-4A86-A13D-44B81D5775D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as lentes conectivas prescritas ou o aparelho audi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independência no vestir por meio da prática contínua e sem auxíl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roupas folgadas, com mangas e pernas largas e com fecho anterior. Permitir tempo suficiente para o vestir-se e o despir-se, pois a tarefa pode ser fatigante dolorosa ou difíc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846-8557-43D5-9CFD-2AE3A386B21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lanificar que a pessoa aprenda e demonstre uma parte da actividade antes de progredir para a segui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s roupas na ordem em que devem ser vesti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cuidados de vestir necessário (alguns comummente usados incluem os adesivos de velcro, o puxador de zipe, o gancho para o botões, a calçadeira com o cabo longo, os sapatos com elástico substituindo os cordões; todas as peças de vestuário podem ter o fechamento adaptado para o velcr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CCA-6A32-461E-8EE1-736A784FD0B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roupas comuns ou especiais em lugar de roupas de dorm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para a rotina de vesti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deficiência visu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 que a pessoa estabeleça o local mais conveniente para colocar as roupas e adaptar o ambiente para a melhor realização da tarefa (ex: remover as barreiras desnecessári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197B-93F0-44FA-A533-CAC3EB33A07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unciar-se verbalmente antes de entrar ou sair da área de vesti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uma rotina adequada para proporcionar um programa estruturado que diminua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s instruções simples e repeti-las frequentemente evitar 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troduzir um artigo de vestuário de cada v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6012-6626-456B-8094-04E2192A214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3160" y="9907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atenção para a tarefa; estar alerta quanto à fadiga, que pode aumentar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 a compreensão e o conhecimento do indivíduo e da família sob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 as instruções e a justificativa acim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membros amputados ou ausent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anho cedo pela manhã ou antes de deitar para evitar o vestir-se e despir-se des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D93F-C775-4891-8565-A3432095DB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574640"/>
          <a:ext cx="8153640" cy="4597560"/>
        </p:xfrm>
        <a:graphic>
          <a:graphicData uri="http://schemas.openxmlformats.org/drawingml/2006/table">
            <a:tbl>
              <a:tblPr/>
              <a:tblGrid>
                <a:gridCol w="2590920"/>
                <a:gridCol w="2844720"/>
                <a:gridCol w="271800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Â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PO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NTU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sposta de abertura dos ol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pontân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ver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rien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f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lavras inadequ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ons incompreens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FEB3-EB5D-4293-9769-9A428C754E9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09480" y="990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cala de Coma de Glasg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o espelho durante o banho para inspeccionar a pele das áreas paralis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submetida à amputação a inspeccionar o coto quanto à integridad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apenas a quantidade de supervisão ou de auxílio necessário para aprendizagem do uso da extremidade ou para a adaptação à defici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8C34-ECBA-4E59-A004-B15FFA808E8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ficiência no Autocuidad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ciência no Autocuidado Alimentaçã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habilidade prejudicada para realizar ou completar as actividades alimentares por si me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0BBB-F8CE-4901-82FB-4B132BB9AE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eriguar com a pessoa ou os membros da família que alimentos ela aprecia ou n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com que as refeições sejam feitas sempre no mesmo local: ambiente agradável, sem muit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temperatura correcta dos alimentos (os alimentos quentes, quentes e os ali­mentos frios, fri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26AB-88B4-4CE7-8483-C8BD844D043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alívio da dor, pois ela pode afitar o apetite e a habilidade de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a boa higiene oral antes e depois das refei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dentaduras e óc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 pessoa na posição mais normal para alimentar-se, de acordo com a sua in­capacidade (a melhor posição é a sentada na cadeira, à mes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contacto social durante a refe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8ADD-23F4-4982-AB58-FECA9978359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deficiência perceptiv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louças de cores diferentes para ajudar a distinção dos itens (ex: bandeja vermelha, pratos branc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s padrões habituais de alimentação da pessoa e proporcionar itens alimentares de acordo com a preferência (ou organizá-los no sentido do relóg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DC3-5AE2-4F16-A10A-CC52F5F3F1F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r no plano de cuidados a organização utilizada (ex: a carne na posição de 6 horas; as batatas, às 9 horas; os vegetais, às 12 hor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ingestão de alimentos com as mãos (ex: o pão, as frutas, salsichas) para proporcionar independ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BBA-B50E-45C8-B6BF-6D100874ED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reforçar a independência máxima, proporcionar os equipamentos adaptativos necessári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ato com bordas altas para evitar que o alimento caia para fo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ucção sob o prato ou a tigela para manter a estabil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bos forrados nos talheres para uma prensa mais fi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81FE-955F-494B-9923-6B4200D4A89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la no pulso e na mão, com um prendedor para fixar os talhe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especial para os líqu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ca arredondada para cort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xiliar a servir, se necessário, abrindo as embalagens, os guardanapos, os condimentos; cortando a carne; passando manteiga no p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30EB-6828-4F9C-87A7-7481814C2F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s pessoas com deficiência cogni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 ambiente isolado, quieto até que a pessoa seja capaz de alimentar-se sem distrair-se facilmente da taref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pessoa quanto à localização e à finalidade do equipamento para a alimentação Colocar a pessoa na posição mais normal que ela fisicamente é capaz de suportar, para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485-E90A-4B3F-B458-94D7DD4892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prestar atenção na tarefa, mas ficar alerta quanto à fadiga, frustração ou agitação. Para as pessoas com medo de envenenamento: permitir que ela abra os alimentos enlat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r primeiramente um bisco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as refeições em estil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, para garantir que tanto a pessoa quanto a família compreendam a razão e a finalidade de todas as interven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7589-3E8E-4DF1-BC7C-1EAC30BBDB8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1295280"/>
          <a:ext cx="8229600" cy="274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mo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bedece a coma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caliza a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trai-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ctr" pos="93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exão</a:t>
                      </a: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xten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122-E2B1-4BD2-92D0-9C0D61BD870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AE0-D5DC-4510-963B-EBE0EE8FB3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Tratado de Enfermagem Médico-Cirúrgica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Brunner &amp; Suddarth – Vol. 2 – Guanabara Koogan -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www.manualmerck.net/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B6C-B4C9-4FAD-AB38-0D452183D13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066320"/>
            <a:ext cx="807696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respostas do paciente são avaliadas numa escala de 3 a 15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3 indica uma alteração grave da função neurológ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15 indica que o paciente está respondendo plen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160" y="1294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sistência de Enfermagem num utente incons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s vias aér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À consideração mais importante de pacientes com alterações do nível de consciência e estabelecer uma via aérea adequada e assegurar a venti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teger o paci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 protecção do paciente, os gradis laterais são acolchoados, dois gradis são mantidos na posição levantada durante o dia e três à noite; entretanto, levantar todos os quatro gradis é considerado uma co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B2FA-2B5B-4149-83A6-E11068BC18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48E-9CBE-4492-A0E6-B2AD6BBA931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609480" y="99072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31:40Z</dcterms:modified>
  <cp:revision>753</cp:revision>
  <dc:subject/>
  <dc:title>ANATOMIA E FISIOLOGIA HUMANA</dc:title>
</cp:coreProperties>
</file>