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F23-84BA-4042-912D-BFC2BCE4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1B6E-C97B-4DAC-9D2C-6BF6C002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B4A7-67ED-4C8E-A826-C1F30E1B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D1E1-B283-4242-91D3-78223CFB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2FE6-6A95-4574-87A4-A9C300ACD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476C-08F6-4399-8787-7C1884CF5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CD0A-20B1-4C50-B17E-7E9F47AC7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8DDF-8591-435F-A2D2-AB47D659E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50B1-77D9-44B2-A78C-FB76F0FD2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D075-2954-4D06-AADF-E45EDF48D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6EFF-E5AD-4139-B4B4-D0DA1046F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164C-8F77-4D3C-9FE6-AF3B23E39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F9E5-BB7B-47C1-96C4-55784B6B8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1482-6EE8-481C-9416-3BA65D66B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17BA-A29B-4ECA-B61A-3F478FC6F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BA43-9FAC-47AF-BB54-CB6444009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6B1-BDB3-4035-AC36-7FF0AC92C5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1600200"/>
            <a:ext cx="6622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Código Civil normatiza que aquele que por ação ou omissão voluntária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erencia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ende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ntifica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ciona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cuta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sta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S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66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66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PAR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Taquicardia, Hipotensão, Sede,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6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sensação de toque ou dor. Não existe resposta capilar e por isso não há sinais de circulação de sangue através dos tecidos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9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Negligente, imprudente e imperici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u a não observância de determinados deveres por parte do médic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toxicacao exogena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24000" y="13413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DIGES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Vóm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Diarr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Hemorragias digestivas  - Acção directa do tó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3564000" y="1413000"/>
            <a:ext cx="489564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RESPIR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bstrução das via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Paralisia mus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Depressão do centro respir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Interferência com a hemoglobina e normal transporte de oxigé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Diminuição da pressã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 Edema pulmonar agudo – inalação de gases e aspiração de liq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95280" y="1773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RE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Oligú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Insuficiência renal ag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059280" y="177336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NEU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Pupila    midríase            Mi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250920" y="41497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CARDIOVA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A lesão do miocárdio por tóxicos é r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A taquicardia é um sinal freq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867280" y="1773360"/>
            <a:ext cx="302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HEMAT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Reacções hemolí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Anemia, Febre,  Vómitos / naúseas,  Dor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Discrasias sanguí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Agranuloci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  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Anemia, Leucopenia e Tromboci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Impirico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rejar o ambiente, ou transportar a vítima para um local com melhor ventilação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frouxar a roupa, para uma melhor circulação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ós esses procedimentos, pode dar água a vítim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: tabuleiro contendo, canula, ambu, seringas, agulhas, esfigmomanometro, estetoscopio, termometro clinico, espatula, fios de sutura, kit A de penso, garote, cateter venoso, adesivo, couvete, taca com quadrados de algodao, laringoscopio, otoscopio, ataduras, algodao, gesso, 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cia com agu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pirador, Balao de oxigenio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ti-septicos, soro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iombo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atendimento de urgência é uma obrigação do Est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Maputo</cp:lastModifiedBy>
  <dcterms:modified xsi:type="dcterms:W3CDTF">2011-10-11T13:46:36Z</dcterms:modified>
  <cp:revision>28</cp:revision>
  <dc:subject/>
  <dc:title>Paragem Cardiorrespiratória</dc:title>
</cp:coreProperties>
</file>