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74477-86D9-4DD0-8338-92B2FBA4DD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86649-9729-45B5-9A43-2BBCBD90A1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CFBD0-E51B-44DE-843B-9889EB4E3F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45348-8AE7-48C0-8387-27C1510979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A3573-BA20-46FC-BB57-7060ED9CF4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7AD5A-C374-4FA6-B95A-2302BFA43F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09C99-1F8F-46F5-B5EC-E4D474F03F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6ACE7-4DA6-419C-A8BC-CABE467FBE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A1B9E-F282-4611-8ADC-CF3DE8BBD7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C7624-7E3C-4733-A45D-9CBCF0A6D2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30F77-FD42-43DA-A86B-FD3F1A0134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ADE77-6389-404D-A8C7-A3C296A9E3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2133360" y="6400440"/>
            <a:ext cx="5105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PT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8" descr="Jhpiego_logo"/>
          <p:cNvPicPr/>
          <p:nvPr/>
        </p:nvPicPr>
        <p:blipFill>
          <a:blip r:embed="rId3"/>
          <a:stretch/>
        </p:blipFill>
        <p:spPr>
          <a:xfrm>
            <a:off x="7543800" y="6297480"/>
            <a:ext cx="1143000" cy="484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80520" y="6400440"/>
            <a:ext cx="16765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29C4F-88A4-4C99-94F6-A31193A0DB3B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3"/>
          <p:cNvSpPr/>
          <p:nvPr/>
        </p:nvSpPr>
        <p:spPr>
          <a:xfrm>
            <a:off x="762120" y="205740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8" descr="Jhpiego_logo"/>
          <p:cNvPicPr/>
          <p:nvPr/>
        </p:nvPicPr>
        <p:blipFill>
          <a:blip r:embed="rId2"/>
          <a:stretch/>
        </p:blipFill>
        <p:spPr>
          <a:xfrm>
            <a:off x="7772400" y="228600"/>
            <a:ext cx="1143000" cy="484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" descr=""/>
          <p:cNvPicPr/>
          <p:nvPr/>
        </p:nvPicPr>
        <p:blipFill>
          <a:blip r:embed="rId3"/>
          <a:stretch/>
        </p:blipFill>
        <p:spPr>
          <a:xfrm>
            <a:off x="380880" y="304920"/>
            <a:ext cx="628920" cy="6220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3"/>
          </p:nvPr>
        </p:nvSpPr>
        <p:spPr>
          <a:xfrm>
            <a:off x="2437920" y="6400440"/>
            <a:ext cx="4800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PT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9"/>
          <p:cNvSpPr/>
          <p:nvPr/>
        </p:nvSpPr>
        <p:spPr>
          <a:xfrm>
            <a:off x="2438280" y="6400800"/>
            <a:ext cx="48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2133360"/>
            <a:ext cx="73152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CUIDADOS DE ENFERMAGEM NAS 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ALTERAÇÕES URINÁR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523520" y="4419360"/>
            <a:ext cx="61722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 Black"/>
              </a:rPr>
              <a:t>Sub-modulo 04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 Black"/>
              </a:rPr>
              <a:t>Intervenções de Enfermag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2060"/>
                </a:solidFill>
                <a:latin typeface="Arial"/>
              </a:rPr>
              <a:t>Promoção da Eliminação Urinária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98960" indent="-49896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2060"/>
                </a:solidFill>
                <a:latin typeface="Arial"/>
              </a:rPr>
              <a:t>Promover a privacidade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98960" indent="-49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98960" indent="-49896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2060"/>
                </a:solidFill>
                <a:latin typeface="Arial"/>
              </a:rPr>
              <a:t>Auxiliar o paciente a ir a casa de banho para urinar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98960" indent="-49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98960" indent="-49896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2060"/>
                </a:solidFill>
                <a:latin typeface="Arial"/>
              </a:rPr>
              <a:t>Se o paciente for de sexo masculino, permitir que ele use o urinol ao lado do leit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98960" indent="-49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98960" indent="-49896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2060"/>
                </a:solidFill>
                <a:latin typeface="Arial"/>
              </a:rPr>
              <a:t>Aplicar compressas mornas no períneo,  banhos de chuveiro , banhos de assento, e dar chá quente, para promover calor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98960" indent="-49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e de Saude Materno-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1DA4D-C44D-40C1-A6ED-CA4B6C80F643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467480" cy="1066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 Black"/>
              </a:rPr>
              <a:t>Intervenções de Enfermag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DB7D0-C280-4890-8661-9BC207D5A86E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2060"/>
                </a:solidFill>
                <a:latin typeface="Arial"/>
              </a:rPr>
              <a:t>Oferecer apoio psicológic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2060"/>
                </a:solidFill>
                <a:latin typeface="Arial"/>
              </a:rPr>
              <a:t>Administrar analgésico após a cirurgi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2060"/>
                </a:solidFill>
                <a:latin typeface="Arial"/>
              </a:rPr>
              <a:t>Aliviar a dor e desconforto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2060"/>
                </a:solidFill>
                <a:latin typeface="Arial"/>
              </a:rPr>
              <a:t>Alívio da retenção urinária/distensão abdominal)</a:t>
            </a:r>
            <a:r>
              <a:rPr b="1" lang="pt-PT" sz="2800" spc="-1" strike="noStrike">
                <a:solidFill>
                  <a:srgbClr val="00206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 Black"/>
              </a:rPr>
              <a:t>Avaliação: Resultados Esperado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Que o paciente demonstra padrões normais de micção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limina 300 a 400 ml de urina a cada 3 hora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Não apresenta distensão abdominal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Não refere vontade de esvaziar a bexig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e da Saude Materno-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29512-3303-4C2D-B85A-18E687CCBE9E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7467480" cy="990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 Black"/>
              </a:rPr>
              <a:t>Avaliação do Paciente (Cont.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906BD-E8A3-4AC9-94DF-A78C6D0BD24C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Que o paciente apresenta alívio da dor e do desconforto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Não relata dor e desconforto abdominal ou vesical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Utiliza medidas apropriadas para evitar a recidiva de retenção urinária e desconforto vesical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 Black"/>
              </a:rPr>
              <a:t>Incontinência urinár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onceit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continência Urinária é a perda involuntária ou não controlada de urina pela bexig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incontinência pode ser temporária ou permanente.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emporária :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 resulta de uma condição inflamatóri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or exemplo: Cistit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ermanente: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 for por uma causa  neurológica grave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or exemplo: paraplegia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e de Saude Materno-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ED969-5859-42A7-8E71-F75EB07203F6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94920" y="0"/>
            <a:ext cx="7543800" cy="1371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 Black"/>
              </a:rPr>
              <a:t>Tipos de Incontinênc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6840" y="14475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Incontinência de Esforç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É a perda involuntária de urina através de uma uretra intacta devido ao aumento súbito da pressão intra – abdominal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ausa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Lesão obstétrica, lesões do colo cervical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oenças pélvicas, Menopausa; Infecções do trato urinário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Fístulas ou doenças congênitas (atrofia da bexiga,  ureter ectópico ). </a:t>
            </a:r>
            <a:br>
              <a:rPr sz="2400"/>
            </a:b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e de Saude Materno-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0730B-7973-49D8-A0F7-B2129F122F48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 Black"/>
              </a:rPr>
              <a:t>Tipos de Incontinência (Cont.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2. Incontinência de Urgênci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Ocorre quando o paciente percebe a necessidade de urinar, mas é incapaz de inibir a micção por tempo suficiente para chegar à casa de banh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Causa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isfunção neurológic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Irritação local devido a infecção do trato urinári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Tumores vesicai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CAA1D-8E02-48F9-90A6-6A552F66BA63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50835-50C3-4B5B-9784-17D9E5B2BC80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Tipos de Incontinência (Cont.)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3. Incontinência de Hiperflux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É caracterizada por perda frequente, quase constante, de urina da bexiga. É uma situação em que bexiga não pode esvaziar-se normalmente e é excessivamente distendid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ausa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normalidades neurológicas(lesões modular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bstrução da saída de urina causada por (medicamentos, tumores, estenoses e hiperplasia da próstata).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Tipos de Incontinência (Cont.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e de Saude  Materno-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507EA-0AC9-4539-B9AD-25E713D72062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4.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Incontinência Funciona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Refere se a casos em que a função do trato urinário está intacta, porém o paciente não consegue identificar a necessidade de urinar, ou está impossibilitado de se locomover.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ausa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eficiência cognitiva grave (demência de Alzheimer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deficiência física, que dificulta ou impossibilita a locomoção do paciente para chegar a casa de banho a tempo para urinar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 Black"/>
              </a:rPr>
              <a:t>Quadro resumo da Incontinênc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2DC52-451B-4466-9151-3F32D38C6FD6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28600" y="914400"/>
          <a:ext cx="8610480" cy="594360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p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ais e Sinto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usas Comu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venções de Enfermag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15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 esforç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erda descontrolada pequenas quantidades de urina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da do tónus muscular do períneo e do esfíncter secundário a partos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mento da pressão intra – abdomin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sã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Atrofia na menopausa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Prolapso uterino uterino ou obesidad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telecimento da musculatura do assoalho pélvic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ção do pes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urgênc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apacidade de manter o controlo do fluxo de urina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te necessidade de urinar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mor ou outra condição neurológica do paciente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o motor e sensorial após um trauma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terização directa e intermitent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144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perflux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iminação descontrolada de urina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xiga distentida com retenção urinária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enção da bexiga ou tónus muscular enfraquecido após uma obstrução da uretra por resíduos no cateter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mento da próstata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xiga distendida ou espasmos pós operatório da bexiga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dratação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iminação adequada dos conteúdos da bexiga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ter a permeabilidade do cateter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12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ion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da de capacidade de controlo de urina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ilidade prejudicada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gnição prejudica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mitação física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apacidade de comunicaçã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ter o vestuário seco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ilitar o acesso a sanita, arrastadeira ou urinol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aborar /programar o horário  para o paciente urinar na sanita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467480" cy="1066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Competências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-61920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619200" indent="-61920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619200" indent="-619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Identificar as causas ou factores associados a retenção urinária, incontinência urinária e edem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619200" indent="-61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619200" indent="-619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eleccionar os cuidados de enfermagem a prestar ao paciente com retenção urinária, incontinência urinária e edem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619200" indent="-61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619200" indent="-619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oceder as técnicas de algaliação e lavagem vesical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619200" indent="-619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619200" indent="-6192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e da Saude Materno-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12550-1847-4E2F-AB77-925A3414838C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46748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 Black"/>
              </a:rPr>
              <a:t>Cuidados de Enfermag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bter um diário sobre os padrões de eliminação do paciente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esencorajar a  limitação rígida de ingestão de líquid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lanificar um horário inicial de eliminação que tenha associação com os horários em que o paciente costuma estar incontinente ou sinta a distensão da bexig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aso não exista qualquer padrão, planificar a ajuda ao paciente na  sua eliminação de duas em duas horas, durante o dia, e de quatro em quatro horas, durante a noite.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C9C5A-D855-4B74-9983-CD9C3B7C8F4F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6858000" cy="1295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Cuidados de Enfermagem (Cont.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68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judar o paciente a usar a sanita, ou ponha – o  na arrastadeira ou  urinol antes da hora marcada para a eliminaç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stimular o som do acto de urinar, tal como o da água corrente de uma torneir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rientar os pacientes  a identificarem todas as sensações que antecedem o acto de  eliminação, tal como o arrepio, espasmo muscular, inquietação ou erecção espontâne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eça aos pacientes com incontinência hiperfluxo, para fazerem massagens suaves ou  darem palmadinhas na região do púbis.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19ACF-4F27-4BB5-B9CD-863552045BD0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467480" cy="1066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idados de Enfermagem (Cont.)</a:t>
            </a:r>
            <a:br>
              <a:rPr sz="24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6840" y="12949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nsinar os pacientes com incontinência por esforço a realizarem os exercícios Kegel </a:t>
            </a:r>
            <a:r>
              <a:rPr b="0" lang="pt-PT" sz="1800" spc="-1" strike="noStrike">
                <a:solidFill>
                  <a:srgbClr val="000066"/>
                </a:solidFill>
                <a:latin typeface="Arial"/>
              </a:rPr>
              <a:t>( ver o quadro a seguir)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nsinar os pacientes com incontinência de urgência a andarem lentamente e concentrarem se em segurar a urina ao aproximar se da área da sanita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e de Saude Materno-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1FCE4-E4B9-451C-B18A-92D029B72D82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01028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Exercícios Keg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5B08B-0257-4440-B551-627BAF637FD2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523880" y="1397160"/>
          <a:ext cx="6096240" cy="38448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écnica para realizar os realizar os exercícios Keg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Contrair os músculos internos usados para evitar o acto de urinar, ou interromper o acto urinário assim que tiver iniciado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Manter os músculos contraídos durante 10 segundos no mínim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Relaxar a musculatura durante o mesmo período de temp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Repetir o padrão de contração e relaxamento 10 a 25 vezes por di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Implementar o regime de exercício 3 a 4 vezes por dia, durante um mínimo de duas semanas a um mê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46748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 Black"/>
              </a:rPr>
              <a:t>Outras Alterações Urinári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6840" y="11426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núri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Definiçã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anúria refere se a ausência de urina ou a uma eliminação de até 100 ml em 24 hora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Sinais e Sintoma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bexiga fica vazia, consequentemente o paciente não sente a necessidade de urinar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e de Saude Mterno-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2D172-474D-4729-8E27-409F4AEA6A1D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625760" y="5562720"/>
          <a:ext cx="6984720" cy="695160"/>
        </p:xfrm>
        <a:graphic>
          <a:graphicData uri="http://schemas.openxmlformats.org/drawingml/2006/table">
            <a:tbl>
              <a:tblPr/>
              <a:tblGrid>
                <a:gridCol w="6984720"/>
              </a:tblGrid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Outras alterações Urinárias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2. Oligúri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Definiçã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oligúria refere se a eliminação de um volume reduzido de urina pelo pacient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Sinais e Sintoma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Quantidade de urina eliminada pelo paciente é abaixo de 400 ml durante 24 hora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3. Poliúri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Definiçã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poliúria é a eliminação de grandes volume de urina, sem nenhuma relação da quantidade de líquidos ingeridos.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  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e de Saude Materno-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2BFD9-D90A-454B-BC21-AEFF6D341448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lterações urinárias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ausa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ode estar associada a diabete melitos doença doença endócrina causada por insuficiência de insulina no organismo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iabete insípida doença causada por insuficência de h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ormona antidiurétic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4. Nictúri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efiniçã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Nictúria é a necessidade que o paciente tem de acordar a noite para urinar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e de Saude Materno-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EC16D-6288-4A74-84C6-D24D9EAC47A8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lterações Urinárias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ausas de Nictúri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umento da próstat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umento da glândula a volta da uretr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4. Disúri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Definiçã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disúria é a dificuldade ou desconforto  que o paciente sente ao urinar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Sinais e Sintoma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umento de frequência de micções e de urgência, com uma forte sensação de que a urina deve ser eliminada rapidamente.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DB84D-AFB5-4AC7-99A2-847441744403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rincipais Doenças do Rim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As principais doenças são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Síndrome Nefrótic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Infecção urinári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álculo Rena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Obstrução Urinári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Insuficiência Renal Agud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65530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67E3F-6640-406D-BC83-61DDDC343302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rincipais Doenças do Rim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Insuficiência Renal Crónic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Tumores Renai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Tumores Renai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oenças Multissistêmica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Nefropatias Tóxica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28FF5-E92E-4BC3-9AC2-B213EBECF1AA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52480" y="-360"/>
            <a:ext cx="68580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 Black"/>
              </a:rPr>
              <a:t>Conceit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tenção Urinári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É a incapacidade de urinar apesar da urgência ou desejo do paciente fazê -l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   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Factores predisponent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irurgia nas regiões anal ou perineal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oenças  aguda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Idosos ou acamado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nsiedade,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umento da próstat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e da Saude Materno-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93F7A-55F2-4179-884A-9C3B26C7C2A9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rincipais Doenças do Ri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Síndrome Nefrótic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onceit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Síndrome nefrótica é um distúrbio clínico caracterizado por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umento acentuado de proteina na urina            ( proteinúria)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dução da albumina no sangue                        ( hipoalbuminemia)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91516-DC3F-421F-94DB-872D04BDF531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Síndrome Nefrótico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c) 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Edem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) Excesso de colesterol no sangue                         ( hipercolesterolemia)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e) Hipertensã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Manifestações Clínica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Início lento de retenção de líquidos com evolução para edem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erda de proteínas na urin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F23D2-47AE-4EC7-9A51-6D5017C771E5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Síndrome Nefrótic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Intervenções de Enfermagem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poio emocional da famíli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ontrolo da pressão arterial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Fornecimento de dieta rica em proteína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ieta com restrição de colesterol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866BC-B3CA-4176-A329-CBA8EE5A0AC6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Nefrosclero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84400" indent="-28440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Nefroscleorose - 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é o endurecimento, ou esclerose, das artérias do rim ou seja, manifestação renal de arteriosclerose  generalizad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84400" indent="-2844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84400" indent="-28440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ausas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84400" indent="-2844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Geralmente é associada à hipertensão arterial.</a:t>
            </a: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84400" indent="-2844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84400" indent="-2844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84400" indent="-2844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84400" indent="-2844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84400" indent="-2844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631D7-829E-482F-B7AE-73DDFB347FA3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Nefrosclero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Manifestações clínica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Hipertensão crescente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dução da função renal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lteração dos vasos retiniano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Intervenções de enfermagem?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644A3-6EE5-4BAE-99BE-BE532DD01B25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Hidronefro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Hidronefrose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Conceit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É a dilatação da pelve e cálices, de um ou ambos os rins, com consequente adelgação do parênquima renal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Causa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Obstrução parcial ou intermitente ao fluxo normal da urina devido a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- Tumor que comprime o ureter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31A40-171C-4721-8839-E510E15C207B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Hidronefro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09480" y="114300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álculo renal formado na pelve renal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umento da  próstata (nos homens idosos)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Manifestações Clínica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or no flanco e dors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isúria, calafrios, febre, dor á palpação e piúri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Sangramento do rim afectad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Hematúri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Sinais e sintomas de Insuficiência renal crônica.(se ambos os rins estiverem afectados)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1B510-C17F-44C7-9700-E71BB58FFFB9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isti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Cistite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Conceit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istite é uma inflamação da bexiga causada por infecção ascendente da urin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Causa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fluxo de urina para da uretra para a bexig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( refluxo uretrovesical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ontaminação fecal ou o uso de um cateter ou cistoscópi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22A46-D793-4569-ADA5-25B95A5895BA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isti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Manifestações Clínica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rdor e dor ao urinar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Nictúri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or ou espasmo na região da bexiga e região suprapúbic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Hematúri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iúria (leucócitos na urina 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Bacteriúria ( bactérias nas urina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80C7E-B8B2-4FF7-B1E1-946808984F3A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istite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Processo de  Enfermagem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Diagnóstico de enfermagem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or e Desconforto relacionados à inflamação e infecção da uretra, bexiga e outras estruturas do trato urinári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onhecimento insuficiente sobre os factores que predispõem à infecção; detecção e prevenção da recorrência e tratamanto.</a:t>
            </a: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0AE98-DCE4-4C8B-B1FE-77A9629A3AB2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e Enfermagem Geral e da Saude Materno-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84253-4146-49AD-B0FC-AA29E799B077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44200" y="1523520"/>
            <a:ext cx="81471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-619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619200" indent="-61920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atologia Uretral ( infecção, tumor)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619200" indent="-61920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Traumatism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619200" indent="-61920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isfunção vesical neurogêni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619200" indent="-61920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lguns medicamentos, incluindo anticolinérgicos – antiespasmódicos, agentes antidepressivos – antiespasmódicos e anti – hipertensivos.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619200" indent="-61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619200" indent="-61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619200" indent="-61920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66"/>
              </a:solidFill>
              <a:latin typeface="Arial"/>
            </a:endParaRPr>
          </a:p>
          <a:p>
            <a:pPr marL="619200" indent="-61920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Espaço Reservado para Número de Slide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5F6F-9A4F-4163-B639-7EEAB307C023}" type="slidenum">
              <a:rPr b="1" lang="pt-BR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itle 1"/>
          <p:cNvSpPr/>
          <p:nvPr/>
        </p:nvSpPr>
        <p:spPr>
          <a:xfrm>
            <a:off x="2057400" y="228600"/>
            <a:ext cx="6477120" cy="1066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 Black"/>
              </a:rPr>
              <a:t>         </a:t>
            </a:r>
            <a:r>
              <a:rPr b="1" lang="pt-PT" sz="2400" spc="-1" strike="noStrike">
                <a:solidFill>
                  <a:srgbClr val="ffffff"/>
                </a:solidFill>
                <a:latin typeface="Arial Black"/>
              </a:rPr>
              <a:t>Factores predisponentes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istite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Planificação e implementação do processo de enfermagem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Objectivos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liviar a dor, desconforto e aumento do conhecimento de medidas preventivas e modalidades de tratament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Intervenções de enfermagem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liviar a dor e o desconforto,</a:t>
            </a: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 através do início do tratamento com antibiótic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794FA-23B8-4A70-856A-93247F9813EF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istite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nalgésicos e Antinflamatório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Ingestão de grandes quantidades de  líquidos;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Educação do paciente sobre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Banho de chuveiro em vez de banheir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Limpar a região perineal e do meato uretral após cada evacuaçã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Ingerir grandes quantidades ded líquidos durante o di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Urinar duas a três vezes durante, para esva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1FD8C-3FD7-4D41-971C-DC1D43A5D04A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istite Educação ao paciente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Urinar a cada duas a três horas durante o dia, para esvaziar completamente a bexig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Urinar imediatamente após o intercurso sexual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Controlar a presença de bactérias através de testes de urin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Chamar o médico ou outro técnico superior de houver febre ou  persistência  dos sinais e sintoma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Fazer seguimento regular com o médico. 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8CBC7-0D1C-4F81-9DE4-4FCE93A82968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Edema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Conceit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 glomerulonefrite é doença renal na qual há uma reacção inflamatória nos glomérulo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Manifestações Clínicas da Agud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elaleias,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Mal estar geral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Edema facial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or no flanc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7D6DB-4007-4742-82C9-5061E59F2782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Edema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Manifestações clínicas da Aguda (cont.)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Hipertensão leve e grave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or a palpação do ângulo costovertebral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Manifestações clínicas da Crónica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23677-6F41-4064-8D0F-7D97343BC914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lgaliação/Sondagem Vesic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onceit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lgaliação ou Sondagem vesícula, é o acto de inserir um cateter ou sonda na bexiga através da uretr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Indicaçõ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Manter os pacientes com incontinência seco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liviar  distensão da bexiga quando os pacientes não conseguem urinar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liviar com precisão o equilíbrio de líquid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vitar que a bexiga se distenda durante procedimentos cirúrgic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D395D-428C-4234-A91F-6C4C847F4570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lgaliação ( 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Medir o residual de urina na bexiga após a eliminaçã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Obter amostras esterilizadas de urin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Instalar medicação no interior da bexig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Tipos de algaliação/sondagem vesica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Há três tipos de cateteres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1. Cateter externo,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 é aplicado  para colheita de amostras de urina, ou para controle de pacientes com incontinência urinária, e removida quando colhida a quantidade suficiente de urina.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A3389-9380-41AD-902F-04C2BEB701EE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Tipo de algaliação/sondagem vesic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2. Cateter de Alívio,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é uma sonda estreita, que é   colocada na bexiga até que seja temporariamente drenada ou obtido um volume suficiente de urina para amostr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3. Cateter de Demora,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onsiste na introdução da sonda no interior da bexiga e mantida durante um período de tempo.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4DF73-7F31-4E9A-8B4F-D42D9477D8C4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 Black"/>
              </a:rPr>
              <a:t>Cuidados de Enfermagem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lgaliação Feminin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Material necessári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PI: luvas cirúrgicas e de procedimento, máscara, óculos e avental plástic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Material para higiene íntima ( genital): jarra com água morna, sabão, compressas limpas e toalh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Kit para algaliação ou sondagem: compressas, campo aberto, pinça Cheron, cuvete, cuvete redond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nti – séptico. Clerexidina – Hibitane ou Clorexidina e Cetrimida – Savlon ou Iodopovidona de base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280B-FF6F-41F9-AEBA-3E1838A81563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uidados de Enfermagem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Lubrificante geral uretral co xilocaína ou solução fisiológica a 0,9%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eringa de 5 ou 10 ml com agulha, adesiv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onda vesical ou algália de acordo com a idade e indicação de uso e saco colector;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rrastadeir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opo graduado para medir a urin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Biombo (S) quando necessári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845C9-F4D6-451D-B20F-58B7763ABCA7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e de Saude Materno-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A85E3-541A-4925-A4E6-DCDF24B137FA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760" y="-360"/>
            <a:ext cx="6553080" cy="1219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 Black"/>
              </a:rPr>
              <a:t>Complicaçõ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15998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Infecção urinária resultante de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istensão excessiva da bexiga consequentemente a redução da circulação sanguínea na parede vesical e proliferação de bactéria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omprometimento da função renal, principalmente se houver obstrução do trato urinário.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rocedimen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umprimentar a utente e identificar se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xplicar o procedimento e pedir a sua colaboraçã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olocar a utente em decúbito dorsal com as pernas flectidas e joelhos afastados, sobre uma arrastadeir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eparar tira de adesivo para fixar a sond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Lavar as mãos com água e sabão ou friccionar as com álcool glicerinado, se não estiverem visivelmente suja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alçar luvas de procediment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15748-F85C-496E-AE68-8FDBAE80ABB2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 Black"/>
              </a:rPr>
              <a:t>Procedimento ( Cont.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osicionar se à esquerda da paciente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Fazer a higiene genital com água e sabão ( ver procedimento na página 30 do manual do MISAU)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Retirar as luvas de procedimento e deita as imediatamente em recipiente com saco plástico para o lixo infeccioso)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Lavar as mãos com água e sabão ou friccionar as com álcool glicerinado, se não estiverem visivelmente suja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brir o Kit de algaliação ou sondagem, e adicionar a sonda e a sering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e de Saude Materno-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0061-4B42-4DCF-82B2-A3658CABC4C0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rocedimento ( 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Deitar uma porção de solução fisiológica a 0,9%, na cuvete;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alçar as luva cirúrgica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Testar o cuff ou balão com 5 a 15 ml de ar ( conforme indicado pelo fabricante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onectar a sonda ao saco colector e certificar que este esteja fechad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Realizar a anti sépsia do mente de vénus no sentido transversal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- Aplicar movimento único e firme, e utilizar a pinça com compressas e anti-séptico de base aquosa para cada movimento;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971F-740A-40ED-B5C2-A57C7C059D4F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 Black"/>
              </a:rPr>
              <a:t>Procedimento  (cont.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ontinuar a limpar com anti sépsia dos grandes lábios e de cima para baixo, pela parte externa e interna , a incluir a vulva e o meato urinári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olocar o campo aberto sobre o órgão genital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Lubrificar a sond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garrar a algália com a mão dominante, e com a mão não dominante, afaste os pequenos lábio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Introduza a algália suavemente até o surgimento da urin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ncha o cuff ou balão com solução fisiológica na quantidade indica pelo fabricant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27A2F-64E9-4DBB-BCF7-C43FE05372FA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ertificar  se o balão está a funcionar, verificar a resistência da algália ao puxar para baix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Retirar o camp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Fixar a algália com adesivo na cox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eixar o paciente confortável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Recolher, levar e arrumar o material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assar as mãos enluvadas em solução de hipoclorito de sódio a 0,5%, retirar as e deitar as imediatamente na mesma solução por 10 minut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589C-26B0-40B7-9CBB-02804988928B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rocedimento ( 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Lavar as mãos com água e sabão ou friccionar com álcool glicerinado, se não estiverem visivelmente suja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gistar o procedimento no diário de enfermagem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8473-727F-457A-BF79-49D22849A0F1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 Black"/>
              </a:rPr>
              <a:t>Procedimento (Cont.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 Black"/>
              </a:rPr>
              <a:t>Sondagem Vesical ou Algaliação Masculin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Material e EPI necessário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PI: luvas cirúrgicas e luvas de procedimento, máscara, óculos e avental plástic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Material para higiene íntima: jarra com água morna, sabão, compressas limpas e toalha;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Kit para sondagem ou algaliação: compressas, campo aberto, pinça Cheron, cuvete, uma taça redond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nti – séptico: clerexidina – Hibitane ou Clorexidina e Cetrimida – Savlon ou iodopovidona de base aquos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A5536-8EE8-4C23-8351-EC746D89DF01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 Black"/>
              </a:rPr>
              <a:t>Procedimento (Cont.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Lubrificante gel uretral com xilocaína ou solução fisiológica a 0,9%,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eringa de 5 ou 10 ml com agulha, adesiv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onda vesical ou algália de acordo com a idade e indicação de us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aco colector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rrastadeir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opo graduado para medir a urina;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Biombo se necessári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D9C54-08C9-40E8-932F-7428DEA53C05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rocedimen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umprimentar o paciente e  identificar se 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xplicar o procedimento e pedir a sua colaboraçã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olocar o paciente em decúbito dorsal, sobre uma arrastadeir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eparar tiras de adesivo para fixar a sond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Lavar as mãos com água e sabão ou fricciona as com álcool glicerinado, se não estiverem visivelmente suja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alçar as luvas de procediment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BD34-B9FC-4B1E-A6CC-E417CCF0D899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 Black"/>
              </a:rPr>
              <a:t>Procedimento (Cont.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osicionar se a esquerda do paciente e fazer a higiene genital com água e sabão ( ver procedimento página 30)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Retirar as luvas de procedimento e deit as imediatamente em recipiente com saco plástico para o lixo infeccios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Lavar as mãos com água e sabão ou fricciona as com álcool glicerinado, se não estiverem 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visivelmente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limpa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brir o kit de sondagem ou algaliação, e adicione a sonda e a sering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AB21E-AFB1-4545-BFD7-C7EA96609AB3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467480" cy="990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 Black"/>
              </a:rPr>
              <a:t>Avaliação do paciente</a:t>
            </a: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Sinais e Sintoma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Qual foi o horário da última micção?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 paciente está eliminando pequenas quantidades de urina frequentemente?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Há gotejo de urina?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 paciente refere dor ou desconforto na região inferior do abdomen?( o desconforto pode ser relativamente leve se a bexiga se distende lentamente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40880-ABB3-4EC1-B46B-AC6FFC4B8AA3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 Black"/>
              </a:rPr>
              <a:t>Procedimento ( Cont.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eitar uma porção de solução fisiológica a 0,9% na cuvete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alçar as luvas cirúrgica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Testar o cuff ou balão com 5 a 15 ml de ar ( conforme indicado pelo fabricante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onectar a sonda ao saco colector e certificar se está fechad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egar o pénis com uma compressa e retrair o perpúci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94CAD-A741-43EB-92EB-E12493EC8E16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 Black"/>
              </a:rPr>
              <a:t>Procedimento (Cont.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egurar o pénis abaixo da glande e aplicar o anti – séptico a utilizar uma compressa para cada movimento (do meato urinário até a base da glande e no corpo do pénis no sentido longitudinal de cima para baixo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olocar o campo aberto sobre o órgão genital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Lubrificar a sond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egurar a algália com a mão dominante e com a mão não dominante introduzir a algália suavemente no pénis que deve estar em posição vertical, de forma a suprimir a primeira curvatura da uretr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67ADE-592A-462C-AFDC-F2CBB79D22D2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 Black"/>
              </a:rPr>
              <a:t>Procedimento (Cont.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ncher o cuff ou balão com solução fisiológica na quantidade indicada da fabricant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ertificar se o balão está a funcionar, e verificar se a algália oferece resistência ao puxar para baix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Retirar o campo  aberto,: fixar com adesivo a algália na cox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Recolher, lavar e arrumar o material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assar as mãos com luvas em solução  de hipoclorito de sódio a 0,5%; retirar as luvas imeditamente nesta solução por 10 minut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CA43B-5C43-437F-A661-1BD67DC92615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523880" y="533160"/>
            <a:ext cx="746784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 Black"/>
              </a:rPr>
              <a:t>Procedimento (Cont.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Lavar as mãos com água e sabão ou friccionar com álcool glicerinado, se estiverem visivelmente sujas;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Registar o procedimento no diário de enfermagem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E09E9-CB93-4738-B688-9F5C3E32F350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467480" cy="1066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 Black"/>
              </a:rPr>
              <a:t>Avaliação do paciente (Cont.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Sinais e Sintoma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 paciente apresenta edema na região da bexiga? ( pode indicar retenção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Há macicez à pressão na região suprapúbica ( pode indicar uma bexiga cheia de urina)?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Há outros indicadores de retenção urinária, como a inquietação e agitação?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 e de Saude Materno-Infant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AED78-58BF-480A-AAF5-FDC3B7D4F490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Baseando se nos dados de avaliação os diagnósticos de enfermagem para o paciente podem incluir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Retenção urinária relacionada à dor,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Tensã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usência de privacidade ou ambientes e posições para urinar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or e desconforto devido á distensão vesical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e de Saude Materno-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8F3F2-2179-458D-A9A2-B25C820A204F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 Black"/>
              </a:rPr>
              <a:t>Diagnóstico de Enfermag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7467480" cy="990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Objectivo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O Diagnóstico de Enfermagem tem como objectivos:</a:t>
            </a:r>
            <a:br>
              <a:rPr sz="2400"/>
            </a:b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Retornar  os padrões normais de micção do paciente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liviar o desconforto do pacient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e da Saude Materno-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17268-1282-49D7-B98F-F4C49D149DF2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06:59:16Z</dcterms:created>
  <dc:creator>Carlos Catingue</dc:creator>
  <dc:description/>
  <dc:language>en-US</dc:language>
  <cp:lastModifiedBy>INSTRUMENTACAO</cp:lastModifiedBy>
  <dcterms:modified xsi:type="dcterms:W3CDTF">2019-11-12T09:50:56Z</dcterms:modified>
  <cp:revision>1124</cp:revision>
  <dc:subject/>
  <dc:title>ANATOMIA E FISIOLOGIA HUMANA</dc:title>
</cp:coreProperties>
</file>