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72F8-AAAC-49FE-8774-138D328001F0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E9D5-597A-4742-B2AA-84528D7A61F5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D4E0-B28C-4425-891A-B74BBF4045E8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AF7C-5966-4FDF-BC9C-220B1088B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0DBB-4945-4FC2-80A2-2CC160A7F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6218-B4C9-4C34-81A8-CFAD13F9D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D896-70E5-41B0-9C69-A441DFED2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41558-29F0-4967-B82C-1C188DFEBC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83700-DD32-412E-8765-F9086E0F49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E0746-249B-4754-B104-13B2E137F1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5BB75-1121-45C0-AAE5-42C2F22748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EE9BF-6886-4D1C-87BC-8BC5E121FC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F20FE-BECA-45AB-9F74-66131F7879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E4A9C-76AE-472E-94FF-05DD0AB240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1CC5-0C36-4938-B9FB-40AEF9685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DBC08-6D07-4C21-9DAD-E4E0A44BDA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F11C3-1FDC-4D9D-A3F1-08CABE0452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0EEFE-7D57-457B-9BC2-89206E41B0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9BADD-7E00-47B7-AC91-2F5D1A6A6F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FC725-101F-492D-AF27-975A3520E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0DFD-E900-4DA9-9A08-DAA949A13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274A-6AF5-4C4A-A424-6E3E3F9D5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29B3-9AEC-49AA-BA47-B4A7380A3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FD77-3B77-4FEB-9F38-70B06312D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B65C-2CA2-41F1-B47C-07FA26E05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2FC8-E79F-42FE-B78D-AC4147DC8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7AB6-73E7-4336-9292-25A873638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7446-131C-4DAD-A420-80B4723F777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52B5-C95D-4A7C-93E9-EE7E7B3B309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235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Arial"/>
              </a:rPr>
              <a:t>ENFERMAGEM MÉDICO-CIRÚRGIC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Submódulo 11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ATENÇÃO À PEQUENAS CIRURGIAS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Curso de Enfermagem Geral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6247-4E2C-466D-ABA6-E91930012DA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lucagon injectável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e medicamento exerce um efeito relaxante sobre o músculo esofagean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oscopia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m último caso se recorre ao procedimento  endoscópico para remover o alimento impactad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Enfermeiro deverá encorajar o paciente, deixando-o mais calmo possível de modo a não agitar-s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Enfermeiro deverá seguir todas as recomendações médicas possíveis incluíndo a educaç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21337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ERMAGEM MÉDICO-CIRÚRGIC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gency FB"/>
              </a:rPr>
              <a:t>SUBMÓDULO 11</a:t>
            </a:r>
            <a:endParaRPr b="1" lang="en-US" sz="32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gency FB"/>
              </a:rPr>
              <a:t>CURSO DE ENFERMAGEM GERAL</a:t>
            </a:r>
            <a:endParaRPr b="1" lang="en-US" sz="32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ENAGEM DE ABCESS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BCESS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eito-É uma colecção localizada de pús e usualmente o resultado de uma invasão de bactérias piogénicas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fonte)</a:t>
            </a:r>
            <a:endParaRPr b="1" lang="en-US" sz="16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 tentativa de combater a infecção os leucócitos  (polimorfonucleares) fagocitam e destroem os microorganismos, libertando enzimas que liquefazem o tecido necrosad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im o pús formado é composto de: tecido necrosado, leucócitos  e bactérias destruída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2952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ebre de tipo séptic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l est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orex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ucocitose neutrófil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IFESTAÇÃ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nicamente o abcesso no princípio manifesta-se com uma tumefacção vermelha, dolorosa e dur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is tarde amolece e surge a flutua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 não fôr drenado cirurgicamente, o pús procura saída para o exterior através de uma fístula ou para o interior de uma víscera o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NECESSÁRIO PARA DREN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abuleiro ou mesinha própri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inça de Kocher ( Média ou pequena 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inça de Kelly ( Média ou pequena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inça de dissecção com dentes (Média ou pequena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bo de bisturi nº 3 e bisturi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mpo fechad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gadur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aça para solut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MATERIAL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mpo abert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uvete reniforme ( média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ress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sterilizad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esiv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uv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rurgic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rrete e Óculos de protecção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otas de borracha e Avental impermeáve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scos de Solut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estesico loc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-Preparar o paciente para a execucao da tecnic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Lavar as mã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Reunir o materi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-Preparar o material na mesinh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-Posicionar o paciente confortavelment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6-Usar material de EPI complet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-Abrir o Kit e organizar o material incluíndo a adaptação do bisturi no cab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  1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-Deitar o soluto na taç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8- Us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rocar com calcar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s luv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9-Fazer Antissépsia loc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-Colocar o campo abert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2-Colocar a couvete estéril por cima  do campo  junto ao abcess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licar anestesico local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3-Fazer a incisão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Arial"/>
              </a:rPr>
              <a:t>ENFERMAGEM MÉDICO-CIRÚRGICA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gency FB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XTRAÇÃO DE CORPOS ESTRANHOS</a:t>
            </a:r>
            <a:endParaRPr b="1" lang="en-US" sz="32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  2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4-Alargar a incisão e tecidos fundos com pinça de    Kelly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5-Drenar o abcesso espremendo com as compressas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6-Desinfectar a cavidade com uma compressa húmida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embebida com hipocloreto a 0,025%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e com o auxílio da pinça de Kelly em movimentos circulares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7-Colocar um dreno de Penrose ou semelhante   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8-Secar à volta da incisão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9-Colocar, por baixo do dreno, uma compressa cortada a meio cerca de ¾.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OS PROCEDIMENTOS  3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-Colocar outras compressas por cima da 1ª 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1-Fixar o penso com uma ligadur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2-Retirar o pacient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3-Retirar o material para ser processad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4-Arrumar o restante materi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5-Fazer regist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ver a descricao da referencia bibliografica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ual de Cirurgia para Técnico de Cirurgi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tor :  Vaz,Fernando. Moçambiqu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ual de Enfermagem Cirúrgic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tor: Instituto de Ciências de Saúde de Maputo.Moçambiqu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tado de Enfermagem Médico-Cirúrgic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tor: Brunner Suddarth. Brasi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 FIM DA AULA O ESTUDANTE </a:t>
            </a:r>
            <a:r>
              <a:rPr b="1" lang="pt-PT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ERA ADQUIRIDO AS SEGUINTES COMPETENCIA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pt-PT" sz="2400" spc="-1" strike="noStrike">
                <a:solidFill>
                  <a:srgbClr val="ff0000"/>
                </a:solidFill>
                <a:latin typeface="Arial"/>
                <a:ea typeface="Arial"/>
              </a:rPr>
              <a:t>Selecciona o material e o EPI necessario durante a execussão da técn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esta cuidados de Enfermagem humanizados ao uten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esta cuidados de urgência e emergência médico-cirúrgica, bem como aplica medidas preventivas das complicações.</a:t>
            </a: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NT. DAS COMPETÊNCIAS              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Aplicar os conhecimentos adquiridos ao planificar,executar e avaliar os cuidados de Enfermagem, baseados no diagnóstico realizado,visando a satisfação das necessidades do utente do fóro médico-cirúrgic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Orientar os utentes e a família sobre os cuidados a prestar no pré e pós operatório e prevenção das complic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480" y="633564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RPOS ESTRANH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eve-se falar dos outras vias propensas a corpos estranhos</a:t>
            </a:r>
            <a:endParaRPr b="1" lang="en-US" sz="26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uitos corpos estranhos deglutidos atravessam o trato gastrointestinal sem a necessidade de intervenção médica.No entanto alguns deglutidos  como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entaduras (trocar com protese dentaria)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, espinhas de peixe, alfinetes, pequenas baterias,artigos  contendo mercúrio ou chumbo, podem lesionar o esôfago ou obstruir sua luz e devem ser  removidos.</a:t>
            </a:r>
            <a:endParaRPr b="1" lang="en-US" sz="26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de haver dor e disfag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de ocorrer uma dispneia em consequência da pressão sobre a traque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exames radiológicos são úteis para identificar o corpo estranh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ve-se referenciar o material necessario e os passos a seguir na exexussao da tecnic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2200" indent="-322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Habitualmente os corpos estranhos podem ser removidos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2200" indent="-322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m ajuda do esofagoscópi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2200" indent="-322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2200" indent="-322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Quando o corpo estranho é pontiagudo ( ganchos para cabelo, alfinetes de segurança, agulhas, picos e taxas ) não é seguro permitir que o objecto percorra lentamente o estômago e o intestino.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5D9D-8D41-4E39-A939-EC1950CB53F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Íman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so a um cabo pode ser manobrado no local com a ajuda de fluoroscopia, removendo-se assim o object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téter de demor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de ser manipulado até além do objecto, o balão será insuflado o catéter e o corpo estranho serão removid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ofagoscopi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É possível para um esofagoscopista habilidoso remover alfinetes de segurança abertos através do esofagoscópi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ante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ndo um bolo alimentar impactado se encontrar no esófago pode-se tratar o paciente com relaxante muscular do tipo valium (Diazepan), às vezes isto é suficiente para relaxar o músculo esofágico e permitir que o bolo de carne se movimente através do esófag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47:03Z</dcterms:modified>
  <cp:revision>877</cp:revision>
  <dc:subject/>
  <dc:title>ANATOMIA E FISIOLOGIA HUMANA</dc:title>
</cp:coreProperties>
</file>