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9EDC-4AC2-4B51-A94F-EED8BB61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050A-7303-430B-9F18-6A0F6530F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4162-E06B-40FA-A766-DB318926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6A4A-8CC8-47E2-9BE6-D0D76B8D6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3DA5-2CDC-4228-B645-B7034F18C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C924-F1BD-4C17-A490-20C12F2C9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C553-8870-485A-B65B-F09C71843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A401-E55D-4F34-9509-639A8C3BD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4309-EFA4-42D5-81DF-0EC4AD921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F82E-C1A2-4E77-A291-B3075338D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03E2-75E1-4CB6-94A0-A162C43FF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A316-DEEE-4014-B08B-CE97003A8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1944-9BD3-4E01-953D-077527D8D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F4C7-B751-48A1-AC5E-EA866A853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07D5-0097-4716-B1AF-DD924DB7D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B9EC-58AA-46EB-AC6C-E62038BC9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EEFC-2EFB-407B-9996-01D7D1AED4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4920" y="1600200"/>
            <a:ext cx="662292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6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c00000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erencia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ende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dentifica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lecciona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cuta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gista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poio psicologic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042920" y="12682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724360" y="12682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T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ESTANC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aquicardia, Hipotensão, Sede, 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crescentar outros tipos de choqu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280" y="836280"/>
            <a:ext cx="860436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egligente, imprudente e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ericia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u a não observância de determinados deveres por parte do enfermeir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7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 sensação de toque ou dor. Não existe resposta capilar e por isso não há sinais de circulação de sangue através dos tec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0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IDADOS DE ENFERMAGEM DE EMERGENCIA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IDADOS DE ENFERMAGEM TARD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. Impericia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cao exogena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24000" y="1341360"/>
            <a:ext cx="251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DIGES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Vóm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Diarre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Hemorragias digestivas  - Acção directa do tó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132000" y="1413000"/>
            <a:ext cx="5688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RESPIRA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Obstrução das vias aé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Paralisia mus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epressão do centro respirató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a hemoglobina e normal transporte de oxigé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iminuição da pressão ar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Edema pulmonar agudo – inalação de gases e aspiração de liqu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24000" y="1413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RE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Oligú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Insuficiência renal 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987640" y="1413000"/>
            <a:ext cx="295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NEUR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Pupila    midríase            Mi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79280" y="350028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CARDIOVAS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lesão do miocárdio por tóxicos é r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taquicardia é um sinal freq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5940360" y="1413000"/>
            <a:ext cx="302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HEMAT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Reacções hem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Febre,  Vómitos / naúseas,  Dor abd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Discrasias sangu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Agranuloci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Leucopenia e Trombocitop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FALTA OS SINAIS E SINTOMAS DE OUTRAS INTOXICA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uman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 ANIM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rejar o ambiente, ou transportar a vítima para um local com melhor venti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frouxar a roupa, para uma melhor circu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pós esses procedimentos, pode dar água a víti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ONVULSO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5e"/>
                </a:solidFill>
                <a:uFillTx/>
                <a:latin typeface="Arial"/>
              </a:rPr>
              <a:t>O atendimento de urgência é uma obrigação do Estado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buleiro, canula, ambu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eringas, agulhas, esfigmomanomet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etoscopio, termometro clinico, espatul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Fios de sutura, kit A de penso, garo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ateter venoso, adesivo, couve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ca com quadrados de algodao, laringoscop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toscopio, ataduras, algodao, gess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cia com agu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pirador, Balao de oxigen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ti-septicos, sor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iomb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Código Civil normatiza aquele que por ação ou omissão voluntária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hp</cp:lastModifiedBy>
  <dcterms:modified xsi:type="dcterms:W3CDTF">2013-10-31T10:23:11Z</dcterms:modified>
  <cp:revision>39</cp:revision>
  <dc:subject/>
  <dc:title>Paragem Cardiorrespiratória</dc:title>
</cp:coreProperties>
</file>