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BD911-CE5A-41D6-B812-BBBDD6D7B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AFDC8-0E61-4CD9-8663-54556DA8A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A40C-EFAC-4AC7-8DA2-275005117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5F222-654F-4D59-B68A-B6BE78DA1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05945-AE54-4998-84CC-BFFB341DCB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96297-7160-42DF-B8C1-EF19BC1FEB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8EA29-154B-4821-B9F8-3692070CF9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C4165-9813-4C45-A0E3-5B2E3DC773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A71C1-5472-49EB-B2D4-9615BF6A90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7E312-169C-44CD-9423-76BE1A8B0B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F39B6-4C80-4BE6-8D21-43EB598D02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13C99-3C0F-488F-BAC0-CADD90636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B880C-84F3-4098-808F-DF60E13438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0DD1A-6FC2-4F8B-AC9B-F6F3E0F179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7542E-415A-4DEC-A5A9-847D777C08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FEE74-D668-420D-90D3-75FEB19840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65DA3-40F0-4010-AD5D-12B76F94D5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71D71-3B73-4107-B2AC-4E9B5AD1B8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BC1F3-7949-480F-979F-10A84F8586D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B028C-413E-4723-BF83-925B37F46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F3536-B8A0-411D-927E-F9AE635D1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08940-2C2E-4985-A24A-087619660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EC31D-2E41-41E7-B323-42F1ECF40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0902E-A405-4739-B948-9E317DF1C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F69D-1C56-41AA-9DA4-3E46D9316A2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88F5-04DD-4542-9BB8-BE5A1358608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62892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127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6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167616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Arial"/>
              </a:rPr>
              <a:t>CUIDADOS DE ENFERMAGEM NO PRÉ-OPERATORIO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4419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ódulo 6 – Fundament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Sub-módulo 7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Rectangle 39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Preparação Remota ou Afastada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Preparação Psicológ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2060"/>
                </a:solidFill>
                <a:latin typeface="Arial"/>
              </a:rPr>
              <a:t>Proporcionar ambiente tranquilo, confortável e agradável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2060"/>
                </a:solidFill>
                <a:latin typeface="Arial"/>
              </a:rPr>
              <a:t>Proporcionar intercâmbio com pacientes convalescentes de cirurgia com sucesso ou que levam a vida aparentemente normal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Ajudar o paciente a superar situações de ansiedade, medo ou descontrole emocional: </a:t>
            </a:r>
            <a:r>
              <a:rPr b="1" lang="pt-BR" sz="2100" spc="-1" strike="noStrike">
                <a:solidFill>
                  <a:srgbClr val="00b050"/>
                </a:solidFill>
                <a:latin typeface="Arial"/>
              </a:rPr>
              <a:t>anestesia, dor ou morte, afastamento familiar e sócio-profissional, destruição da imagem corporal, prognóstico ou da própria cirurgia</a:t>
            </a: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Detectar possíveis transtornos psicopatológicos que contra-indica a cirurgia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Promoção e/ou criação de grupos de apoio entre os pacientes pode também ajudar a superar situações de ansiedade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CE22-AD2D-4081-BB9D-829552FB34F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Preparação Remota ou Afastada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066320"/>
            <a:ext cx="5486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Terapêutica pré-operatóri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2060"/>
                </a:solidFill>
                <a:latin typeface="Arial"/>
              </a:rPr>
              <a:t>Avaliar a capacidade de resistência do paciente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2060"/>
                </a:solidFill>
                <a:latin typeface="Arial"/>
              </a:rPr>
              <a:t>Alterações de ordem geral e de cada sistema e corrigi-las. Por exemplo: hipertensão arterial, hiperglicemia, etc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2060"/>
                </a:solidFill>
                <a:latin typeface="Arial"/>
              </a:rPr>
              <a:t>Realização de exames auxiliares de diagnóstico: radiológicos, laboratoriais, entre outros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2060"/>
                </a:solidFill>
                <a:latin typeface="Arial"/>
              </a:rPr>
              <a:t>Cumprimento com a medicação pré-operatória prescrita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2060"/>
                </a:solidFill>
                <a:latin typeface="Arial"/>
              </a:rPr>
              <a:t>Cumprimento da dieta especial prescrita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BB15-18B0-4BB4-BAA8-ED747D5460D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http://www.ideall.com.br/imagens/prod/costaoestefm/image/hipertensao.jpg"/>
          <p:cNvPicPr/>
          <p:nvPr/>
        </p:nvPicPr>
        <p:blipFill>
          <a:blip r:embed="rId1"/>
          <a:stretch/>
        </p:blipFill>
        <p:spPr>
          <a:xfrm>
            <a:off x="5826240" y="3962520"/>
            <a:ext cx="29653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Preparação Remota ou Afastada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Avaliação e preparação física do pacient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Avaliação dos sinais vitais e exame físico detalhad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Avaliação do estado respiratório, cardiovascular, renal e metabólico do doente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Arial"/>
              </a:rPr>
              <a:t>Algumas complicações operatórias e pós-operatórias podem ser evitadas ou melhoradas se os pacientes em alto risco </a:t>
            </a:r>
            <a:r>
              <a:rPr b="1" lang="pt-PT" sz="2000" spc="-1" strike="noStrike">
                <a:solidFill>
                  <a:srgbClr val="7030a0"/>
                </a:solidFill>
                <a:latin typeface="Arial"/>
              </a:rPr>
              <a:t>de</a:t>
            </a:r>
            <a:r>
              <a:rPr b="1" lang="pt-PT" sz="2000" spc="-1" strike="noStrike">
                <a:solidFill>
                  <a:srgbClr val="ff0000"/>
                </a:solidFill>
                <a:latin typeface="Arial"/>
              </a:rPr>
              <a:t> forem identificados e tratados precocemente para evitar as complicaçõ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Análise detalhada da historia clínica do paciente, exame pormenorizado;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Preparação da pele, do tubo digestivo, com vista a prevenir complicações no pós-operatóri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Avaliação e correcção dos estados nutricional e hidrataçã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Consentimento informado: o paciente deve ser explicado o procedimento, os riscos e consentir a realização da cirurgi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7E82-34B6-4E2C-9E71-9231D147CEF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Preparação Imediata ou Próxim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ff0000"/>
                </a:solidFill>
                <a:latin typeface="Arial"/>
              </a:rPr>
              <a:t>Estende-se ate 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vai de 24 horas antes da realização da cirurgia e termina quando o paciente estiver na mesa cirúrgica. Os cuidados de enfermagem incluem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Higiene corporal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Modificação da dieta (pobre em resíduos)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Esvaziamento dos intestinos e da bexiga, quando se tratar de cirurgias gastrointestinal, perineais, pélvicas ou perianais 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Preparação da pele: </a:t>
            </a:r>
            <a:r>
              <a:rPr b="1" lang="pt-PT" sz="2000" spc="-1" strike="noStrike">
                <a:solidFill>
                  <a:srgbClr val="1818ff"/>
                </a:solidFill>
                <a:latin typeface="Arial"/>
              </a:rPr>
              <a:t>tricotomia</a:t>
            </a: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 e anti-sépsia da pele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Promoção do sono e repouso para reduzir ansiedade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Restrição de alimentos e líquidos 8 horas antes da cirurgia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Administração da </a:t>
            </a:r>
            <a:r>
              <a:rPr b="1" lang="pt-PT" sz="2000" spc="-1" strike="noStrike">
                <a:solidFill>
                  <a:srgbClr val="1818ff"/>
                </a:solidFill>
                <a:latin typeface="Arial"/>
              </a:rPr>
              <a:t>medicação pré-anestésica </a:t>
            </a: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(se prescrita), 1 a 2 horas antes da indução da anestesia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Organização do processo do paciente e encaminhamento ao bloco cirúrgic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284F-9785-4739-89FB-38B67655C3B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E417-1537-4CEC-AC8F-0AA21C40FFA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ontent Placeholder 2"/>
          <p:cNvSpPr/>
          <p:nvPr/>
        </p:nvSpPr>
        <p:spPr>
          <a:xfrm>
            <a:off x="1066680" y="304920"/>
            <a:ext cx="7772400" cy="594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Tricotom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A remoção de pêlos está associada ao aparecimento de erupções e lesões exsudativas, crescimento de bactérias e aumento da infecção no pós-operatór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Recomenda-se a remoção dos pêlos só quando, pela sua espessura, possam interferir no procedimento cirúrg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Se a remoção de pelos for indispensável, ela deve ser feita num intervalo que não exceda 2 horas antes cirurg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A remoção de pelos de preferência deve ser com: depilatório (não químico) ou máquina eléctrica ou lâmi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Se o local da incisão ser tricotomizado com uma lâmina, os pêlos não devem ser removidos com a pele seca. O local deve ser cuidadosamente molhada e ensaboada, para impedir a abrasão da pele. É importante que a pele seja traccionada para o lado oposto da raspagem durante a tricotomia com este tipo de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imagesCAHKA0AJ.jpg"/>
          <p:cNvPicPr/>
          <p:nvPr/>
        </p:nvPicPr>
        <p:blipFill>
          <a:blip r:embed="rId1"/>
          <a:stretch/>
        </p:blipFill>
        <p:spPr>
          <a:xfrm>
            <a:off x="270000" y="152280"/>
            <a:ext cx="2092320" cy="1828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2438280" y="151920"/>
            <a:ext cx="6400800" cy="2667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Objectivos da </a:t>
            </a:r>
            <a:r>
              <a:rPr b="1" lang="pt-PT" sz="2000" spc="-1" strike="noStrike">
                <a:solidFill>
                  <a:srgbClr val="ff0000"/>
                </a:solidFill>
                <a:latin typeface="Arial"/>
              </a:rPr>
              <a:t>medicação pré-anestésica</a:t>
            </a: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Diminuir a ansieda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Proporcionar analgesia, sedação e induzir anestesi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Reduzir a secreção de saliva, suco gástrico e as secreções respiratórias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Reduzir as náuseas e prevenir os vómitos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Prevenir uma reacção alérgica a anestésico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7F63-2A8E-4E23-AF05-0D018833743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ontent Placeholder 2"/>
          <p:cNvSpPr/>
          <p:nvPr/>
        </p:nvSpPr>
        <p:spPr>
          <a:xfrm>
            <a:off x="380880" y="2971800"/>
            <a:ext cx="8458200" cy="342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Arial"/>
              </a:rPr>
              <a:t>Repouso e S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A cirurgia pode gerar muito stress e pior isso é necessário que o paciente consiga descansar o suficiente para enfrentar a situação de forma mais tranqui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Administrar sedativos prescritos na noite da véspera da cirurgia se, para assegurar um bom descanso noctur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Dar  oportunidade ao paciente para colocar questões de última ho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Evitar estímulos indevidos gerados por visitantes antes da cirurgia. A escolha do paciente, de quem ele quer ver, deve ser tida em consider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o dia da Cirurg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6840" y="2133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Dar banho sem cansar o paciente e remover os cosméticos e esmaltes das unhas, retirando os próteses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Organizar o processo clínico do paciente e verificar se foram executados todos os cuidados pré-operatórios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Esvaziar a bexiga e o sistema gastrointestinal, se indicados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Vestir o paciente com roupa de fácil remoçã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Verificar os sinais vitais antes e depois da administração da medicação pré-anestésica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Ajudar o paciente a passar para maca e encaminhar ao bloc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Entregar o paciente e o seu processo junto do enfermeiro do bloc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023E-7F10-431E-872B-35A0F524D0A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ontent Placeholder 2"/>
          <p:cNvSpPr/>
          <p:nvPr/>
        </p:nvSpPr>
        <p:spPr>
          <a:xfrm>
            <a:off x="457200" y="990720"/>
            <a:ext cx="83818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O paciente deve estar no bloco cirúrgico 20 minutos antes da hora marcada. Fazer exame físico geral ao paciente e comunicar ao médico anomalias como: tosse, alteração da temperatura e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Referências Bibliográf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6840" y="1142640"/>
            <a:ext cx="8381880" cy="5257800"/>
          </a:xfrm>
          <a:prstGeom prst="rect">
            <a:avLst/>
          </a:prstGeom>
          <a:ln w="0">
            <a:noFill/>
          </a:ln>
        </p:spPr>
      </p:pic>
      <p:sp>
        <p:nvSpPr>
          <p:cNvPr id="25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8D18-AEA0-4517-BFC3-614E422E10D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1818ff"/>
                </a:solidFill>
                <a:latin typeface="Arial"/>
              </a:rPr>
              <a:t>Após a discussão deste tema os alunos deverão ser capazes d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dentificar  e caracterizar os tipos de cirurgi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nominar os tipos de cirurgia segundo as terminologias cirúrgic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iferenciar as fases dos cuidados pré-operatórios, identificando as actividades de enfermagem prioritárias em cada fas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estar os cuidados de enfermagem pré-operatório, prevenindo complicações anestésicas e pós-operatóri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&amp;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wn Arrow 4"/>
          <p:cNvSpPr/>
          <p:nvPr/>
        </p:nvSpPr>
        <p:spPr>
          <a:xfrm>
            <a:off x="3962520" y="198108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roduca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pt-PT" sz="2800" spc="-1" strike="noStrike">
                <a:solidFill>
                  <a:srgbClr val="1818ff"/>
                </a:solidFill>
                <a:latin typeface="Arial"/>
              </a:rPr>
              <a:t>Cuidados que se prestam ao utente desde a decisão da cirurgia até o transporte para mesa cirúrgi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EA65-01A9-4A32-B10E-0DCDFCAFF43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9" descr=""/>
          <p:cNvPicPr/>
          <p:nvPr/>
        </p:nvPicPr>
        <p:blipFill>
          <a:blip r:embed="rId1"/>
          <a:stretch/>
        </p:blipFill>
        <p:spPr>
          <a:xfrm>
            <a:off x="2968560" y="4505400"/>
            <a:ext cx="2676600" cy="2054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http://bp2.blogger.com/_frOBsQaMDcE/RlGhVviBQQI/AAAAAAAAAA4/R1h5RQhBISY/s400/mastectomia.jpg"/>
          <p:cNvPicPr/>
          <p:nvPr/>
        </p:nvPicPr>
        <p:blipFill>
          <a:blip r:embed="rId2"/>
          <a:stretch/>
        </p:blipFill>
        <p:spPr>
          <a:xfrm>
            <a:off x="5854680" y="4419720"/>
            <a:ext cx="2832120" cy="20574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e cirurg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990360"/>
            <a:ext cx="4114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egundo à gravidad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Maior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Menor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egundo à urgênci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Electiva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Urgente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Emergênci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1640" y="990360"/>
            <a:ext cx="4267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egundo à Finalidad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Diagnóstic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Ablativ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Paliativa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Reparação ou restauraçã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Obtenção para transplante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Construtiva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Cosmétic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23C0-B458-4B51-A644-41293991F08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"/>
          <p:cNvSpPr/>
          <p:nvPr/>
        </p:nvSpPr>
        <p:spPr>
          <a:xfrm>
            <a:off x="77760" y="-88092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77760" y="-88092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77760" y="-88092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1" descr="http://t3.gstatic.com/images?q=tbn:ANd9GcSUSh88BHR4r78lsW11ylIuj110Fbkfdp9RYAk1aPXi1JfJ0D8U&amp;t=1"/>
          <p:cNvPicPr/>
          <p:nvPr/>
        </p:nvPicPr>
        <p:blipFill>
          <a:blip r:embed="rId3"/>
          <a:stretch/>
        </p:blipFill>
        <p:spPr>
          <a:xfrm>
            <a:off x="208080" y="4492800"/>
            <a:ext cx="26683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ção de Cirurg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80880" y="990720"/>
          <a:ext cx="8423280" cy="5429160"/>
        </p:xfrm>
        <a:graphic>
          <a:graphicData uri="http://schemas.openxmlformats.org/drawingml/2006/table">
            <a:tbl>
              <a:tblPr/>
              <a:tblGrid>
                <a:gridCol w="1447920"/>
                <a:gridCol w="4537080"/>
                <a:gridCol w="2438280"/>
              </a:tblGrid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ip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criç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xempl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1818ff"/>
                          </a:solidFill>
                          <a:latin typeface="Arial"/>
                        </a:rPr>
                        <a:t>Quanto à Gravidad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ai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nvolve a reconstrução extensa ou alteração de partes corporais e grandes riscos para o bem-est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ecessão do lobo pulmon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en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nvolve alterações mínimas de partes corporais, é  concebido para corrigir deformações, envolve riscos menores comparando com  cirurgias maio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xtracção de catarat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1818ff"/>
                          </a:solidFill>
                          <a:latin typeface="Arial"/>
                        </a:rPr>
                        <a:t>Quanto à Urgênc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lectiv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É realizada na base da escolha do paciente, não e essencial e pode não ser necessária para a saúd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econstrução de mam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Urgen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revine o desenvolvimento de problemas adicionai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emoção de cálculos bilia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mergênc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eve ser realizado imediatamente, afim de salvar a vida ou preservar a função de uma parte corpor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emoção de sangue na cavidade torác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AED6-CD6B-4C68-950E-4167ED2BAB0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e Cirurg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80880" y="914400"/>
          <a:ext cx="8463240" cy="5529240"/>
        </p:xfrm>
        <a:graphic>
          <a:graphicData uri="http://schemas.openxmlformats.org/drawingml/2006/table">
            <a:tbl>
              <a:tblPr/>
              <a:tblGrid>
                <a:gridCol w="1431000"/>
                <a:gridCol w="216000"/>
                <a:gridCol w="4406760"/>
                <a:gridCol w="2409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cri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xempl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1818ff"/>
                          </a:solidFill>
                          <a:latin typeface="Arial"/>
                        </a:rPr>
                        <a:t>Quanto à Final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iagnos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xploração cirúrgica que permite a confirmação de um diagnostico, envolve a remoção de tecido para exames de diagnósticos posterior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Laparatomia explorad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bl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xcisão ou remoção de parte do corpo afect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emoção de apêndice inflam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ali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livia ou reduz a intensidade dos sintomas da doença, não produz c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olostom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econstru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estaura a função ou aspecto  de tecidos traumatizados ou em mau funcion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Fixação interna de frac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Obtenção para transpl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emoção de órgãos ou tecidos de uma pessoa para ser transplantado em outra pesso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Transplante de r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onstru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estaura  a função perdida ou reduzida  resultante de anomalias congéni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orrecção da fenda palat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osme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ealizado para melhorar aparência pesso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inoplastia para remodelar o nar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C445-7482-48BC-9535-D0DDCBC2DD6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C00C-5ECF-4660-94D4-1C2713EB2F0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1371600"/>
          <a:ext cx="8642520" cy="4465800"/>
        </p:xfrm>
        <a:graphic>
          <a:graphicData uri="http://schemas.openxmlformats.org/drawingml/2006/table">
            <a:tbl>
              <a:tblPr/>
              <a:tblGrid>
                <a:gridCol w="4321080"/>
                <a:gridCol w="432144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fix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lativo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ând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lefa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álpeb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i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ex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síc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ól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g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nt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testino delg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a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stôm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Title 1"/>
          <p:cNvSpPr/>
          <p:nvPr/>
        </p:nvSpPr>
        <p:spPr>
          <a:xfrm>
            <a:off x="1371600" y="22860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erminologia Cirúr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1523880" y="3808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erminologia Cirúr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1371600" y="53352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d0d0d"/>
                </a:solidFill>
                <a:latin typeface="Arial"/>
              </a:rPr>
              <a:t>Terminologia Cirúr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erminologia Cirúrg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ufíx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1818ff"/>
                </a:solidFill>
                <a:latin typeface="Arial"/>
              </a:rPr>
              <a:t>-scopia: </a:t>
            </a: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visualização de um órgão. Exame de endoscopia. Exemplo: gastroscopia = exame endoscópico do estómago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1818ff"/>
                </a:solidFill>
                <a:latin typeface="Arial"/>
              </a:rPr>
              <a:t>-tomia: </a:t>
            </a: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incisão, abertura. Ex: colotomia = abertura do cólon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1818ff"/>
                </a:solidFill>
                <a:latin typeface="Arial"/>
              </a:rPr>
              <a:t>-ctomia: </a:t>
            </a: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tirar, excisão, extirpação, ressecção, ablação. Exemplo: Histerectomia = ablação do útero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1818ff"/>
                </a:solidFill>
                <a:latin typeface="Arial"/>
              </a:rPr>
              <a:t>-stomia: </a:t>
            </a: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comunicação de um órgão com o exterior. Exemplo: Colostomia = derivação do colo para o exterior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1818ff"/>
                </a:solidFill>
                <a:latin typeface="Arial"/>
              </a:rPr>
              <a:t>-rrafia: </a:t>
            </a: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sutura. Exemplo: herniorrafia = sutura da hérnia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1818ff"/>
                </a:solidFill>
                <a:latin typeface="Arial"/>
              </a:rPr>
              <a:t>-pexia: </a:t>
            </a: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fixação de órgão deslocado. Exemplo: Nefropexia = fixação do rim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1818ff"/>
                </a:solidFill>
                <a:latin typeface="Arial"/>
              </a:rPr>
              <a:t>-plastia: </a:t>
            </a: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reparação plástica ou correcção cirúrgica. Exemplo: Rinoplastia = reparação do nariz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1818ff"/>
                </a:solidFill>
                <a:latin typeface="Arial"/>
              </a:rPr>
              <a:t>-centese: </a:t>
            </a: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punção. Exemplo: Paracentese = punção abdominal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DB94-683D-40A9-B893-234724B10B1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Pré-operató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Cuidados que se prestam ao utente desde a decisão da cirurgia até o transporte para mesa cirúrgica</a:t>
            </a:r>
            <a:r>
              <a:rPr b="1" lang="pt-PT" sz="12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pt-PT" sz="1200" spc="-1" strike="noStrike" u="sng">
                <a:solidFill>
                  <a:srgbClr val="ff0000"/>
                </a:solidFill>
                <a:uFillTx/>
                <a:latin typeface="Arial"/>
              </a:rPr>
              <a:t>Tranferir para introducao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bjectiv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Diminuir o risco de complicações no </a:t>
            </a:r>
            <a:r>
              <a:rPr b="1" lang="pt-PT" sz="2000" spc="-1" strike="noStrike">
                <a:solidFill>
                  <a:srgbClr val="1818ff"/>
                </a:solidFill>
                <a:latin typeface="Arial"/>
              </a:rPr>
              <a:t>trans e</a:t>
            </a: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 pós-operatóri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Apresentar o utente na melhor condição física e psicossocial possível para sua cirurgi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ses de cuidados pré-operatóri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1818ff"/>
                </a:solidFill>
                <a:latin typeface="Arial"/>
              </a:rPr>
              <a:t>Preparação remota ou afastada, estende-se </a:t>
            </a:r>
            <a:r>
              <a:rPr b="1" lang="pt-PT" sz="2000" spc="-1" strike="noStrike">
                <a:solidFill>
                  <a:srgbClr val="ff0000"/>
                </a:solidFill>
                <a:latin typeface="Arial"/>
              </a:rPr>
              <a:t>até 24 a 48 horas </a:t>
            </a:r>
            <a:r>
              <a:rPr b="1" lang="pt-PT" sz="2000" spc="-1" strike="noStrike">
                <a:solidFill>
                  <a:srgbClr val="1818ff"/>
                </a:solidFill>
                <a:latin typeface="Arial"/>
              </a:rPr>
              <a:t>desde a decisao de cirurgia ate 24 horas antes da operacao</a:t>
            </a: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. Os cuidados de enfermagem incluem: Preparação psicológica, terapêutica pré-operatória e avaliação e/ou preparação físic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1818ff"/>
                </a:solidFill>
                <a:latin typeface="Arial"/>
              </a:rPr>
              <a:t>Preparação próxima ou imediat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ff0000"/>
                </a:solidFill>
                <a:uFillTx/>
                <a:latin typeface="Arial"/>
              </a:rPr>
              <a:t>A cirurgia de emergência não obedece esta divisão das fases</a:t>
            </a:r>
            <a:r>
              <a:rPr b="1" lang="pt-PT" sz="2000" spc="-1" strike="noStrike">
                <a:solidFill>
                  <a:srgbClr val="00003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6AE5-18C9-4D51-B0C1-9DDD8A8E444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Maputo</cp:lastModifiedBy>
  <dcterms:modified xsi:type="dcterms:W3CDTF">2011-10-13T10:39:34Z</dcterms:modified>
  <cp:revision>832</cp:revision>
  <dc:subject/>
  <dc:title>ANATOMIA E FISIOLOGIA HUMANA</dc:title>
</cp:coreProperties>
</file>