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1F1E-AD77-4F16-9154-68D62F20FFF2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8789-EE09-41EB-8542-5A2719AE8621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096B-F046-42F8-AC94-EF7581971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6D0B-56E9-4A90-9B6D-219F9CAAB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58B3-B709-4BB8-BF52-F69A0BC52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56F1-3756-4B8B-9972-692368405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8EBF3-60BA-4CE3-8BCE-640F791E49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406DD-61F3-42FD-9292-6B90683080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29266-060F-4C6B-A039-9264F77FBD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AE984-EFD7-4734-A09A-A522844AB4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081DE-D657-4B96-918A-05A576431C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3B178-5B47-49DA-ADC8-8F9D56FDE4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5FF75-D96D-4B9A-9F55-7DDC3B4CF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59D5-1B90-45DF-9C5E-4340635EE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F090C-5B08-43CB-A09F-7C45AE9903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FAC1C-335A-4221-AC36-B09E5405CE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916A5-7506-4357-99CA-8C26985EA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7FF3E-BD91-4823-9E6F-C300F94D2A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35A65-0713-4B09-9767-8AAE827FE8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058E-8045-4EFD-8C40-8B9B5EAC3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6A00-C33B-4EB9-86E0-20B596155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884B-DCC3-455C-BF40-F35D63197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45D2-0DD9-4026-BB26-8070656F3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6A75-4A85-4F8A-BBA5-9D61421EA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5261-7BE5-4BA5-B803-0331A1F93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EE55-A117-4D56-8671-254118E38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9A0-8932-47BB-AC66-01D7685DFC2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2A65-7C4F-49FA-918B-FC92C07FAF2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235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ENFERMAGEM MÉDICO-CIRÚRGICA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SUBMÓDULO  11:</a:t>
            </a:r>
            <a:endParaRPr b="1" lang="en-US" sz="3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ATENÇÃO À PEQUENAS CIRURGIAS</a:t>
            </a:r>
            <a:endParaRPr b="1" lang="en-US" sz="3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1564-5464-45DF-8080-BA6DAA5BD67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A CLASSIFICAÇÃO DOS F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20574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 Quanto à absor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nto à absorção os fios podem s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 Absorvíveis- São os que podem ser digeridos pelas células do organismo durante ou após a cicatrização dos tecidos. Ex: Catgut (Simples ou plain, cromado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agéno ( Simples,cromado e extracromado)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6D66-C447-4515-89F0-E87D1226548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A CLASSIFICAÇÃO DOS F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) Não absorvíveis- São aqueles que as células do organismo não conseguem digerir, portanto estes fios devem ser tirados depois da cicatrizaçã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e tipo fios geralmente é usada para suturas superfici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: Seda cirúrgica, algodão cirúrgico, as metálicase as sintéticas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E78F-FF1D-4FCD-AC8B-289B009CB68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resent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poderão apresentar-se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Embalagem de pequenas carteiras duplas, estando a pequena dentro da grand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B)Rolos como de linha de costura, podendo serem pequenos, portanto individuais ou mai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) Tubos de vidro semelhantes aos tubos de colheita de sangue ( mergulhados em solução alcoolica )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154E-EDF3-44B5-949B-B693167521D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 DA APRESENT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também se podem apresentar com agulha já adaptada ou não, sendo assim classificados d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Traumáticos-Aquelas que não possuem a agulha adaptada (Agulha não embutida). Razão porque traumatizam m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B) Atraumáticas-Aquelas que se apresentam com agulha já adaptada da fábrica (Agulha embutida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794F-EC66-4A3A-859D-A18E2DDA48A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unção das agulhas é facilitar a passagem da linha pelos tecid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POS DE AGULH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 agulhas podem s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t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rvas,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/4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/2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/8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EDD8-035E-4A8B-AAB3-1CC8E9550E7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 CLASSIFICA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 acordo com o seu formato as agulhas podem ser classificadas 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Cortantes ou triangulares-Este tipo de agulhas origina um pequeno corte no tecido e o fio tem tendência de aumentar o cor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ão mais usadas para suturar os tendõe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Não cortantes ou redondas-Este tipo de agulhas apresenta o corpo arredondado e são usadas em tecidos pouco resistent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: Fígado, rins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1E4C-2906-4B0B-9DF0-B3593313E03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O DE CADA TIPO DE AGUL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uso das agulhas depende do tip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Agulhas Curvas-São mais utilizadas para suturar tecidos profundos e a pel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Agulhas Semi-rectas-São utilizadas para suturar a pel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Agulhas rectas-São utilizadas para algumas suturas gastro-intestin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r a utilidade das agulhas circula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s agulhas variam em tamanho e calibr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CC09-6B15-4B31-AF7B-C00F0CBDF0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ITUI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agulhas são constituidas da seguinte forma</a:t>
            </a: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 Fenda-orifício onde se mete o fi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Corpo-É a parte que constitue a verdadeira peça da agulh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ralmente é feita de aço inoxdáve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Ponta- È a parte terminal da agulh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3630-024D-4234-95CD-E3C4BEDFB75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SCOLHA DE AGUL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istem alguns factores que influenciam a escolha da agulha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manh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po de tecido a sutur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e de sensibilidade da área a sutur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ferência do Cirurgiã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tina da Sala de Oper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5EFA-DF8F-413C-83BD-AE053767BCC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E EPI NECESSÁR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PI: Luv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irurgic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máscara,avental plástico,barrete e óculos de protecç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ERIA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it de sutura ( couvete, tesoura pequena, pinça porta-agulha, pinça de Kocher, pinça de dissecçã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 den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compress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erelizad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9F5A-74EC-4587-83D7-082EEC50067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              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 FIM DA AULA O ESTUDANTE DEVE SER CAPAZ D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estar cuidados de Enfermagem humanizados ao utente durante a execussão da técn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estar cuidados de urgência e emergência médico-cirúrgica, bem como aplicar medidas preventivas das complic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-78480" y="7238880"/>
            <a:ext cx="80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4F84-00EC-4DC1-8B4F-5974E4A3852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MATERIAL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T. DE MATERIAL NECESSÁRIO 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ção fisiológica 0,9 % ; adesiv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des com sacos plásticos para o lixo comum e lixo infeccioso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B3A-591A-4A8D-AC15-2B6EF481D44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ve o material para junto do paciente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mprimente o paciente e apresente-se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ique o procedimento a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en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 peça a sua colaboração; posicione-o de modo a facilitar a realização do procedimento; mantenha a sua privacidad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C4BA-53E1-439F-BE6E-A71CCDA1DC5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e as mãos com água e sabão ou freccione-as com álcool glicerinado, se não estiverem visivelmente sujas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ra o kit de suturas pela parte externa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 pinça de Kocher segurando-a com ajuda do papel do campo e coloque-a no bordo do campo estéril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559D-612A-4667-8F1A-8F8E9D03D18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lce as luvas 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irurgic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 pinça de dissecção com ajuda da primeira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uma compressa e dobre-a em 4 partes fixando-a na pinça de Kocher com ajuda da pinça de dissecção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B830-86B9-4351-9FC7-B3A2144D4B4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beba a compressa com a solução fisiológica e desinfecte a ferida; repetir esta operação até a ferida ficar limpa mudando sempre a compress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oque o campo aberto por cima da ferida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ra a carteira da linha de sutura e deixe cair a linha no tabuleiro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7D68-94DB-4F17-B31D-46004842AB8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gue na pinça de Kocher com a mão direita; fixe a agulha e pegue a pinça de Dissecção com a mão esquerd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 a pinça de Dissecção fixe o bordo direito da ferida, puncione-o com agulha e puxe a linha até ficar 1cm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B8B1-EAF2-4881-90DD-F6168B6A602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rola a linha na pinça porta-agulha;com a mesma pinça pega na ponta inicial da linha e faça o nó ;corte a linha deixando cerca de 0,5cm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ça a mesma técnica noutro bordo e assim sucessivamente até terminar a sutur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nfecte e seque a ferid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8629-A2DB-4084-B594-88A9919033B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E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ça o penso simples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s luvas de procedimento e deite-as em recipiente com saco plástico para lixo infeccios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e as mãos com água e sab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giste o procedimento no Diário de Enfermagem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BE2A-E30F-458B-88B8-CFAF9404079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 usar agulha embutida, ter o cuidado de não apertar com a pinça porta-agulhas a extremidade da agulha onde o fio funde porque é zona oca, porque pode-se parti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mpre que se quebrar uma agulha deve-se certificar se todos os pedaços foram retirados.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6678-23B0-46E3-AA69-B317B831440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al de Cirurgia para Técnico de Cirurg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 :  Vaz,Fernando. Moçambiqu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al de Enfermagem Cirúrg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: Instituto de Ciências de Saúde de Maputo.Moçambiqu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tado de Enfermagem Médico-Cirúrg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: Brunner Suddarth. Brasi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tora Lusodidactica, Lisboa, 1998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6C7B-CDE7-41A5-8142-FE619FDF746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s compentênci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Aplicar os conhecimentos aadquiridos ao planificar,executar e avaliar os cuidados de Enfermagem, baseados no diagnóstico realizado,visando a satisfação das necessidades do utente do fóro médico-cirúrgic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Orientar os utentes e a família sobre os cuidados a prestar no pré e pós operatório e prevenção das complic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 Black"/>
                <a:ea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BE22-E04F-41E1-B86B-6AB4D0EE6D5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SUTUR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UTURA-É a aplicação de qualquer material com o fim de aproximar os tecidos, mantendo-os cosidos até que a cicatrização se conclu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io de sutura e um material flexivel incerrido atraves dos tecidos (com o uso de uma agulha) para aproximar as suas extremidades e diminuir o espaco morto. (Sorensen e Luckmann, 1998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FF80-1360-45B7-9FAC-13465C394EF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S SUTUR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POS DE SUTUR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xistem dois tipos de suturas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Suturas contínuas-São aquelas em que o fio é consecutivo sem sofrer nenhum corte, desde a primeira extremidade até à outr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Suturas separadas-São aquelas em que os pontos  são separados um do outro, com o corte constante do fio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7A7B-DF8B-4B33-B0E0-B5FF77D2A0B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SCOLHA DO F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actores que influenciam a escolha do fio são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empo desejado para que os fios permaneçam no organismo e se serão ou não absorvid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po de tecido a ser suturado. Alguns tecidos absorvem o fio mais rapidamente que outr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stado nutricional do paciente (Mal nutridos, anémicos mais obesos) e Idade (mais idosos) absorvem com dificuldades os tecido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88B5-E13C-4661-A71B-5AD05E96CD3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 ESCOLHA DO F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fios são também absorvidos com dificuldade onde houv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Infec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Muitas secre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Muita humidad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4C32-E777-4923-B86B-43D4D026FEE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podem ser classificados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Quanto à sua origem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 Quanto à sua absor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Quanto à sua origem podem ser divididos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 Origem anima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-como por exemplo a seda, tendões de animais, crinas,catgut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9E53-CF02-45E2-8CF5-0A202ED98FF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A CLASSIFICAÇÃO DOS FIOS 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) Origem  Veget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Nylon, polieste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) Origem Miner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fios de aço, de alumínio, de prata, de platina, de cobre etc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gency FB"/>
              </a:rPr>
              <a:t>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5D8-4724-4909-9EBA-E218180AE4E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48:33Z</dcterms:modified>
  <cp:revision>842</cp:revision>
  <dc:subject/>
  <dc:title>ANATOMIA E FISIOLOGIA HUMANA</dc:title>
</cp:coreProperties>
</file>