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6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D4A-0188-4260-AAA8-C04ECB1CA7A6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793-5EFA-428F-8AAC-F44EAB41EF1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0C8-77B3-40C9-9855-D08517DB964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D191-B969-48E7-BC7F-7C11A7B01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E6B9-D23E-4B6A-8CBA-C393D19B3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25D1-6960-41C3-8701-50A2971D8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532D-3D89-4FD5-AD8C-749937CC1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C0B8-5A18-48E3-AF88-6501B26E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85BB-E77E-4BD1-8547-402F19F74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658EC-3AA9-4C6F-B0A4-295064D4B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FCAD-A466-405D-8447-00E9A7ECE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32B3-03D1-44B6-BCD9-5A9627658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DF32-C815-4228-A3F3-1FC2D5C4C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B579-5219-4A88-A201-9FCB8064A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11FA-D4EA-442B-85ED-629F12381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AFEE-3CE2-4788-8DD3-42B97FF1C5A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IDADOS DE ENFERMAGEM NO TRANS-OPERATO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B-MODULO 0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ATICA DE ENFERMGEM II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143000"/>
          <a:ext cx="8381880" cy="4754520"/>
        </p:xfrm>
        <a:graphic>
          <a:graphicData uri="http://schemas.openxmlformats.org/drawingml/2006/table">
            <a:tbl>
              <a:tblPr/>
              <a:tblGrid>
                <a:gridCol w="1600200"/>
                <a:gridCol w="3048120"/>
                <a:gridCol w="3733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normalmente s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huma anomalidade sistémica sem infecção,feb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doença sistémica le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tensão controlada, diabetes, bronquite crónica obesidade idade superior a 80 an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doença grave sistém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nça grave insuficiência cardíaca compensada a mais de seis meses, angina pectoris arritimia grave, cirose diabetes ou hiperten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EF9B-0519-436C-91EE-7EA0CE6A808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143000"/>
          <a:ext cx="8381880" cy="4664160"/>
        </p:xfrm>
        <a:graphic>
          <a:graphicData uri="http://schemas.openxmlformats.org/drawingml/2006/table">
            <a:tbl>
              <a:tblPr/>
              <a:tblGrid>
                <a:gridCol w="1447920"/>
                <a:gridCol w="3809880"/>
                <a:gridCol w="312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 doença sistemica incapacitante que é uma ameaça a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iciencia cardíaca congestiva grave, enfarto de miocardio a mais de seis meses, insuficiencia respiratoria, renal grave, doenca hepatica grave avançad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morbundo sem expectativa de subreviver mesmo com cirurg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inconsciente com lesão craneana traumatica e ritmo cardiaco agon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3C1-7886-4EB6-9B8B-7C4CB16BE5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56AF-27A9-467A-B0B6-873D7259768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MISSAO DO PACIENTE </a:t>
            </a:r>
            <a:br>
              <a:rPr sz="2800"/>
            </a:b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       NO BLOCO OPERATORIO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Cont.)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sta fase o enfermeiro deve verificar o cumprimento da preparação feita ao paciente no pré-oper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ricar o cumprimento do protocolo especific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e cada especialidade cirúrgica e do procedimento a que o paciente será submet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 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46784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CÃO DA SALA CIRÚRGICA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jectivo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r os artigos, equipamento necessarios, para proporcionar o desenvolvimento do ato anestesico-cirurgico em ambiente fisico e humano a que o paciente tenha dir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ponsabilidades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responsáveis destas actividad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cnicos de Enfermag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são eles  que  preparam  diariamente as salas de operações  seguindo  os  padrões  estabelec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ores de Enfermagem  garantem a preparação adequada da sala de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EBDC-2895-44FC-A18C-1D6130BC87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152640"/>
            <a:ext cx="746748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ÇÃO DA SALA 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equipa de Enfermagem todos os dias dev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a sala de cirurgia verificando os equipamentos, materiais e realizar a desinfec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ocar o equipamento em posição funcion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r as mãos antes e depois de preparar a sala de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ff"/>
                </a:solidFill>
                <a:latin typeface="Arial"/>
              </a:rPr>
              <a:t>Calç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luvas de procedimen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nfectar as superificies de equipamentos,( foco cirurgico, central e auxiliar, mesa cirurgica, mesa auxiliar,suportes, bancos giratorios, braçadeiras, estrados e escada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AE6B-01F6-4CDA-B191-538C9489638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ÇÃO DA SALA CIRURG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irar as luvas, lavar as mãos e iniciar a arrumação da sala de cirurg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o equipamento para monitorização cardíaca, oximetria, pressão arterial e  temperatu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 funcionamento dos aparelhos eléctricos, como: monitores, aspiradores, gerador eléctrico cirúrg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e de gases medicinais( oxigénio, óxido, ar comprimido e vácu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e"/>
                </a:solidFill>
                <a:latin typeface="Arial"/>
              </a:rPr>
              <a:t>Verificar</a:t>
            </a:r>
            <a:r>
              <a:rPr b="0" lang="en-US" sz="2400" spc="-1" strike="noStrike">
                <a:solidFill>
                  <a:srgbClr val="00005e"/>
                </a:solidFill>
                <a:latin typeface="Arial"/>
              </a:rPr>
              <a:t> os artigos do carrinho de anestes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r o funcionamento da luz de todas as posições da mesa de cirurgia e seus acessó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a mesa cirur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2C97-D737-4AD2-80C7-6937FFCB0E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 NO BLOCO OPERA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jectiv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Garantir uma circulação eficaz de profissionais de saúde e pacientes, com segurança e de acordo com as necessidad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iona articulando com outros sectores dos cuidados intensivos e intermed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Bloco Operatório,  deve estar localizado numa área que ofereça a segurança necessária às técnicas assépticas, distante de locais de grande circulação de pessoas, de ruído e de poeira, deve estar próximo das unidades de </a:t>
            </a:r>
            <a:r>
              <a:rPr b="0" lang="pt-BR" sz="2400" spc="-1" strike="noStrike">
                <a:solidFill>
                  <a:srgbClr val="1818ff"/>
                </a:solidFill>
                <a:latin typeface="Arial"/>
              </a:rPr>
              <a:t>internamen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, pronto-socorro e dos cuidados  intensiv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FDA-C3AF-446C-93FC-0C8A02CAD54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UXO NO BLOCO OPERATORI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6094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o Bloco operatorio, devem fazer  parte  a sala de recobro, pós-anestésica e a central de materiais e esterilização e vestiá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Área de confor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Área destinada as refe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os cirurgiões e anestesiologistas:(para elaboração de relatórios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Enfermagem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administrativa deve estar em local de fácil aces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recepção dos pacie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material de limpez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para guarda de equipa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la de gases medicin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A81-4A5F-4B9D-A0BD-4AD56A122E9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VAGEM CIRURGICA COMUM DAS MAOS (Ver a recomendação da O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bjectivo;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lhorar as praticas de higiene das maos nos profissionais de sau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zir a transmisão cruzada de microorganismos patogénicos entre pacientes e profissionais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lavagem das mãos é um procedimento muito importante na prevenção e controlo das infecções hospitalares. A pele das mãos apresenta  flora bacteriana que se divide em duas part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D625-1D41-482B-A708-3D3B5F81EEB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ra Transitoria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é constituida por microorganismos que vivem temporariamente na pele podendo ser patogenicos ou não; são adquiridos por contacto com ambiente, equipamentos material contaminado, e com pessoas ( pacientes colonizados infectados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ra Residen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 constituido por microorganismos normais da pele encontrando-se localizados na epiderme onde  multiplicam-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lavagem das mã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é um procedimento que consiste em esfregar vigorosamente ambas superficies das maos incluindo os dedos, punhos , o enxaguamento com agua corrente, prestando maior atenção com as unhas que devem ser curtas, as zonas interdigitai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A2C-9816-4965-B9A7-87D46B67DA4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B09-991E-4DC1-85E0-CD3DB5E06F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Admitir o paciente n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o fluxo correcto do pessoal dentro d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que a lavagem cirúrgica das mãos seja feita com rigor pelos profissionais indic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o acesso de roupa devidamente preparada para 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Apoiar a outros elementos da equipe na realização de outras actividades quando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Transferir o paciente operado com segurança ao reco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Monitorar e efectuar os registos dos procedimentos efectu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024D-0DF1-46A8-BCBA-C969D3D12A9D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19320" y="8380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studante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657600" y="13716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vagem Cirúrgica das mao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 um procedimento que visa reduzir o risco de contaminação da ferida cirurgica pela remoção ou destruição dos microorganismos transitoria, redução ou inativação da flora residen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ara melhor eficiência do procedimento o profissional de saúde dev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mover todas as joias e relogios,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er unhas aparadas, nao usar unhas posticas, e sem esmalte,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sar escovas macia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terial basico a ser usado na lavagem cirurgica das ma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gua em sistema que aciona o pedal com o pe,cotovelo ou joelho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sar sempre que possivel o sabão liquid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59D-F415-42C0-A17A-B0D1FD861B2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suir  a toalha de papel individ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ar escovas individuais e estereis, compressas solução alcool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imento da lavagem cirurgica das mã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bra a torneira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m usar as mão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molhando as mãos antebracos e cotovel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loque a solução detergente anti-septica e espalhe-a nas mãos e antebrac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gue uma escova esterilizada e escove as unhas, dedos, mãos e antebracos, nesta ordem, sem retorno, por cinco minutos, mantendo as mãos em altura superior aos cotovel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40A-FA65-47B7-B44E-947BE1007A7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)  Use para as maos e antebracos o lado da escova nao utilizada para as unhas ( no caso de a escova ter so um lado, use duas escovas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)  Detenha-se nos sulcos, pregas e espacos interdigitais, articu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l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es e extermidades dos dedos, com movimentos de fricca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ague os dedos, depois as maos deixando que a agua caia por ultimo nos antebracos que devem estar afastados do tronco, de forma que a agua escorra para os cotovelos, procurando manter as maos em plano mais eleva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ue as maos com compressas estereis, que devem vir dobradas em quatro partes, enxuguando-se primeiro uma das maos com outro lado enxugua-se a outra. Coloca-se estes lados um de encontro  ao outro, de forma a obter outros lados estereis . Enxugua-se um antebraco. Vira –se a compressa na face interna. 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E40-4D13-4EE4-A13B-5DEECFD32D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ue as maos com compressas estereis, que devem vir dobradas em quatro partes, enxuguando-se primeiro uma das maos com outro lado enxugua-se a outra. Coloca-se estes lados um de encontro  ao outro, de forma a obter outros lados estereis . Enxugua-se um antebraco. Vira –se a compressa na face interna. 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) Aplique a solucao alcoolica do anti-septico utilizado, deixando-a secar antes de calcar as luva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39A7-955C-45A7-9D12-AEF9AA4EA3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O DA ROUPA CIRU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 Bloco operator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 um lugar especial dentro do hospital,preparado segundo um conjunto de requisitos que tornam apto a pratica de cirurgi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 um sector do hospital onde se realizam intervencoes cirurgicas, visando atender a resolucao de intercorrencias cirurgicas, por meio da accao de uma equipa integrad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o realizadas tecnicas estereis para garantira seguranca do paciente quanto ao controle da infecca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r ser um local restrito, o acesso ao publico e limitado, ficando restrito a circulacao dos profissionais que ai trabalham, para garantir o controle da assepsi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F95-D332-43E3-9034-3128FEC588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O DA ROUPA CIRUGICA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bloco operatorio divide-se em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e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r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na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rita-nesta zona os profissionais de saude podem circular livremente, com roupas propri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ea semi-restrita-e a zona em que permite a circulacao de pessoal e de modo a nao intervir nas rotinas de controle e manipulacao da assepsia da area restrita ( sala de estar e de preparacao de material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area restrita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em da roupa propria da sala de cirurgia deve ser usadas mascaras e barretes conforme as normas da unidade e as tecnicas assepticas devem ser utilizadas de maneira rigorosa, afim de diminuir os riscos de infeccoes ( salas de cirurgias, lavabos, salas de recuperacao pos-anestesica e corredores interno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0F34-2C93-4461-8341-8370A9CE29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CAO DE INSTRUMENTOS CIRURGIC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Objectivos;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Garantir  a segurança da esterilização dos instrumentos cirurgicos, para o melhor  atendimento aos pacientes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ermitir a gestao e  coordenação das instrumentos medico-cirurgico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porcionar  o material esterilizado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odo hospital?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mover a interação entre as áreas: expurgo, preparo e montagem de instrumento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dequar as condições ambientais às necessidades do trabalho na área; 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ver materiais e equipamentos  necessario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eparar, limpar, processar e distribuir  os artigos e instrumentos  médico-cirurgicos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7C6-3E54-48FE-9D03-2B56FB5AEAF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cacao de Instrumentos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Instrumentos podem ser agrupados em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mentos de Dierese sa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sturis e tesour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mostas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a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ncas hemostaticas de divesros tipos e tamanho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tes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o;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nca porta-agulhas, pincas sem dentes e de rat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mentos  Especiais;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o utilizados em determinados tempos de cirurgia especializada, exemplo: (Costotomos, rugina, pincas de alli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209-75C5-4138-9AC7-134F103DCF4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ESTE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, e um estado de narcose depressivo do sistema nervoso central, produzido por agentes farmacologicos, analgesias, relaxamento e perda de reflex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f"/>
                </a:solidFill>
                <a:latin typeface="Arial"/>
              </a:rPr>
              <a:t>TIPOS DE ANESTESI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s anestesias dividem-se em dois grandes grupos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 Geral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, os seus efeitos suspendem a sensibilidade em todo o organismo, e usada quando o anestesico e inalado ou administrado por via endovenos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Os agentes anestesicos inalados sa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Liquidos volateis e gases anestesicos,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produzem anestesia quando os vapores sao inalad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anestesicos gerais produzem anestesia na medida em que ao administrar no organismo, vai atingir o cerebr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B5D3-F7AD-404C-9606-E4B8E8FD0E5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todos de administracao,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anestesicos liquidos sao administrados por uma mistura de vapores com oxigenio ou oxido nitroso, fazendo o paciente inalar a mistur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stagios da anestesia geral,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divide-se em quatro partes, cada um e associado com manifestacoes especificas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s bloqueadores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(narcoticos neurmusculares relaxantes) sao administrados ,varios estagios desaparecem?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818ff"/>
                </a:solidFill>
                <a:latin typeface="Arial"/>
              </a:rPr>
              <a:t>Quando sao administrados narcoticos e bloqueadores neuromusculares, varios estagios de consciencia estao ausen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6BD-D35B-418B-B3BB-3F131E32DA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EQUIPA CIRURGICA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da sala de operação é responsável pela segurança e bem-estar  do paciente, coordena o pessoal da sala de operações   pelo desempenho das actividades dos enfermeiros instrumentistas   e circulante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á preocupado com estado emocional do paciente e continua a prestar o cuidado iniciado pelos enfermeiros no pré-operatorio, oferecendo ao paciente informação e tranquilizá-lo, monitorar os factores que possam provocar  lesões resultantes do mau funcionamento dos aparelho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7335-831C-4AC5-A5A0-D50DC13C38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GIOS DE ANESTES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eiro Estagio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icia a anestesia (analgesia), quando o paciente respira a mistura anastesica,com uma sensacao de calor, tonturas; o paciente pode ouvir ruidos, tilintar, roucos nos ouvidos, pode estar atento mesmo incapaz de mover-s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undo Estag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racteriza-se por uma agitacao, grito,conversacao, cantar, rir ou chora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tornam-se dilatadas e contraem-se quando expostas a luz, a frequencia cardiaca e rap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ceiro Estag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anestesia cirurgica, e obtida pela administracao continua de vapor ou gas, o paciente fica inconsciente deitado imovel sobre a mesa cirurg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tornam-se reduzidas e contraem-se com a luz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CE3-0D2D-4C8D-8EC8-FAB9B030F6E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respiracoes sao regula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 frequencia e o volume do pulso sao norm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rto Estagi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caracteriza-se por depressao medular, e alcancada com administracao de muitos anestes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respiracoes tornam-se superficiais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ulso e fraco e fino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dilatam e nao se contraem mesmo com a presenca da luz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786-E585-4F61-B157-A89BFF12F0B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 Local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seus efeitos suspendem a sensacao em partes do organism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nestesia lo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g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pidural ou Medul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C61-617D-4D0B-9F81-06523EDB3DE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CIONAMENTO DO PACI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osicao ideal para o paciente na mesa cirurgica depende do procedimento cirurgico a ser submetido, assim como a condicao fisica do pacien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otencial para um conforto transito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u mesmo lesao permanente, e evidente porque muitas posicoes sao estranhas, hiperestendem as articulacoes, comprimem as arterias ou pressionam os nervos e proeminencias oss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principais posicoes sa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cubito dors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aciente e colocado nesta posicao quando e para uma cirurgia e laparotomia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ndelenburg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totomica, o paciente esta estendido sobre o bordo da ca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cubito later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4B2-6606-4EAB-BF28-289E2081D2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-SEPSIA CIRURGIC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 um procedimento que visa evitar a contaminação das feridas cirúrgicas,que possa ser provocada pela flora cutanêa natural, ou por uma infecção presis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equipa da sala de cirurgia tem responsabilidade de utilizar os principios assepticos para reduzir os risc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aisquer instrumentos, agulhas, suturas, curativos, luvas,campos cirurgicos e soluções que entrarem em contacto com a ferida cirurgica e os tecidos expostos devem ser esterilizados antes do seu u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cirurgião, os seus assistentes, enfermeiros devem se preparar lavando as mãos, bracos com água e sab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ar roupas apropriadas de mangas compridas, luvas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ere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A83-146A-40CE-9377-8108F2A652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-SEPSIA CIRURGIC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cabeca e o cabelo, ficam cobertos de barrete, mascara cobre  o nariz e a boca, para reduzir a possibilidade de bacterias do trato respiratorio penetra na fer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a area da pele do paciente exposta, deve ser lavada e aplicada uma solucao anti-septico e coberta com campos estere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22F-FABB-44BF-B159-452382A24D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em acompanhar  o paciente durante a sua estadia na sala de operações, devendo a enfermagem estar atenta a todas as alterações que poderão surgir e atuar na recuperação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visita prè-operatória è um recurso usado para levantar todos os dados sobre o paciente cirurgico por intermedio dos quais detecta os problemas ou alterações relacionados aos aspectos biopsico-socio-espirituais do paciente e planear a assistência de enfermagem a ser pres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  o aumento das complicações no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pre pos-operatori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enfermagem deve ter conhecimento suficiente pela actividade intra-ope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B6E6-5704-4B39-9E70-AC2318DD8E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mportância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dados ou informações levantados oferecem subsidios para a identificação de problemas ou alterações biopsico-socio-espirituais do paciente e podem influenciar no procedimento anestesico-cirurgico como na reabilit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porcionam a realização do planeamento de assistência continua de enfermagem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erece a oportunidade de o enfermeiro  dialogar com paciente orientando, esclarecendo as dúvidas e estabelecer um clima de confia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97AF-AB5F-4975-B1BB-7506102E4D5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IO AO PACIENTE DURAN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OCEDIMENTO CIRURG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m deve fazer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a actividade è feita por enfermeiro que sej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rdial, que saiba ouvir atentamente, compreens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enha disponibilidade, que se mostre preocup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ereca  seguranç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tenha conhecimentos cientificos e de enfermagem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respeite as crenças espirituais e valores cultur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de informações capazes de ajudar na irradiação ou diminuição dos desconfortos emocionai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3C58-1A9E-42CF-A096-4B94E47BA4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Unidade Cirúrgic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o enfermeiro deve completar o històrico prè-operatório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rdenar o ensino ao paciente com outros membros da equipa de enfermagem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plicar as fases do periodo perioperatorio e suas expectativas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envolver um plano de actividades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F53-5ED5-45EA-A6A9-55AC4C3859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 EQUIPA CIRÚRGIC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circulante deve ser  técnico capaz de promover a segurança dos paci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ar as actividades dos membros da equipa cirúrgica, verificar as condições funcionais da sala de oper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ponsabilidades específicas do enfermeiro circula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erificar o consentimento do paciente em relação a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rdenar a equipa de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arantir a limpeza, temperatura, humidade, iluminação adequada a sala de oper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9350-6C4D-4060-B9D2-FEB04FD3692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sala de cirurgia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valiar o nivel de consciênçia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visar os regis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dentificar 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inar a area a ser opera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poio psicologico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ormar o paciente sobre o que esta acontecen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valiar o estado psicológ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venir estimulos nociv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unicar sobre o estado emocional do paciente aos membros de enfermagem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82C2-5970-429C-A1B7-FC7962EE7D3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fase intra-operatorio,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utenção da seguranç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sicionar o paciente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inhamento funciona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posição da area cirurgic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utencao da posição durante o procediment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porcionar apoio fisico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gurar que a contagem de gazes/compressas, agulhas e instrumentos esta correta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266A-BB0A-4173-934D-FBB6A728A7D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retirada de todas as barreiras protectoras das superficie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tirada do Equipamento de Protecção Individual, colocar no local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arte dos Perfuro-cortantes (agulhas, bisturis), devem ser colocados em recipientes rigidos ( caixas incineradoras ou balde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descarte do lixo contaminado ( gaze, algodão), è feito na lixeira com respectivo saco plas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campos cirurgicos, são descartados em sacos próprios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97F-1372-4193-A546-F0B7EDCEEA8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o descartar o material perfuro-cortante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os materiais, todos os objectos e instrumentos contendo cantos e bordas pontos ou protoberancias rigidas e agudas capazes de cortar e perfurar ao mesmo tempo, precisam de descarte especial para que nao tragam riscos ao ambiente, ao usuario e nem compromentam a biossegurança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68F-819C-4CD7-ABC3-917A6264B0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descarte deste tipo de material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 tema do procedimento operacional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ipos de perfuro-cortant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,inclu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minas de barbear,bisturis,agulhas, ampolas de vidro,lancetas e outros semelhantes,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66DB-F8B4-4B8E-AF2B-3F95798A664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arte Seguro de Lix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assificacao </a:t>
            </a:r>
            <a:r>
              <a:rPr b="0" lang="en-US" sz="36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dos perfuro-cortantes lixo;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urpo “A” Residuos Biologic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 “B” Residuos Quimicos;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”C” Radioativ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”D” Lixo Comum(papeis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“E” Perfuro-cortant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Grupo “F” Lixo infeccios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3ED-1E17-4F32-B813-2A17B74B01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apas do Descarte Seguro de Lixo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imeira Etapa: Segregação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separação  ou selecção apropriada dos residuos, realizada dentro do próprio local do proced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gunda Etapa :Tratamento preliminar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descontaminação dos residuos (desinfecção ou esterilização), por meios quimicos ou fisicos, que permite o seu manuseio desses residuos até a sua destruição sem oferecer risco quando colectados e transpor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C6AE-3060-4B84-B761-A90D32466C7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erceira Etapa: Descarte;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pós a descontaminação os residuos devem ser colocados nos locais ou recipientes apropriados com tampas, devidamente identificadas com simbolo apropriados,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; ( Lixo contaminado).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276-034F-48B7-B18B-DBA2EAE4EB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arte Seguro 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 caixa de descarte deve ser fechada e manipulada com cuidado, no caso de contaminacao por agentes que devem ser acondicionados dentro de saco prop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Recomendaçõ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ao quebrar, entortar ou reencapar agulhas qualquer material perfuro-cortantes apos o u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ao retirar manualmente a agulha da seringa, caso seja indispensavel sua retirada so e permitida utilizando-se procedimento mecan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o caso das seringas de vidro, é necessário levar a seringa juntamente com a agulha para efectuar o processo de descontaminaca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D086-7A40-4E88-8C22-47FC86AB27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arte Segur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 necessario descartar o material em recipientes de paredes rigidas, com tampa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recipientes devem ser identificados com etiquetas autocolantes, com as seguintes informa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scrição de material perfuro-corta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scrição de acordo com a contaminaçõ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imbolo de risc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Os residuos e as caixas incineradora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vem ser preenchidos somente ate dois terços de sua capacidade, nao podendo ser esvaziados ou reaproveitad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A1E0-D070-4A5D-9CE7-722B7E3F69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EQUIPA CIRUR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cionamento seguro do equipamento da sala de operações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ponibilidade de materiai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ar o paciente e registar as actividades ao longo do procedimento e bem-estar do paciente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49D4-6D80-4128-A43A-516D5C4D23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ENCIA DO PACIENTE PARA O RECOB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Recobro/Sala deRecuperacao de anestesia 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E a sala onde os pacientes sao conduzidos imediatamente apos a realizacao do acto ciru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gency FB"/>
              </a:rPr>
              <a:t>Objectivos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Controlar melhor a recuperacao da sua consciencia e das suas funcoes vita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E formada por uma sala ampla onde sao colocadas camas especi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O responsavel pela sala de recuperacao e </a:t>
            </a:r>
            <a:r>
              <a:rPr b="0" lang="en-US" sz="2000" spc="-1" strike="noStrike">
                <a:solidFill>
                  <a:srgbClr val="ff0000"/>
                </a:solidFill>
                <a:latin typeface="Agency FB"/>
              </a:rPr>
              <a:t>a equipa  cirurgica </a:t>
            </a:r>
            <a:r>
              <a:rPr b="0" lang="en-US" sz="2000" spc="-1" strike="noStrike">
                <a:solidFill>
                  <a:srgbClr val="1818ff"/>
                </a:solidFill>
                <a:latin typeface="Agency FB"/>
              </a:rPr>
              <a:t>o anestesis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O paciente permanece nesta sala ate a recuperacao completa da consciencia e das suas funcoes  vitais. A alta da unidade deve ser dada pelo anestesista responsave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gency FB"/>
              </a:rPr>
              <a:t>Prestar ao cliente todos os cuidados necessários até a recuperação de seus reflexos e estabilização dos sinais vitai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707-7C5C-48E9-A8C5-6A290AF8D10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ENCIA DO PACIENTE PARA O RECOB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pós-operatório imediato tem seu início na sala de recuperação pós-anestésica para onde é levado o cliente pós-operado, ainda sob efeito da anestesia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paciente recebe acompanhamento direc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to, e depois da estabilização de seu estado, tem alta dessa unidade e é levado para o seu leito de orig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ocedimentos de rotinas na sala de recuperação pós-anestésico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xigen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terapia;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Monitorização clínica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bservar cor da pele e mucosas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Padrão respiratório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angramentos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ível de bloqueio sensitivo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Globo vesical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Força muscular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gency FB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F26-9558-4DA5-B7D7-BAA2A5C1A48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pamento d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teccao Individual (EPI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 EPI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o  todos os dispositivos ou produtos de uso individual utilizado para a proteccao de riscos susceptiveis de ameaca, seguranca e saude do trabalhador  durante um determinado procediment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s servicos devem fornecer e exigir que o tecnico de saude use o  Equipamento de Proteccao Individual (EPI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tecnico de saude deve usar o EPI, para o fim a que se destina,trocar sempre que estiver danifica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Limpar e conservar depois de qualquer procedimento.(Descontaminar ou descartar) VER AS NORMAS DE PC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E568-84D6-4BFF-8F27-CE55D837DF2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pamento d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cao Individu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b050"/>
                </a:solidFill>
                <a:latin typeface="Arial"/>
              </a:rPr>
              <a:t>VER AS RECOMENDACOES DE PC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 de Equipamento de proteccao  Individual (EPI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v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sca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ul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rre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idados a ter com EP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r,Secar e Guardar em lugar seguro depois de proced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BB3D-5FE8-4441-888C-0F8C8FE660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ECESSARIO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quipamento, Monitores, Negatoscóp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quipamentos móveis,  suportes para soros, baldes para lix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Mesa cirúrgica, mesas auxiliares, mesa de mayo, mesa de instrumentacao, suporte de hampers,, escadinha, aspiradores, aparelho de anestesia, bisturi elétrico, carro de anestesia.  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5817-5BF1-45AD-8E79-3F2549CAF1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NECESSARIO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Roupas para paramentação, campos operatórios, compressas,  instru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oluções, pomadas, material para curativo e sor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ios de suturas, agulhas, sondas, cateteres, próteses, seringas, luv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3BDD-94EA-4B6D-A545-0BECDCCE5B5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alizar uma breve leitura do prontuário ou das recomendações de enfermagem vindas do sector da sala de cirurgia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Certificar-se sobre os dados de identificação do paciente e sobre a cirurgia a que ele será submetid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bservar se todos os cuidados pré-cirúrgicos relacionados ao procedimento foram devidamente realizados como: a administração de medicamentos pré-anestésicos (avaliando inclusive os seus efeitos )  e preparo do local ( tricotomia 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220-C331-4A7E-A0D0-C0D67F8539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erificar os sinais vitais do paciente, comunicando ao médico anestesista ou ao enfermeiro possíveis alter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ocar no paciente gorro e sapatilhas,as roupas de cama devem ser do próprio cent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Manter uma recepção calma, tranqüila que traga confianca e segurança a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ar o comportamento do paciente em relacao a; confiança, ansiedade, insegurança, agressiv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A6E-F968-426A-9BB3-EB7E34422C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ermanecer na sala com o paciente ate recuperar as funcoes vi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sinais vitais de 15 em 15 minutos, depois de 30 em 30 minu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oxigenação, estimulando o movimento respi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ar ocorrência de vômitos, lateralizar a cabe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Limpar vias aéreas e aspirar se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273-A051-453F-AFC8-E809EB951E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Manter vigilância, manter curativo limpo e se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Tomar medidas para aliviar a d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alizar balanço hídr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roporcionar conforto e seguranç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Informar a família sobre o estado do pacien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 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B3A-9ACE-4EB6-8D54-FC62227ABC8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 EQUIPA CIRÚ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sponsabilidade do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fermeiro Instrumetist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rumetação da cirurg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paração das mesas estéreis, suturas, ligaduras e equipamentos especi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oiar o cirurgião e seus assistentes durante o procedimento cirurgico, prevendo os instrumentos necessarios (compressas, drenos e outros equipament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9393-75A0-4C57-B515-3119270673F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ncias Bibliografic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nsinando a Cuidar de Clientes em situações clínicas e cirúrgicas. 6ª edicao. difusão editora, 275-289,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attorno, Escola de Formação Técnica Profissional Rosa. Manual Curricular para Formação dos Técnicos em Enfermagem, Módulo IV, 2ª Ed., 162-168, 2005.Brunner/Suddarth;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Tratado de Enfermagem Medico-Ciru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Setima Edicao. Volume 1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ditora; Guanabara Koog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321-96D1-4844-BB5F-A74459082FA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ar o tempo em que o paciente esta sob efeito de anestesia e o tempo em que a ferida esta aber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umerar as agulhas, compressas e outros instrumentos para se ter certeza de que eles foram contados para assegurar o bem-estar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tular as amostras e enviar ao laborato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D755-469B-4646-9CF7-48F9273F903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Anestesis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écnico de saúde treinado,qualificado e especilizado na área de anestesiologia, pode ser enfermeiro ou médico que administra anestesic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lia o paciente através da entrevist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ciona e administra o anestésic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ba o paciente e trata quaisqueres problemas relacionados com agente anestésic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ervisa a condição do paciente durante o procedimento cirúrgico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7C27-3D49-408E-A2B9-4B20BE95B89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tes do paciente entrar na sala de operações, o anestesista visita-o  para proporcionar-lhe informações sobr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anestesia a ser administra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cções pré-anestésicos e conhecimento das anomalias anatomicas que podem dificultar a intub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enfermeiro anestesista utiliza a escala de classificação da condição fisic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AB9B-8AE3-4737-B849-5873B2983D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Guest</cp:lastModifiedBy>
  <dcterms:modified xsi:type="dcterms:W3CDTF">2017-10-24T10:00:17Z</dcterms:modified>
  <cp:revision>971</cp:revision>
  <dc:subject/>
  <dc:title>ANATOMIA E FISIOLOGIA HUMANA</dc:title>
</cp:coreProperties>
</file>