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3BCD-4A23-44FE-AA43-D5797D148F7D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DBBA-396A-4794-B94A-B452D737C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8507-101A-4E82-BACA-797AC0500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6636-1775-45BD-85C4-7456AC3A1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1BED-6118-4BEE-9B17-62E4138AE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3CFD-598A-45C4-95C2-0D308F60B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89A59-0490-4A9E-926E-0B0A663FA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1AEDD-D440-42C1-A387-9BC74323D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29FB7-D847-4CA9-B428-13E5785DC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A34A-9FF1-4DC0-99A9-4907F23FA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AF52-F35E-423A-A256-DDC86F485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E947-88D0-4425-BCFC-3DA87AD68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30FF-0952-4FB0-913E-54B0D7945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92356-0906-4030-8062-530F59C68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04D6-2AC7-4004-B00B-DA0D62ED476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93057&amp;ST=SE&amp;franq=136426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067"/>
          <p:cNvSpPr/>
          <p:nvPr/>
        </p:nvSpPr>
        <p:spPr>
          <a:xfrm>
            <a:off x="32004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520" y="16002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uidados de Enfermagem na Alta do Utente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94920" y="4571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ulas 13/16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aterial necessári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rtão de identificação do paci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rtão de operação de for paciente de foro cirúrg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testado de hospitaliz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Guia de transferência para consulta externa de controlo ou seguimento pós alta (  se necessário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testado de doenç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ibo de pagamento de hospitaliz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Guia de alt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eitas médic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6AD4-247D-4913-A42D-D3C7A22E7A0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9140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Procedimento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Certificar-se da alta no processo clínico do paciente, que deve estar assinada pelo médic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Verificar no processo clínico as medicações ou outros tratamentos a serem feitos antes da saída do paci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Informar ao paciente sobre a alta, discutir com ele sobre a hora de saída e como será transportad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Entregar ao paciente a receita médica e orientá-lo devidam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Auxiliar o paciente a vestir-s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Reunir as roupas e seus pertences e colocá-los na mala ou sacol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BF4C-8B09-4ECA-90D7-EB2ACB162A3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Procedimento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Devolver objectos e medicamentos ao paciente, que foram guardados no hospit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Providenciar cadeira de rodas ou maca para transportar o paciente até o veícul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Transportar 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Preparar a unidade para receber outr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Fazer registos: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Data e horári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Condições de saída (deambulando, de maca ou de cadeira de rodas)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Procedimentos realizados e as orientações dadas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3296-DFD7-48A9-BC24-D2D115D27B1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dimentos para paciente cirúrgic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ormar o paciente sobre a sua alta, com antecedência, sempre que possí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tactar o serviço social quando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plicar o paciente com clareza sobre os cuidados no domicílio: dieta indicada, repouso se necessário, uso correcto de medicamentos, higiene geral e cuidados com a feri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rientar sobre a necessidade de fazer penso no centro de saúde e marcar consulta de controlo, se pertin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57F4-03F7-40BA-8234-E1E3F7E3A95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dimentos para paciente cirúrgic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ntregar ao paciente os seus bens que estavam na posse da enferma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videnciar o transporte do paciente em maca ou na cadeira de rodas, quando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ornecer a primeira medicação a ser tomada em casa, se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erificar se existirem dúvidas esclareça o paciente e/ou a familia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orneça a primeira medicação a ser tomada em casa, se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peça-se do paciente e seus familiar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5559-1E93-4605-86AF-414B4521AB8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dimentos para paciente cirúrgic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Registe a alta no livro conforme a rotina do hospita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ncaminhe o processo internamento do paciente à secretaria do serviço para procedimentos e arquiv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ovidencie a limpeza da cama ou unidade do paciente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Fazer registos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Data e horári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ondições de saída (deambulando, de maca ou de cadeira de rodas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Procedimentos realizados e as orientações dad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982C-BE2C-425E-A2B4-69A311F61EF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Conceitos e Habilidades Fundamentais no Atendimento de Enfermagem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–TIMBY K.BARBARA, 6º Ed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Enfermagem Fundamental Abordagem Psicofisiológica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SORENSEN e LUCKMANN, 3º Ed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Fundamentos de Enfermagem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  - POTTER PERRY 7ª ed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MISAU. </a:t>
            </a:r>
            <a:r>
              <a:rPr b="1" i="1" lang="pt-PT" sz="24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Guião de Procedimentos Básicos de Enfermagem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. Maputo – Moçambique, 2009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CBC4-3A6A-46F9-9111-96735B9EF9A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crever os tipos de  alta  hospital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onhecer as tarefas do enfermeiro no processo de alta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estar os cuidados de enfermagem na alta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&amp;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962520" y="19810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ceito de Alta Hospita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lta Hospitalar é o encerramento da assistência prestada ao paciente no hospital. O paciente recebe alta quando seu estado de saúde permitir ou quando está em condições de recuperar-se e continuar o tratamento em cas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alta consiste em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Obtenção de uma ordem escrita pelo médico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umprimento de instruções para a alt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Ajuda ao paciente para sair da unidade sanitári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Resumo das condições da paciente no momento da alt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omunicação ao pessoal para a limpeza e desinfecção do quarto após a saída do paciente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CE19-26A6-4060-B65F-25E842DCF03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Alta Hospita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curad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melhorad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inalterad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a pedido: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quando é solicitada pelo paciente ou sua família. Para este tipo de alta o paciente e/ou sua família deve proceder assinatura do termo de responsabilidade a ser arquivado no processo clín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condicional ou licença médica: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oncedida pelo médico em datas comemorativas, sendo necessário que o cliente assine um termo de responsabilidade antes de sair da unidad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4D39-4A4B-4EBF-A855-D6396D10961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Alta Hospita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1818ff"/>
                </a:solidFill>
                <a:latin typeface="Arial"/>
              </a:rPr>
              <a:t>Alta por indisciplina ou compulsiva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mposta pela equipa devido aos comportamentos do paciente incompatíveis com a convivência hospitalar, exemplo: roubos, agressão, etc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1818ff"/>
                </a:solidFill>
                <a:latin typeface="Arial"/>
              </a:rPr>
              <a:t>Transferência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siste na remoção do paciente de uma unidade para outra dentro da própria instituição ou para outras institui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1818ff"/>
                </a:solidFill>
                <a:latin typeface="Arial"/>
              </a:rPr>
              <a:t>Evasão ou Abandono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 paciente abandona as instalações hospitalares. Geralmente para estes casos deve ser comunicada a chefia da enfermaria e autoridades polici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1818ff"/>
                </a:solidFill>
                <a:latin typeface="Arial"/>
              </a:rPr>
              <a:t>Óbito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quela que ocorre por morte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D643-2B87-46A2-B7C0-38A95E71145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O enfermeiro  identifica na admissão do paciente o conhecimento e as habilidades este necessitará para manter um nível seguro de auto cuidado após a alt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Elabora um plano de ensino  durante a hospitalização do paciente na unidade sanitári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Revê o que o foi ensinado, orienta-o sobre os cuidados e aconselha-o a marcar uma consulta na data especificada pelo médic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Faz o resumo no diário de enfermagem, das condições do paciente na alta e das instruções dadas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rientações para a alta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1F90-9A86-44E1-BE1F-5936A4EFE79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ntes do paciente sair do hospital o enfermeiro deve  verificar junto ao sector administrativo se a conta de hospitalização foi pag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uxiliar o paciente na arrumação dos seus pertences, se houver lista de verificar para assegurar que nada ficou esquecid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omunicar os familiares para providenciar o transporte, ou ajuda-lo a chamar um táxi se ele  assim o desejar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oordenar com a Acção Social para providenciar o transporte para o paciente ( se for necessário)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rientações para a alta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2F63-FF5C-49B3-AC70-6BB88D393D5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440" y="11430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Conduzir o paciente em carrinho de rodas ou apoiá–lo a caminhar até a porta(se necessário)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Permanecer com o paciente na porta até que entre na viatura e esteja instalado com seguranç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companhamento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963A-943C-453A-A52A-FEE5606C6DA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684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Retirar os lençóis e cobertores da  cam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Desinfectar a cam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rrumar o quarto, ou a cama e deixar pronto para a recepção de outro paciente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Limpeza Fin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EE47-CD67-40EA-A0EB-7E035541CCF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INSTRUMENTACAO</cp:lastModifiedBy>
  <dcterms:modified xsi:type="dcterms:W3CDTF">2019-10-03T06:01:30Z</dcterms:modified>
  <cp:revision>675</cp:revision>
  <dc:subject/>
  <dc:title>ANATOMIA E FISIOLOGIA HUMANA</dc:title>
</cp:coreProperties>
</file>