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F27A-3E70-416C-939B-3E4EC6F93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8971-F05A-4F36-82EC-507FDAF91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3F42-452B-47B4-A9D8-972CF15FC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C054-7D86-4D31-8AF0-598711C35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727E-065C-43DB-83B2-C30335D53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E689-56E8-4795-A481-0A68C0AE5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972CD-D4CC-40FE-B5B3-9439407C6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32CEA-EFF6-4CD1-8938-5EBC6FC7C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5DD08-9ED3-41CC-9645-A0439A14D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0573D-353D-4E65-B8E4-802F9386A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05F22-4DB1-4466-ACD6-4D183C663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5BC56-1068-4AFE-9444-E08EA9ED4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DCFC5-7492-4D24-94DF-6AB5FE8A5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AFA47-19B3-48F0-B0EC-1E350EF72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3F00C-F284-41E2-A3FA-C0ABB8582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0500A-ABDF-47AC-A43D-4B6FAC777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E4ADE-D680-4B0E-B291-3E905E4B2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6A5DB-4FEC-4F26-89A8-5E5A86EC3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EAAC-D253-4FEC-A53F-6CEE95778C8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6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Jhpiego_logo"/>
          <p:cNvPicPr/>
          <p:nvPr/>
        </p:nvPicPr>
        <p:blipFill>
          <a:blip r:embed="rId2"/>
          <a:stretch/>
        </p:blipFill>
        <p:spPr>
          <a:xfrm>
            <a:off x="7772400" y="61722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57240" y="1593360"/>
            <a:ext cx="6623280" cy="262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ENFERMAGEM 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MÉDICO-CIRÚRG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86920" y="4572000"/>
            <a:ext cx="69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UBMÓDULO  12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UIDADOS DE ENFERMAGEM NAS EMERGENCIAS E URGENCI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 Black"/>
              </a:rPr>
              <a:t>Curso de Enfermagem Gera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LEG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Código Civil normatiza aquele que por ação ou omissão voluntária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negligência ou imprudência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violar direito ou causar dano a outrem, ainda que exclusivamente moral, comete acto ilícito, sendo obrigado a reparar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 da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ENDIMENTO INIC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objetivo principal deste atendimento é manter a vida do cliente e prevenir seqüelas, estabelecendo prioridades ante cuidados presta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atendimento se realiza antes mesmo do estabelecimento do diagnóstico, pois visa minimizar os efeitos dos agravos que colocam o paciente em risco de vi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gra básica do atendimento, conhecida como o  da assistência de emergência, prioriza três ações a avalia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nível de consciênci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Manter as vias aéreas desobstruída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reservar a respiração e a circul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ARAGEM CARDIORRESPIRATORIA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ragem Cardiorrespirató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000" y="2781000"/>
            <a:ext cx="83818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Causas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Respiratória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obstrução das vias aéreas, falência respiratóri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Circulatória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rritmias, IAM,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Distúrbios metabólico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cidose, alcalose, desequilíbrio hidreletrolític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Ação de droga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nestésicos, cloreto de potássio, intoxicação digitálica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entagon 3"/>
          <p:cNvSpPr/>
          <p:nvPr/>
        </p:nvSpPr>
        <p:spPr>
          <a:xfrm>
            <a:off x="826920" y="1341360"/>
            <a:ext cx="2554560" cy="935280"/>
          </a:xfrm>
          <a:custGeom>
            <a:avLst/>
            <a:gdLst>
              <a:gd name="textAreaLeft" fmla="*/ 0 w 2554560"/>
              <a:gd name="textAreaRight" fmla="*/ 2554920 w 255456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41" y="0"/>
                </a:lnTo>
                <a:lnTo>
                  <a:pt x="21600" y="10800"/>
                </a:lnTo>
                <a:lnTo>
                  <a:pt x="17641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Paragem Cardiorrespirat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4"/>
          <p:cNvSpPr/>
          <p:nvPr/>
        </p:nvSpPr>
        <p:spPr>
          <a:xfrm>
            <a:off x="3059280" y="1341360"/>
            <a:ext cx="2952720" cy="93528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6" y="0"/>
                </a:lnTo>
                <a:lnTo>
                  <a:pt x="21600" y="10800"/>
                </a:lnTo>
                <a:lnTo>
                  <a:pt x="18176" y="21600"/>
                </a:lnTo>
                <a:lnTo>
                  <a:pt x="0" y="21600"/>
                </a:lnTo>
                <a:lnTo>
                  <a:pt x="3424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Ausência dos batimentos Cardía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evron 5"/>
          <p:cNvSpPr/>
          <p:nvPr/>
        </p:nvSpPr>
        <p:spPr>
          <a:xfrm>
            <a:off x="5724360" y="1341360"/>
            <a:ext cx="2951280" cy="935280"/>
          </a:xfrm>
          <a:custGeom>
            <a:avLst/>
            <a:gdLst>
              <a:gd name="textAreaLeft" fmla="*/ 0 w 2951280"/>
              <a:gd name="textAreaRight" fmla="*/ 2951640 w 295128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6" y="0"/>
                </a:lnTo>
                <a:lnTo>
                  <a:pt x="21600" y="10800"/>
                </a:lnTo>
                <a:lnTo>
                  <a:pt x="18176" y="21600"/>
                </a:lnTo>
                <a:lnTo>
                  <a:pt x="0" y="21600"/>
                </a:lnTo>
                <a:lnTo>
                  <a:pt x="3424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Ausência da respi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26920" y="227664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Impossibilidade da oxigenação dos órgãos vit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de PC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341000"/>
            <a:ext cx="4259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Dificuldade respiratória </a:t>
            </a:r>
            <a:r>
              <a:rPr b="1" lang="pt-BR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 Paragem respiratória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Ausência de pulso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Perda de consciênci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Imobilidade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Palidez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Cianose de extremidades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Midríase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Picture 2" descr="http://2.bp.blogspot.com/-LolAgJXegv4/TbrJw7CKuYI/AAAAAAAAAXE/Cp98ku4Rec8/s320/MwKBT0sF_desfibrilador1.jpg"/>
          <p:cNvPicPr/>
          <p:nvPr/>
        </p:nvPicPr>
        <p:blipFill>
          <a:blip r:embed="rId1"/>
          <a:stretch/>
        </p:blipFill>
        <p:spPr>
          <a:xfrm>
            <a:off x="4932360" y="3357720"/>
            <a:ext cx="3768840" cy="282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http://t0.gstatic.com/images?q=tbn:ANd9GcQhz-JhCsYgtpMVGtV1GngxBnqk_POh2jAiPb-ScizqAkIXJP_jsA"/>
          <p:cNvPicPr/>
          <p:nvPr/>
        </p:nvPicPr>
        <p:blipFill>
          <a:blip r:embed="rId2"/>
          <a:stretch/>
        </p:blipFill>
        <p:spPr>
          <a:xfrm>
            <a:off x="4562640" y="1341360"/>
            <a:ext cx="2746080" cy="194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http://t3.gstatic.com/images?q=tbn:ANd9GcSDnp4Hx4Xax-GaSwMF6Jw1dZiEQrwqAS3CwGfJSyv8cBNQg8fWTg&amp;t=1"/>
          <p:cNvPicPr/>
          <p:nvPr/>
        </p:nvPicPr>
        <p:blipFill>
          <a:blip r:embed="rId3"/>
          <a:stretch/>
        </p:blipFill>
        <p:spPr>
          <a:xfrm>
            <a:off x="6515280" y="1341360"/>
            <a:ext cx="2628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par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980640"/>
            <a:ext cx="5267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Na Sala de Emergência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Tábua de massagem cardíaca,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edicamentos de atendimento de paragem cardíac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aterial de entubaçã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ondas de aspiraçã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mbu e máscar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oluções endovenosa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eringas + agulha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Equipos de solução venosa e sangue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parelho de desfibrilação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Balao de oxigeni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012000" y="1096920"/>
            <a:ext cx="2089080" cy="2979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5991120" y="4191120"/>
            <a:ext cx="225288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ssuscitação Cardiorrespirató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É um conjunto de manobras destinadas a garantir a oxigenacao dos órgãos quando a circulação do sangue de uma pessoa para paragem cardiorrespirato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Objectiv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Consiste na manutencao da via respiratoria pervia, fornecimento de ventilacao artificial por medidas de urgencia para respiracao e producao de circulacao artificial pela massagem cardiaca extern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ETAPAS DE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- Vias aereas(Airway)-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anter as vias aereas permeave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B- Respiracao (Breathing)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reservar a respiracao ( respiracao boca-boca, boca-mascara, ventilacao artificial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- Circulacao (Circulation)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garantir a distribuicao de nutrientes e oxigenio as celulas (pressao intratoraxic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142640"/>
            <a:ext cx="83818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 RCP inicia-se com os cuidados para a desobstrução das vias aéreas mediante a retirada de próteses, corpos estranhos e secreçõe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 seguir, são realizados os procedimentos de abertura das vias aéreas superiore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No caso de o utente não apresentar trauma, devemos hiperextender seu pescoço colocando uma das mãos sob sua nuca, levantando-a ligeiramente; com a outra mão posicionada sobre sua testa, traciona-se a cabeça para trás; ou pode-se colocar um coxim sob seus ombros, de forma a provocar a </a:t>
            </a:r>
            <a:r>
              <a:rPr b="0" lang="pt-PT" sz="2600" spc="-1" strike="noStrike">
                <a:solidFill>
                  <a:srgbClr val="c00000"/>
                </a:solidFill>
                <a:latin typeface="Arial"/>
              </a:rPr>
              <a:t>hiperextensão desejad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e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No final do modulo o estudante tera adiquirido as seguintes competencia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ferenciar emergencia de urge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ender o paciente e familia de forma humaniz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dentificar os sinais e sintomas das patologi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eleccionar o material e EPI necessario para execussao das tecnic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cutar os procedimentos correctament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egistar corretamente no processo do paci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755640" y="2494080"/>
            <a:ext cx="2457360" cy="27367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395280" y="52308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c00000"/>
                </a:solidFill>
                <a:latin typeface="Arial"/>
              </a:rPr>
              <a:t>1. </a:t>
            </a: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Avaliação da ví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3960720" cy="44384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"/>
          <p:cNvSpPr/>
          <p:nvPr/>
        </p:nvSpPr>
        <p:spPr>
          <a:xfrm>
            <a:off x="2124000" y="1054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c00000"/>
                </a:solidFill>
                <a:latin typeface="Arial"/>
              </a:rPr>
              <a:t>2. </a:t>
            </a:r>
            <a:r>
              <a:rPr b="1" lang="pt-PT" sz="1800" spc="-1" strike="noStrike">
                <a:solidFill>
                  <a:srgbClr val="00007d"/>
                </a:solidFill>
                <a:latin typeface="Arial"/>
              </a:rPr>
              <a:t>Obstrucao</a:t>
            </a:r>
            <a:r>
              <a:rPr b="1" lang="pt-PT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da via aé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pela língua e epigl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788000" y="544500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c00000"/>
                </a:solidFill>
                <a:uFillTx/>
                <a:latin typeface="Arial"/>
              </a:rPr>
              <a:t>3</a:t>
            </a:r>
            <a:r>
              <a:rPr b="1" lang="pt-BR" sz="1800" spc="-1" strike="noStrike" u="sng">
                <a:solidFill>
                  <a:srgbClr val="002060"/>
                </a:solidFill>
                <a:uFillTx/>
                <a:latin typeface="Arial"/>
              </a:rPr>
              <a:t>. Abertura da via aérea </a:t>
            </a: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- o alívio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obstrução se dá pela inclinação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cabeça e elevação do que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4516560" y="1197000"/>
            <a:ext cx="4303440" cy="4746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382920" cy="25210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/>
          <p:cNvSpPr/>
          <p:nvPr/>
        </p:nvSpPr>
        <p:spPr>
          <a:xfrm>
            <a:off x="1042920" y="4292640"/>
            <a:ext cx="28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c00000"/>
                </a:solidFill>
                <a:latin typeface="Arial"/>
              </a:rPr>
              <a:t>4. </a:t>
            </a: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Ventilação artif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2 insufl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468360" y="1066680"/>
            <a:ext cx="4032360" cy="1576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3348000" y="2733840"/>
            <a:ext cx="5516640" cy="3492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500720" y="1413000"/>
            <a:ext cx="439236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</a:rPr>
              <a:t>5.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 relação insuflação:compres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2:15  - Adu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1:5 - Crianç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nobras RCP em crianç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928800" y="1628640"/>
            <a:ext cx="78786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OBSTRUCAO DAS VIAS AEREAS SUPERIOR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TRUCAO DAS VIAS AEREA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 uma emergencia medica que pode estar ocluida de maneira parcial complet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Sinais e sintomas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ufocaca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Aparencia apreensiv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stridor expiratorio e inspiratori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Uso da musculatura acessoria (retracao supra esternal e intercostal)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Batimento de asas de nariz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Ansiedade crescent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quietacao e confusao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752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TAMENTO/CUIDADOS DE ENFERM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nobra de inclinacao da cabeca e levantamento do queixo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az-se com o paciente em decubito dorsal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nobra de golpe mandibular-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sao levantados os angulos da mandibula inferior do paciente e desloca-se a mandibula para dia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sercao da via aerea orofaringea-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inserido sobre a parte posterior da lingua dentro da faringe posterior inferior em paciente que respira de maneira expontane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tubacao endotraqueal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iste em estabelecer e manter a via aerea nos pacientes com insuficiencia respiratoria ou hipox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poio psicologico ao paciente e famil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HEMORRAGIA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a saída de sangue do espaço intravascular (vasos e coração) para o compartimento extravascular ou para fora do organism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Tip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hemorragia pode ser interna ou extern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75920" y="1285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URGENCIAS E EMERGENCIAS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EDICO- CIRURGICA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 IN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332000" y="2276640"/>
            <a:ext cx="230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826920" y="191628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lteração do nível de consciência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gressividade ou passivida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Tremores e arrepios do corp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ulso rápido e frac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espiração rápida e artificia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le pálida, fria e úmid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Sudorese;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upilas dilat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5435640" y="1989000"/>
            <a:ext cx="331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Fraquez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Se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Fri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Ansiedade ou indiferença</a:t>
            </a:r>
            <a:r>
              <a:rPr b="0" i="1" lang="pt-BR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1042920" y="1268280"/>
            <a:ext cx="26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SIN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5724360" y="1268280"/>
            <a:ext cx="19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SINT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 EX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755640" y="134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3708360" y="1341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VEN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6372360" y="1341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AP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755640" y="2133720"/>
            <a:ext cx="244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Sangue é vermelho viv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ico em oxigên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rda é pulsátil, obedecendo às contrações sistólicas do coração. </a:t>
            </a:r>
            <a:r>
              <a:rPr b="1" i="1" lang="pt-BR" sz="2400" spc="-1" strike="noStrike">
                <a:solidFill>
                  <a:srgbClr val="c00000"/>
                </a:solidFill>
                <a:latin typeface="Arial"/>
              </a:rPr>
              <a:t>É mais g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3635280" y="2276640"/>
            <a:ext cx="216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Vermelho esc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obre em oxige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erda continua e com pouca pressao.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Menos grave que a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5"/>
          <p:cNvSpPr/>
          <p:nvPr/>
        </p:nvSpPr>
        <p:spPr>
          <a:xfrm>
            <a:off x="6659640" y="2421000"/>
            <a:ext cx="230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quenas perdas de sangue, em vasos de pequeno calibre que recobrem a superfície do corpo. </a:t>
            </a:r>
            <a:r>
              <a:rPr b="1" i="1" lang="pt-BR" sz="2400" spc="-1" strike="noStrike">
                <a:solidFill>
                  <a:srgbClr val="c00000"/>
                </a:solidFill>
                <a:latin typeface="Arial"/>
              </a:rPr>
              <a:t>Sao as menos gr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EQUENCIA E COMPLICACO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1. Choque hipovolêmico: perda rápida de grande quantidade de sangu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2. Anemia : sangramento crônico e repetido (ex : úlcera gástric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3. Asfixia : quando há hemorragia pulmona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4. Tamponamento cardíaco : especialmente por ruptura ventricular (infarto agudo do miocárdio)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5. Hemorragia intracraniana: o sangramento pode causar destruição do tecido nervoso e compressão dos vasos adjacentes, causando isquem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s hemorragias pequenas em locais vitais podem ser fatais.Por exemplo: a ocorrência de um hemorragia no espaço subaracnóide pode causar vasoconstrição arterial prolongada, que por sua vez pode causar infarto do tecido nervoso e a morte do pa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c00000"/>
                </a:solidFill>
                <a:latin typeface="Arial"/>
              </a:rPr>
              <a:t>Hemorragia Intern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itar o acidentado e elevar os membros inferiores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Prevenir o estado de choque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Referir a equipe de cirurgi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Controlar regularmente os parametros hemodinamicos e circulatorio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c00000"/>
                </a:solidFill>
                <a:latin typeface="Arial"/>
              </a:rPr>
              <a:t>Hemorragia Extern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itar a vítima; o repouso da parte ferida ajuda a formação de um coágulo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Se o ferimento estiver coberto pela roupa, descobri-lo (evitar, porém, o resfriamento do acidentado)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ter a hemorragia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Evitar o estado de choqu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NICAS PARA ESTANCAR HEMORRA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levacao da regiao acident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mponamen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mpressao arterial ( directa e indirect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orniquete ( como ultima tentativ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HOQU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uma crise aguda de insuficiência cardiovascular, ou seja, o coracao e vasos não são capazes de irrigar todos os tecidos do corpo com oxigenio sufi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CHOQ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Hipovolem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 hemorragia grave, desidratacao)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ept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bacterias que produzem endotoxina que causa vasodilatacao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ardiogen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 falencia do coracao em manter pressao sanguine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nafilatic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(causada por alergeno derivado dedrogas, mordedura ou picadas de insectos, medicamentos, alimentos, derivados de sangue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 hipovolemic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142640"/>
            <a:ext cx="83818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Quadro clin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Taquicardia, Hipotensão, Sede, Oliguria,  Alterações de comportamento, Taquipne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ntrole rigoroso da Tensao Arteri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eposição dos volumes dos líquidos perdidos:  - SF a 0,9% e Ringer Lacta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reparo do paciente para cirurgia em caso de hemorragia persistente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dministração de anti-hemorrágicas prescrito pelo méd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ntrole e vigilância constantes no pacien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GENCIAS E EMERGE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Urgências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todas as situaçõe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línicas de instalação súbita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sde as não graves até às graves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m risco de estabeleciment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falência de funções vi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Emergências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todas as situaçõe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línicas de estabeleciment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úbito, em que existe, estabelecid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u eminente, o compromiss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uma ou mais funções vitais. ( Rede de referencia hospitalar, Portugal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 ANAFILAT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143000"/>
            <a:ext cx="83818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Quadro clin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ianose, comichao, perda da consciência, paragem cardiorrespiratoria progressiva, queda repentina da tensao sanguínea, respiração ruidosa, tosse, rubor de fac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locar o paciente em posição supin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anter livre as vias aére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onitorar os sinais vit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Administrar oxigênio, epenifrina, aminofilina,corticoides injetáveis, segundo a prescrica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anter veia canalizada com soluções de cloreto de sódio a 0,9%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crescentar outros tipos de choqu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RAUMATISMO E POLITRAUMATISMO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I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umatism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uma lesao ou ferida mais ou menos estensa, produzida por accao violenta de natureza fisica ou quimica externa ao organism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olitraumatismo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lesões múltiplas de diversas naturezas que podem comprometer diversos órgãos e sistem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TRAUMATISM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tuso: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a transferencia de energia em uma superficie corporal externa, nao penetrando 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enetra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a transferencia de energia em uma area concentrada, com isso ha pouca dispersao de energia provocando laceracao d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tensa dor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de ter sangrament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ficuldade em movimentar o local afectad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e for na cabeca pode ter perda de visao, incosciencia, sangramento nasa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9640" y="1142640"/>
            <a:ext cx="82994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Controle da hemorrag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Punção de veia para reposição das perdas sangüíneas e administração de medicamento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Sondagem vesical, se prescrita, para avaliação do débito urinári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Controle rigoroso da administração e perda de líquidos, PVC e sinais vitai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Imobilização das fraturas, observando as extremidades (coloração, temperatura e pulso)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valiação da ansiedade do paciente, orientando e esclarecendo sobre o seu estado, procedimentos e dúvida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QUEIMADURA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imadur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ao lesoes na pele, provocada geralmente pelo calor ou pelo frio, mas que podem tambem ser provocadas pela electricidade, por contacto com certos produtos quimicos, radiacoes, ou ate por fricca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anto a profundida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anto a extens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OS ETICO-LEG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lação entre enfermeiro e pacientes  e assentada em bases humanitárias, éticas e legais, garante a melhor relação interpessoal e favorece o correto processo diagnóst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e terapêut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Responsabilidade de enfermagem: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corre quando o enfermeiro não cumpre a obrigação que tem em relação ao paciente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usando-lhe da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67480" cy="936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o a profundida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de 1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ncontra-se vermelha e dolorida.  Atinge a epiderme. A resposta capilar é normal. Com o tempo, a pele descasca-se mas cura-se espontaneamente depois de 5 a 7 dias. Este estado não requer tratamento. </a:t>
            </a: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superficiais de 2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inchada, vermelha com bolhas e dolorida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sposta capilar é normal. Quando as bolhas são abertas, a pele por baixo das bolhas é vermelha e brilha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 a queimadura for mantida livre de infecções, a pele cura-se espontaneamente entre 10 a 14 di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1143000"/>
            <a:ext cx="641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profundas de 2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inchada, vermelha, rosada ou pálida. Sente-se a pele grossa e existem bolh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tinge a derm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não fica branca quando se testa a resposta capilar. As sensações de dor e toque estão reduzid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queimadura cura-se deixando uma cicatriz, normalmente, no decurso de três seman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8" name="Picture 2" descr="http://4.bp.blogspot.com/_pMxMXFn7L-4/TOmTpQzbMMI/AAAAAAAARF8/RyNteagoYLU/s1600/queimadura+2%25C2%25BA+grau.jpg"/>
          <p:cNvPicPr/>
          <p:nvPr/>
        </p:nvPicPr>
        <p:blipFill>
          <a:blip r:embed="rId1"/>
          <a:stretch/>
        </p:blipFill>
        <p:spPr>
          <a:xfrm>
            <a:off x="6227640" y="1628640"/>
            <a:ext cx="280836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0087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143000"/>
            <a:ext cx="627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de 3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branca, castanha ou preta e se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ão existem bolh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tinge os musculos e os oss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ão existe sensação de toque ou dor. Não existe resposta capilar e por isso não há sinais de circulação de sangue através dos teci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1" name="Picture 2" descr="http://4.bp.blogspot.com/_pMxMXFn7L-4/TOmUKll0cRI/AAAAAAAARGA/2JDrT2EfK9o/s1600/queimadura+3%25C2%25BA+grau.jpg"/>
          <p:cNvPicPr/>
          <p:nvPr/>
        </p:nvPicPr>
        <p:blipFill>
          <a:blip r:embed="rId1"/>
          <a:stretch/>
        </p:blipFill>
        <p:spPr>
          <a:xfrm>
            <a:off x="6372360" y="1989000"/>
            <a:ext cx="24667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O A EXTENS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Varios metodos sao usados para estimar a area de superficie corporal total (ASCT) lesada por queimadura, entre eles esta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1. Regra dos noves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: que designa percentuais em multiplos de nove para as principais superficies corporais. A cabeca e os membros superiores tem a percentagem de 9%, MI 18% cada, Torax e Abdomem 18% cada e orgaos genitais 1%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2.Metodo de Lund e Browder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vide o corpo em areas pequenas e estima a percentagem da area queimada com a idade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. Metodo de palm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ste metodo usa a palma do paciente para medir a percentagem da zona queimada, a palma e de 1%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ra dos no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2" descr="http://3.bp.blogspot.com/_pMxMXFn7L-4/TOh2CJOmIsI/AAAAAAAARF4/-ok1NmwRlyA/s1600/queimaduras.jpg"/>
          <p:cNvPicPr/>
          <p:nvPr/>
        </p:nvPicPr>
        <p:blipFill>
          <a:blip r:embed="rId1"/>
          <a:stretch/>
        </p:blipFill>
        <p:spPr>
          <a:xfrm>
            <a:off x="1835280" y="1052640"/>
            <a:ext cx="51847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ICACO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feccoes da pel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eloid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ratur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erda de grande quantidade de liqui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UIDADOS DE ENFERMAGEM DE EMERGENCIA</a:t>
            </a: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8360" y="1143000"/>
            <a:ext cx="8370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nalizar veia e administrar muitos fluidos EV segundo a prescricao medic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centivar o paciente a beber muito liqui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onda vesical para medicao de diures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dministrar analgesicos segundo a prescric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rolar os SV regularm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dministrar VAT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IDADOS DE ENFERMAGEM TARDI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azer penso com sulfadiazina de prat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rcicio de fisioterapia para impedir atrofia muscular e mobilida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ducacao ao paciente e famil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9640" y="83664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esponsabilidade de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 enfermeiro nao deve se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egligente, imprudente e 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impericia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impir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. Neglige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omiss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u a não observância de determinados deveres por parte do enfermeiro. Exemplo: procedimentos vi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2. Imprude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omiss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cautela, precipitação ou audácia d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o médico. Exemplo: utilizacao de tecnica de penso nao adequ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INTOXICACAO EXOGENA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OXICACAO EXOGE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Intoxicação 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é uma condição seguida da administração de substâncias psicoativas e resultante em distúrbios no nível de consciência, congnição, percepção, julgamento, afeto ou comportamento, ou outra resposta ou função psicofisiológi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Intoxicacao exogena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: pode ser definida como consequencia clinica e ou bioquimicas, da exposicao a substancias quimicas encontradas no ambiente isolad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as de intox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gest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alac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aminacao cutane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rodutos alimentar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secticidas (organofosforados e carbamato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r salicila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r animais venenosos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dro clin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324000" y="1341360"/>
            <a:ext cx="2519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SINTOMAS E SINAIS DIGES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Vómi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Diarre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Hemorragias digestivas  - Acção directa do tó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3132000" y="1413000"/>
            <a:ext cx="56880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SINTOMAS E SINAIS RESPIRATÓ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Obstrução das vias aé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Paralisia muscu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Depressão do centro respirató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Interferência com a hemoglobina e normal transporte de oxigé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Diminuição da pressão arte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Interferência com os sistemas enzimáticos celulares que têm a cargo a utilização do oxigénio pela célu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Edema pulmonar agudo – inalação de gases e aspiração de liqu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324000" y="1413000"/>
            <a:ext cx="273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RE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Oligú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Insuficiência renal ag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2987640" y="1413000"/>
            <a:ext cx="2952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NEUR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Convulsões – A morte ocorre por espasmos dos músculos respiratórios ou depressão respiratória após convul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Pupila    midríase            Mi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179280" y="3500280"/>
            <a:ext cx="28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CARDIOVASC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A lesão do miocárdio por tóxicos é r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A taquicardia é um sinal frequ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5940360" y="1413000"/>
            <a:ext cx="3025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HEMAT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Reacções hemolí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Anemia, Febre,  Vómitos / naúseas,  Dor abdo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Discrasias sanguí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Agranuloci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  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Anemia, Leucopenia e Trombocitop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idas Ger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valiar os sinais vitais e mantê-los em parâmetro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dequado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avagem gast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Carvao activado, apos a lavagem gastrica: consiste na absorsao de compostos presentes no intestino e os ja absorvi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axativos: manitol a 20% 150 a 200ml de 8/8h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FALTA OS SINAIS E SINTOMAS DE OUTRAS INTOXICACO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RDEDURAS E PICADA POR ANIMAI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DEDURAS E PICAD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efere se accao ou efeito de morder, dentada ou picada como consequencia duma accao animal ou human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o padrão de encaixe dos dentes inferiores aos superiores na arcada dentária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143000"/>
            <a:ext cx="4043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s mordeduras  mais frequentes sa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Ga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br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oedor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nimais ferroz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uman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5003640" y="1125360"/>
            <a:ext cx="36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s picadas mais frequentes s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bel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Ves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ormi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squ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s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eixes venen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EQUENCIAS DE MORDEDURA E PICAD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23640" y="141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Raiv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Venen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Hemorragi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Infecçã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Perda de tecido, em ferimentos desfigurante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Tétan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Reacções alérgic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. Impericia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inaptidão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gnorância, falta de destreza ou insuficiência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e conhecimento técnico por parte do enfermeiro.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mplo: introduç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alimentação no trato respiratóri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ravés de sonda mal posicion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NA MORDEDURA ANIM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o local da mordedur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Se a ferida estiver inchada, aplicar gelo embrulhado num pano limpo por 10 minuto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Informar-se se o cão está correctamente vacinad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Providencie que a vítima receba a vacina do tétano, se não a tiver tomad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Nunca se deve suturar a feri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IDADOS NA MORDEDURA HUMA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Lavar o ferimento com água e sabão pelo menos durante 5 minutos, mas sem esfregar com forç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o local da mordedur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Cobrir o ferimento com compressa esterilizad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Se estiver inchada colocar gelo</a:t>
            </a:r>
            <a:r>
              <a:rPr b="1" lang="pt-PT" sz="28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NA P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Não retire os ferrões com pinças nem os esprema. Raspe o local com lâmin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com álcool ou outro anti-séptico (Betadine dérmico)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Aplicar gelo localm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SMAIO/SINCOP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MA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a perda subita e transitoria de consciencia e consequentemente da postura, devido a isquemia cerebral transitoria ( reducao na irrigacao do sangue para o cerebro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aus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Hipoglicemi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Factor emocional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or extrem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mbiente confinad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Tontu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nsação de mal est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ulso rápido e frac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Respiração presente de ritmos variad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Tremor nas sobrancelh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ele fria, pálida e húmid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nconsciência superfici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A PREST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rejar o ambiente, ou transportar a vítima para um local com melhor ventilação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Elevar os membros inferiores, com uma mochila, roupas, etc. com isso, o sangue circula em maior quantidade no cérebro e nos órgãos nobres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Virar a cabeça para o lado, evitando que a vítima venha a vomitar e possa se asfixiar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frouxar a roupa, para uma melhor circulação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pós o desmaio ter passado, não dê água imediatamente, para evitar que a vítima se afogue, pois ainda não está com seus reflexos recuperados totalmente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mesmo em relação a deixá-la caminhar sozinha imediatamente após o desmaio. Faça-a sentar e respirar fundo, após auxilie-a a dar uma volta, respirando fundo e devaga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Com isso, o organismo se readapta a posição vertical e evita que ela possa desmaiar novamente, o que pode ocorrer se ela levantar bruscam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pós esses procedimentos, pode dar água a vítim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CONVULSOE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nvulsã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Perda súbita da consciência acompanhada de contrações musculares bruscas e involuntárias, conhecida popularmente como “ataque”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ausas variadas: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Epilepsi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Febre alt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Traumatismo cranian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Infecções do cérebro, HIV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Malária, raiva, sífilis, tétan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Fluxo sangüíneo inadequado para o cérebr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Hipertensã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Hemorragia intracraniana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delidad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fidencialidad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Veracidade das informações prestad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nconsciê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Queda abrupta da vitim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alivação abundante e vômi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Contração brusca e involuntária dos múscul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Enrijecimento da mandíbula, travando os dent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Relaxamento dos esfíncteres (urina e/ou fezes soltas)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Esqueci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143000"/>
            <a:ext cx="83818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ões Generalizadas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- ocorrem em qualquer idade, em qualquer momento. O intervalo entre as crises varia bastante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ão generalizada aguda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- caracterizado por perda da consciência e contrações musculares involuntárias tônico-clônicas generalizada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ões de grande mal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(motoras principais) - convulsões contínuas persistentes ou episódios graves consecutivos sem a restauração da consciência.  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142640"/>
            <a:ext cx="838188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) Proteger o paciente evitar que o paciente se bata nos objetos que o rodeiam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b) Colocar o paciente em decúbito lateral para evitar bronco-aspiração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) Proteger a boca e isolar as vias respiratórias, e colocar uma compressa dobrada entre os dent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d) Administrar oxigên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e) Controlar os movimentos do paciente, segurando-o com cuid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f) Aplicar tratamento farmacológico de acordo com o prescrito. O fármaco mais usado durante a crise é o diazepam EV lento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h) Quando o paciente despertar, reoriente-o quanto ao amb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INSOLACAO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OL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o conjunto de sintomas que acometem uma pessoa exposta demasiadamente ao so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us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contece quando o organismo fica incapacitado de controlar a sua temperatur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tensa falta de ar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Desidratação e a queimadura da pele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efalei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Nauseas e tontur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emperatura corporal elevad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Diarre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Pele quente, avermelhada e sec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xtremidades roxead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conscienc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Pulso rapido e fort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omichao terrivel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Levar o paciente para um local fresco e arejad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eita-la com a cabeca elev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locar compressas frias sobre a cabeca e envolver o corpo com taoalha molhada (agua e vinagre)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ncaminhar o paciente ao clin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centivar a beber muito liqui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  NECESSA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Carrinha de emergencia contendo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abuleiro, canula, ambu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eringas, agulhas, esfigmomanometr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stetoscopio, termometro clinico, espatul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Fios de sutura, kit A de penso, garote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ateter venoso, adesivo, couvete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aca com quadrados de algodao, laringoscopi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Otoscopio, ataduras, algodao, gess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ondas, vaselina e lidocaina loca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acia com agu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spirador, Balao de oxigeni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nti-septicos, soro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iomb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Luvas de procedimento ou cirurgic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ascaras descartavei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vental impermeavel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arret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culos de protecca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ET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5e"/>
                </a:solidFill>
                <a:uFillTx/>
                <a:latin typeface="Arial"/>
              </a:rPr>
              <a:t>O atendimento de urgência é uma obrigação do Estado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direito ao atendimento de emergência é igual ao direito à vida, à educação, ao trabalh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tc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oda acção n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tor de urgência deve ser fundamentada em rotinas próprias e protocolo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ssistenciais previamente aprovados e constantemente revist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Rede de Referenciação Hospitalar de Urgência/Emergência 14 de Novembro de 2001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Sorensen e Luckmann, Enfermagem Fundamental, 3ª edicao, Edictora Lusodidactica, Lisboa, 1998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Smelter e Bare, Enfermagem Medico-cirurgica, Editora Guanabarra, Vol 2, 10ª Edicao, 2005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ww2.unoeste.br/~aulasmedicina/arquivos/07e 08.../saud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1:17:46Z</dcterms:created>
  <dc:creator>Hamido</dc:creator>
  <dc:description/>
  <dc:language>en-US</dc:language>
  <cp:lastModifiedBy>inacia</cp:lastModifiedBy>
  <dcterms:modified xsi:type="dcterms:W3CDTF">2011-11-28T10:29:30Z</dcterms:modified>
  <cp:revision>50</cp:revision>
  <dc:subject/>
  <dc:title>Paragem Cardiorrespiratória</dc:title>
</cp:coreProperties>
</file>