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9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4"/>
          </p:nvPr>
        </p:nvSpPr>
        <p:spPr>
          <a:xfrm>
            <a:off x="390024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00" name="PlaceHolder 4"/>
          <p:cNvSpPr>
            <a:spLocks noGrp="1"/>
          </p:cNvSpPr>
          <p:nvPr>
            <p:ph type="body"/>
          </p:nvPr>
        </p:nvSpPr>
        <p:spPr>
          <a:xfrm>
            <a:off x="917640" y="4416120"/>
            <a:ext cx="5046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0" y="883116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6"/>
          </p:nvPr>
        </p:nvSpPr>
        <p:spPr>
          <a:xfrm>
            <a:off x="3900240" y="8831160"/>
            <a:ext cx="29811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328F-9FDF-4436-8F70-14762808A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1C2F-4CE3-46B4-997A-604A4C8375D4}"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241" name="PlaceHolder 1"/>
          <p:cNvSpPr>
            <a:spLocks noGrp="1"/>
          </p:cNvSpPr>
          <p:nvPr>
            <p:ph type="sldImg"/>
          </p:nvPr>
        </p:nvSpPr>
        <p:spPr>
          <a:xfrm>
            <a:off x="1116000" y="696960"/>
            <a:ext cx="4649760" cy="3486240"/>
          </a:xfrm>
          <a:prstGeom prst="rect">
            <a:avLst/>
          </a:prstGeom>
          <a:ln w="0">
            <a:noFill/>
          </a:ln>
        </p:spPr>
      </p:sp>
      <p:sp>
        <p:nvSpPr>
          <p:cNvPr id="24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D81374-3913-4A87-BC62-FBA010BD32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A9DE85-B64B-491C-9561-F0E90C7CB7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42A5B6-38B6-4F43-8FDA-9F53B745E4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B9F48F-0507-4D15-96A2-814E909304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283540-1BE4-4E3C-9BEC-32D15A78E9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6"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9"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0"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3"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8"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1"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2"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3"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4"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5"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3945BA-7D6D-4978-875C-C19154110E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B25678-13BF-4EE1-8434-80CBE8E225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87F27C-A9EE-4EF2-B104-4F869AF54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0AC152-17D4-4E44-92BF-67A7BCF436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8"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374EF-7A82-490A-B7F1-1ED0F69099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9201E4-0F49-410A-9FD6-6B8613B68F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829F49-409C-4EC4-8A85-4E6FC7DEC0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
        <p:nvSpPr>
          <p:cNvPr id="1" name="Rectangle 5"/>
          <p:cNvSpPr/>
          <p:nvPr/>
        </p:nvSpPr>
        <p:spPr>
          <a:xfrm rot="5400000">
            <a:off x="-3227400" y="3227400"/>
            <a:ext cx="6858000" cy="40320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2"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pic>
        <p:nvPicPr>
          <p:cNvPr id="4" name="Picture 1" descr=""/>
          <p:cNvPicPr/>
          <p:nvPr/>
        </p:nvPicPr>
        <p:blipFill>
          <a:blip r:embed="rId2"/>
          <a:stretch/>
        </p:blipFill>
        <p:spPr>
          <a:xfrm>
            <a:off x="380880" y="228600"/>
            <a:ext cx="628920" cy="622440"/>
          </a:xfrm>
          <a:prstGeom prst="rect">
            <a:avLst/>
          </a:prstGeom>
          <a:ln w="0">
            <a:noFill/>
          </a:ln>
        </p:spPr>
      </p:pic>
      <p:sp>
        <p:nvSpPr>
          <p:cNvPr id="5"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DAE8-57A5-43FC-9CEC-33B690F117D0}" type="slidenum">
              <a:rPr b="0" lang="en-US" sz="1200" spc="-1" strike="noStrike">
                <a:solidFill>
                  <a:srgbClr val="9999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3" name="Rectangle 23"/>
          <p:cNvSpPr/>
          <p:nvPr/>
        </p:nvSpPr>
        <p:spPr>
          <a:xfrm>
            <a:off x="1371600" y="144792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nvGrpSpPr>
          <p:cNvPr id="44" name="Group 24"/>
          <p:cNvGrpSpPr/>
          <p:nvPr/>
        </p:nvGrpSpPr>
        <p:grpSpPr>
          <a:xfrm>
            <a:off x="0" y="1447920"/>
            <a:ext cx="2742840" cy="2514240"/>
            <a:chOff x="0" y="1447920"/>
            <a:chExt cx="2742840" cy="2514240"/>
          </a:xfrm>
        </p:grpSpPr>
        <p:sp>
          <p:nvSpPr>
            <p:cNvPr id="45" name="Rectangle 25"/>
            <p:cNvSpPr/>
            <p:nvPr/>
          </p:nvSpPr>
          <p:spPr>
            <a:xfrm>
              <a:off x="0" y="3326040"/>
              <a:ext cx="689040" cy="6361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6" name="Rectangle 26"/>
            <p:cNvSpPr/>
            <p:nvPr/>
          </p:nvSpPr>
          <p:spPr>
            <a:xfrm>
              <a:off x="1366560" y="1447920"/>
              <a:ext cx="686880" cy="63792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7" name="Rectangle 27"/>
            <p:cNvSpPr/>
            <p:nvPr/>
          </p:nvSpPr>
          <p:spPr>
            <a:xfrm>
              <a:off x="681120" y="3324240"/>
              <a:ext cx="698400" cy="63648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8" name="Rectangle 28"/>
            <p:cNvSpPr/>
            <p:nvPr/>
          </p:nvSpPr>
          <p:spPr>
            <a:xfrm>
              <a:off x="2042640" y="1447920"/>
              <a:ext cx="700200" cy="6379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9" name="Rectangle 29"/>
            <p:cNvSpPr/>
            <p:nvPr/>
          </p:nvSpPr>
          <p:spPr>
            <a:xfrm>
              <a:off x="679680" y="2076480"/>
              <a:ext cx="698040" cy="62820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0" name="Rectangle 30"/>
            <p:cNvSpPr/>
            <p:nvPr/>
          </p:nvSpPr>
          <p:spPr>
            <a:xfrm>
              <a:off x="1366560" y="2076480"/>
              <a:ext cx="686880" cy="62820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1" name="Rectangle 31"/>
            <p:cNvSpPr/>
            <p:nvPr/>
          </p:nvSpPr>
          <p:spPr>
            <a:xfrm>
              <a:off x="0" y="2695680"/>
              <a:ext cx="689040" cy="63936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2" name="Rectangle 32"/>
            <p:cNvSpPr/>
            <p:nvPr/>
          </p:nvSpPr>
          <p:spPr>
            <a:xfrm>
              <a:off x="679680" y="2695680"/>
              <a:ext cx="698040" cy="63936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sp>
        <p:nvSpPr>
          <p:cNvPr id="53"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pic>
        <p:nvPicPr>
          <p:cNvPr id="54" name="Picture 1" descr=""/>
          <p:cNvPicPr/>
          <p:nvPr/>
        </p:nvPicPr>
        <p:blipFill>
          <a:blip r:embed="rId2"/>
          <a:stretch/>
        </p:blipFill>
        <p:spPr>
          <a:xfrm>
            <a:off x="8058240" y="380880"/>
            <a:ext cx="628560" cy="622440"/>
          </a:xfrm>
          <a:prstGeom prst="rect">
            <a:avLst/>
          </a:prstGeom>
          <a:ln w="0">
            <a:noFill/>
          </a:ln>
        </p:spPr>
      </p:pic>
      <p:sp>
        <p:nvSpPr>
          <p:cNvPr id="55" name="Text Box 37"/>
          <p:cNvSpPr/>
          <p:nvPr/>
        </p:nvSpPr>
        <p:spPr>
          <a:xfrm>
            <a:off x="2971800" y="1676520"/>
            <a:ext cx="5029200" cy="671400"/>
          </a:xfrm>
          <a:prstGeom prst="rect">
            <a:avLst/>
          </a:prstGeom>
          <a:noFill/>
          <a:ln w="0">
            <a:noFill/>
          </a:ln>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6"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8" name="PlaceHolder 2"/>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59" name="PlaceHolder 3"/>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pt-BR"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saude.mg.gov.br/"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971800" y="1600200"/>
            <a:ext cx="58672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500" spc="-1" strike="noStrike">
                <a:solidFill>
                  <a:srgbClr val="ffffff"/>
                </a:solidFill>
                <a:latin typeface="Arial"/>
              </a:rPr>
              <a:t>Componente Enfermagem Pediatrica</a:t>
            </a:r>
            <a:endParaRPr b="1" lang="en-US" sz="3500" spc="-1" strike="noStrike">
              <a:solidFill>
                <a:srgbClr val="ffffff"/>
              </a:solidFill>
              <a:latin typeface="Arial"/>
            </a:endParaRPr>
          </a:p>
        </p:txBody>
      </p:sp>
      <p:sp>
        <p:nvSpPr>
          <p:cNvPr id="104" name="PlaceHolder 2"/>
          <p:cNvSpPr>
            <a:spLocks noGrp="1"/>
          </p:cNvSpPr>
          <p:nvPr>
            <p:ph type="subTitle"/>
          </p:nvPr>
        </p:nvSpPr>
        <p:spPr>
          <a:xfrm>
            <a:off x="838080" y="4572000"/>
            <a:ext cx="792504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10 – Praticas de Enfermagem III</a:t>
            </a:r>
            <a:endParaRPr b="1" lang="en-US" sz="24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Enfermagem Obstétrica e Enfermagem Pediátrica</a:t>
            </a:r>
            <a:endParaRPr b="1" lang="en-US" sz="2400" spc="-1" strike="noStrike">
              <a:solidFill>
                <a:srgbClr val="000066"/>
              </a:solidFill>
              <a:latin typeface="Arial"/>
            </a:endParaRPr>
          </a:p>
        </p:txBody>
      </p:sp>
      <p:sp>
        <p:nvSpPr>
          <p:cNvPr id="105" name="Footer Placeholder 3"/>
          <p:cNvSpPr/>
          <p:nvPr/>
        </p:nvSpPr>
        <p:spPr>
          <a:xfrm>
            <a:off x="2514600" y="6400800"/>
            <a:ext cx="449568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
          <p:cNvSpPr txBox="1"/>
          <p:nvPr/>
        </p:nvSpPr>
        <p:spPr>
          <a:xfrm>
            <a:off x="456840" y="990720"/>
            <a:ext cx="8381880" cy="541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ão cli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odem variara desde a bacteriúria assintomática até uma sépsis (intoxicação pela absorção de substâncias putrefactas) Gram-negativa com choque.</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presentam menor taxa de resposta ao tratamento e tendem a recidivar.</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incipais factores que podem acarrear ITU</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capacidade ou falha ao esvaziar por completo a bexig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luxo urinário obstruído: por anomalias congénitas, estenoses uretrais, contractura do colo vesical, litíase nos ureteres ou rin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lamação ou abrasão da mucosa uretral.</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efesas naturais do hospedeiro diminuíd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3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3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
          <p:cNvSpPr txBox="1"/>
          <p:nvPr/>
        </p:nvSpPr>
        <p:spPr>
          <a:xfrm>
            <a:off x="609480" y="1143000"/>
            <a:ext cx="822960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evenindo as infecções recorrentes do Trato Urinário</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s comportamentos ligados a saúde que ajudam a evitar ITUs recorrentes compreendem a implementação da higiene pessoal cuidadosa, aumento da ingestão de líquidos para promover a micção e diluição da urin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giene</a:t>
            </a:r>
            <a:r>
              <a:rPr b="0" lang="pt-PT" sz="2400" spc="-1" strike="noStrike">
                <a:solidFill>
                  <a:srgbClr val="000066"/>
                </a:solidFill>
                <a:latin typeface="Arial"/>
              </a:rPr>
              <a:t>: tomar banho de chuveiro ao invés de banheira, porque as bactérias na água de banho podem penetrar na uretr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gestão hídrica</a:t>
            </a:r>
            <a:r>
              <a:rPr b="0" lang="pt-PT" sz="2400" spc="-1" strike="noStrike">
                <a:solidFill>
                  <a:srgbClr val="000066"/>
                </a:solidFill>
                <a:latin typeface="Arial"/>
              </a:rPr>
              <a:t>: ingerir quantidades liberais de líquidos diariamente para expulsar as bactéri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ábitos miccionais</a:t>
            </a:r>
            <a:r>
              <a:rPr b="0" lang="pt-PT" sz="2400" spc="-1" strike="noStrike">
                <a:solidFill>
                  <a:srgbClr val="000066"/>
                </a:solidFill>
                <a:latin typeface="Arial"/>
              </a:rPr>
              <a:t>: urinar a cada 2 a 3 horas durante o dia e esvaziar por completo a bexiga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3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
          <p:cNvSpPr txBox="1"/>
          <p:nvPr/>
        </p:nvSpPr>
        <p:spPr>
          <a:xfrm>
            <a:off x="456840" y="990720"/>
            <a:ext cx="8381880" cy="541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ocesso de Enfermagem no trato urinário inferio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cuidado de enfermagem de paciente com ITU inferior focaliza o tratamento da infecção subjacente e a prevenção de sua recidiv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Diagnósticos de Enfermagem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o caso de ITU inferior incluísse os seguintes diagnósticos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r aguda relacionada com a inflamação e infecção da uretra, bexiga e outras estruturas do trato urinári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ficuldade de conhecimento relacionado com factores que predispõem o paciente a infecções e recidiva, detecção e prevenção da recidiva e terapia farmacológica</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 </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renal decorrente de lesão extensa do rim.</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r>
              <a:rPr b="0" lang="pt-PT" sz="2400" spc="-1" strike="noStrike">
                <a:solidFill>
                  <a:srgbClr val="000066"/>
                </a:solidFill>
                <a:latin typeface="Arial"/>
              </a:rPr>
              <a:t>Sépsis.</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ão do trato urinário superior: Pielonefrite crón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urtos repetidos de pielonefrite aguda podem levar à pielonefrite crónica.</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presenta sintomas de infecções somente quando uma exacerbação agud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inai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adiga, cefaleia, apetite deficiente, poliúria, sede excessiva e perda de peso.</a:t>
            </a:r>
            <a:endParaRPr b="1"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stóricos e achados Diagnóstico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Urofagia intravenos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edições de clearance de creatinin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íveis de ureia e creatinina.</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RET (doença renal em estágio terminal);</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Hipertensão e formação dos cálculos renai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uidar, medir e registar o balanço hídric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a temperatura do paciente a cada 4 hora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dministrar agentes antitérmico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sinar paciente a ter cuidados para prevenir as ITUs (infecções do trato urinário).</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4"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Glomerulonefrite Agud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É uma inflamação dos capilares glomerulares.</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Fisiopatologi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ão  da faringe por estreptococo beta- hemolítico do grupo 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mpétig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ões virais aguda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uto-imune.</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matur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Urina pode assemelhar-se a coca-col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íveis séricos de ureia e creatinina aumenta à medida que o débito urinário diminui;</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75% dos pacientes aparecem algum grau de edema e hipertensã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acientes graves queixam-se:</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efalei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disposiç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r no flanco.</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0"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
          <p:cNvSpPr txBox="1"/>
          <p:nvPr/>
        </p:nvSpPr>
        <p:spPr>
          <a:xfrm>
            <a:off x="533160" y="990720"/>
            <a:ext cx="830556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cefalopatia hipertensiv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cardía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dema pulmonar.</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uidados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Hospital:</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dministrar carbohidratos de maneira liberal para fornecer energia e reduzir o catabolismo da proteín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balanço hídrico é cuidadosamente medido e registado.</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ências</a:t>
            </a:r>
            <a:endParaRPr b="1" lang="en-US" sz="3200" spc="-1" strike="noStrike">
              <a:solidFill>
                <a:srgbClr val="ffffff"/>
              </a:solidFill>
              <a:latin typeface="Arial"/>
            </a:endParaRPr>
          </a:p>
        </p:txBody>
      </p:sp>
      <p:sp>
        <p:nvSpPr>
          <p:cNvPr id="107" name=""/>
          <p:cNvSpPr txBox="1"/>
          <p:nvPr/>
        </p:nvSpPr>
        <p:spPr>
          <a:xfrm>
            <a:off x="456840" y="990720"/>
            <a:ext cx="8381880" cy="5486400"/>
          </a:xfrm>
          <a:prstGeom prst="rect">
            <a:avLst/>
          </a:prstGeom>
          <a:noFill/>
          <a:ln w="0">
            <a:noFill/>
          </a:ln>
        </p:spPr>
        <p:txBody>
          <a:bodyPr anchor="t">
            <a:normAutofit fontScale="98000"/>
          </a:bodyPr>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66"/>
                </a:solidFill>
                <a:latin typeface="Arial"/>
              </a:rPr>
              <a:t>Após a discussão deste tema os alunos deverão ser capazes de:</a:t>
            </a: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1. Assegura um tratamento humanizado de qualidades na prestação de Cuidados de Enfermagem às Crianças de 0 a 14 anos. </a:t>
            </a:r>
            <a:r>
              <a:rPr b="0" lang="pt-BR" sz="2400" spc="-1" strike="noStrike">
                <a:solidFill>
                  <a:srgbClr val="000066"/>
                </a:solidFill>
                <a:latin typeface="Arial"/>
              </a:rPr>
              <a:t>	</a:t>
            </a:r>
            <a:r>
              <a:rPr b="0" lang="pt-BR" sz="2400" spc="-1" strike="noStrike">
                <a:solidFill>
                  <a:srgbClr val="000066"/>
                </a:solidFill>
                <a:latin typeface="Arial"/>
              </a:rPr>
              <a:t> </a:t>
            </a:r>
            <a:endParaRPr b="1" lang="en-US" sz="24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2. Aplica os conhecimentos sobre o desenvolvimento físico e psicossocial das crianças de </a:t>
            </a:r>
            <a:r>
              <a:rPr b="0" lang="pt-BR" sz="2400" spc="-1" strike="noStrike">
                <a:solidFill>
                  <a:srgbClr val="000066"/>
                </a:solidFill>
                <a:latin typeface="Arial"/>
              </a:rPr>
              <a:t>	</a:t>
            </a:r>
            <a:r>
              <a:rPr b="0" lang="pt-BR" sz="2400" spc="-1" strike="noStrike">
                <a:solidFill>
                  <a:srgbClr val="000066"/>
                </a:solidFill>
                <a:latin typeface="Arial"/>
              </a:rPr>
              <a:t>0 a 14 anos para elaborar, implementar, monitorizar e avaliar o Plano de Cuidado de Enfermagem. </a:t>
            </a:r>
            <a:r>
              <a:rPr b="0" lang="pt-BR" sz="2400" spc="-1" strike="noStrike">
                <a:solidFill>
                  <a:srgbClr val="000066"/>
                </a:solidFill>
                <a:latin typeface="Arial"/>
              </a:rPr>
              <a:t>	</a:t>
            </a:r>
            <a:r>
              <a:rPr b="0" lang="pt-BR" sz="2400" spc="-1" strike="noStrike">
                <a:solidFill>
                  <a:srgbClr val="000066"/>
                </a:solidFill>
                <a:latin typeface="Arial"/>
              </a:rPr>
              <a:t> </a:t>
            </a:r>
            <a:endParaRPr b="1" lang="en-US" sz="24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3. Realiza orientações às mães sobre a promoção e recuperação da saúde e reabilitação das crianças de 0 a 14 anos.</a:t>
            </a:r>
            <a:endParaRPr b="1" lang="en-US" sz="24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10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09" name="Down Arrow 4"/>
          <p:cNvSpPr/>
          <p:nvPr/>
        </p:nvSpPr>
        <p:spPr>
          <a:xfrm>
            <a:off x="3962520" y="1828800"/>
            <a:ext cx="914400" cy="53352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3" name=""/>
          <p:cNvSpPr txBox="1"/>
          <p:nvPr/>
        </p:nvSpPr>
        <p:spPr>
          <a:xfrm>
            <a:off x="685800" y="1143000"/>
            <a:ext cx="81532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Domiciliar e comunitário:</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sinando o autocuidado aos paciente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uidado continuad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Glomerulonefrite Crón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ecorrente de episódios repetido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Glomerulonefrite agud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efroesclerose hipertensiv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Hiperlipidemi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Lesão túbulo-intersticial crónica.</a:t>
            </a:r>
            <a:endParaRPr b="1" lang="en-US" sz="2400" spc="-1" strike="noStrike">
              <a:solidFill>
                <a:srgbClr val="000066"/>
              </a:solidFill>
              <a:latin typeface="Arial"/>
            </a:endParaRPr>
          </a:p>
        </p:txBody>
      </p:sp>
      <p:sp>
        <p:nvSpPr>
          <p:cNvPr id="164"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lguns pacientes ficam latentes por alguns an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ictúri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efalei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Tonteir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stúrbios digestiv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ode detectar por níveis séricos elevados de ureia e creatinina.</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bservar alterações no estado hidroeletrolítico e para sinais e sintomas de deterioração da função renal;</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poio emocional para o paciente e famíli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sinar o autocuidado aos paciente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uidado continuad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72"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Síndrome Nefrót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ença glomerular caracterizada por:</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umento acentuado da proteína na urin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minuição da albumina no sangue;</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dem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olesterol.</a:t>
            </a:r>
            <a:endParaRPr b="1"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7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dem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miúde ao redor dos olho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disposição;</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efalei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rritabilidade;</a:t>
            </a:r>
            <a:endParaRPr b="1" lang="en-US" sz="2400" spc="-1" strike="noStrike">
              <a:solidFill>
                <a:srgbClr val="000066"/>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adiga</a:t>
            </a:r>
            <a:r>
              <a:rPr b="0" lang="pt-PT" sz="2000" spc="-1" strike="noStrike">
                <a:solidFill>
                  <a:srgbClr val="000066"/>
                </a:solidFill>
                <a:latin typeface="Arial"/>
              </a:rPr>
              <a:t>.</a:t>
            </a:r>
            <a:endParaRPr b="1" lang="en-US" sz="2000" spc="-1" strike="noStrike">
              <a:solidFill>
                <a:srgbClr val="000066"/>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õe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Tromboemboli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mbolia pulmonar;</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renal agud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terosclerose acelerada.</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inicial é similar ao paciente com glomerulonefrite agud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avançado é similar ao do paciente com insuficiência renal crónica.</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8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2" name=""/>
          <p:cNvSpPr txBox="1"/>
          <p:nvPr/>
        </p:nvSpPr>
        <p:spPr>
          <a:xfrm>
            <a:off x="533160" y="990720"/>
            <a:ext cx="8305560" cy="5333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suficiência  renal</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insuficiência renal sobrevém quando os rins não conseguem remover os resíduos metabólicos do corpo nem realizar as funções reguladores.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suficiência renal agu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insuficiência renal aguda pode ser definida como perda da função renal, de maneira súbita, independentemente da etiologia ou mecanismos, provocando acúmulo de substâncias nitrogenadas (ureia e creatinina), acompanhada ou não da diminuição da diurese.</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insuficiência renal aguda manifesta-se com oligúria (menos de que 400 ml de urina por dia) , anúria (menos de 50ml de urina por dia) ou volume urinário normal.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8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a:rPr>
              <a:t>Categorias da insuficiência renal aguda</a:t>
            </a:r>
            <a:endParaRPr b="1" lang="en-US" sz="3200" spc="-1" strike="noStrike">
              <a:solidFill>
                <a:srgbClr val="ffffff"/>
              </a:solidFill>
              <a:latin typeface="Arial"/>
            </a:endParaRPr>
          </a:p>
        </p:txBody>
      </p:sp>
      <p:sp>
        <p:nvSpPr>
          <p:cNvPr id="18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mportantes categorias que provocam a Infecção Renal Aguda</a:t>
            </a:r>
            <a:r>
              <a:rPr b="0" lang="pt-PT" sz="2400" spc="-1" strike="noStrike">
                <a:solidFill>
                  <a:srgbClr val="000066"/>
                </a:solidFill>
                <a:latin typeface="Arial"/>
              </a:rPr>
              <a:t>:</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é-renais-</a:t>
            </a:r>
            <a:r>
              <a:rPr b="0" lang="pt-PT" sz="2400" spc="-1" strike="noStrike">
                <a:solidFill>
                  <a:srgbClr val="000066"/>
                </a:solidFill>
                <a:latin typeface="Arial"/>
              </a:rPr>
              <a:t> Ocorre por insuficiência circulatória aguda, por falta de líquidos (hipovolémia), por desidratação grave ou perda de sangue. Pode ocorrer, também, por queda da pressão arterial do sangue circulante. As situações mais comuns de hipotensão são o choque hemorrágico, traumático ou infeccioso (bactéri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8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tra-renais-</a:t>
            </a:r>
            <a:r>
              <a:rPr b="0" lang="pt-PT" sz="2400" spc="-1" strike="noStrike">
                <a:solidFill>
                  <a:srgbClr val="000066"/>
                </a:solidFill>
                <a:latin typeface="Arial"/>
              </a:rPr>
              <a:t> É a lesão que atinge agudamente o rim seja por tóxicos (químico ou medicamentoso), seja por inflamações (nefrites) ou por morte de células do rim (necrose do glomérulo ou do túbulo renal).</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ós- renais- </a:t>
            </a:r>
            <a:r>
              <a:rPr b="0" lang="pt-PT" sz="2400" spc="-1" strike="noStrike">
                <a:solidFill>
                  <a:srgbClr val="000066"/>
                </a:solidFill>
                <a:latin typeface="Arial"/>
              </a:rPr>
              <a:t>É a que ocorre por obstrução das vias urinárias, impedindo a passagem da urina pela via urinária. A obstrução pode ocorrer em qualquer parte da via urinária: pelve renal, ureter, bexiga ou uretra.</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90" name=""/>
          <p:cNvSpPr txBox="1"/>
          <p:nvPr/>
        </p:nvSpPr>
        <p:spPr>
          <a:xfrm>
            <a:off x="456840" y="99072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Fases da Insuficiência renal</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inicial é o período durante o qual se dá a instalação da doença desencadeada pela causa provocador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de oligúria é acompanhada por um aumento  na concentração sérica das substâncias usualmente excretadas pelo ri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da diurese o paciente apresenta debito urinário gradativamente crescente, sinal de que a filtração glomerular começou a se recupera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de recuperação indica a melhora da função renal e pode levar de 3 a 12  seman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ências</a:t>
            </a:r>
            <a:endParaRPr b="1" lang="en-US" sz="3200" spc="-1" strike="noStrike">
              <a:solidFill>
                <a:srgbClr val="ffffff"/>
              </a:solidFill>
              <a:latin typeface="Arial"/>
            </a:endParaRPr>
          </a:p>
        </p:txBody>
      </p:sp>
      <p:sp>
        <p:nvSpPr>
          <p:cNvPr id="111" name=""/>
          <p:cNvSpPr txBox="1"/>
          <p:nvPr/>
        </p:nvSpPr>
        <p:spPr>
          <a:xfrm>
            <a:off x="456840" y="990720"/>
            <a:ext cx="8381880" cy="54864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66"/>
                </a:solidFill>
                <a:latin typeface="Arial"/>
              </a:rPr>
              <a:t>Após a discussão deste tema os alunos deverão ser capazes de:</a:t>
            </a:r>
            <a:endParaRPr b="1" lang="en-US" sz="2600" spc="-1" strike="noStrike">
              <a:solidFill>
                <a:srgbClr val="000066"/>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4. Aplica os princípios técnicos científicos na realização de intervenções em situações de emergência ou urgência para socorrer e assegurar a recuperação das crianças. </a:t>
            </a:r>
            <a:r>
              <a:rPr b="0" lang="pt-BR" sz="2400" spc="-1" strike="noStrike">
                <a:solidFill>
                  <a:srgbClr val="000066"/>
                </a:solidFill>
                <a:latin typeface="Arial"/>
              </a:rPr>
              <a:t>	</a:t>
            </a:r>
            <a:r>
              <a:rPr b="0" lang="pt-BR" sz="2400" spc="-1" strike="noStrike">
                <a:solidFill>
                  <a:srgbClr val="000066"/>
                </a:solidFill>
                <a:latin typeface="Arial"/>
              </a:rPr>
              <a:t> </a:t>
            </a:r>
            <a:endParaRPr b="1" lang="en-US" sz="2400" spc="-1" strike="noStrike">
              <a:solidFill>
                <a:srgbClr val="000066"/>
              </a:solidFill>
              <a:latin typeface="Arial"/>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5. Aplica os conhecimentos de farmacologia na administração e controlo dos medicamentos de foro pediátrico prescritos. </a:t>
            </a:r>
            <a:endParaRPr b="1" lang="en-US" sz="2400" spc="-1" strike="noStrike">
              <a:solidFill>
                <a:srgbClr val="000066"/>
              </a:solidFill>
              <a:latin typeface="Arial"/>
            </a:endParaRPr>
          </a:p>
        </p:txBody>
      </p:sp>
      <p:sp>
        <p:nvSpPr>
          <p:cNvPr id="11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13" name="Down Arrow 4"/>
          <p:cNvSpPr/>
          <p:nvPr/>
        </p:nvSpPr>
        <p:spPr>
          <a:xfrm>
            <a:off x="3962520" y="1828800"/>
            <a:ext cx="914400" cy="53352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inicas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pode parecer criticamente doente e letárgico, com náuseas persistentes vómitos e diarreia. A pele e as mucosas mostram-se secas devido a desidratação, e o hálito pode ter odor de urina. Os sinais e sintomas do sistema nervoso central compreendem sonolência, cefaleia, contractura muscular e convulsõe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
          <p:cNvSpPr txBox="1"/>
          <p:nvPr/>
        </p:nvSpPr>
        <p:spPr>
          <a:xfrm>
            <a:off x="456840" y="990720"/>
            <a:ext cx="8381880" cy="539568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stórico e Achados Diagnóstic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na urina</a:t>
            </a:r>
            <a:endParaRPr b="1" lang="en-US" sz="2400" spc="-1" strike="noStrike">
              <a:solidFill>
                <a:srgbClr val="000066"/>
              </a:solidFill>
              <a:latin typeface="Arial"/>
            </a:endParaRPr>
          </a:p>
          <a:p>
            <a:pPr lvl="1" marL="44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debito urinário varia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ão no contorno real </a:t>
            </a:r>
            <a:endParaRPr b="1" lang="en-US" sz="2400" spc="-1" strike="noStrike">
              <a:solidFill>
                <a:srgbClr val="000066"/>
              </a:solidFill>
              <a:latin typeface="Arial"/>
            </a:endParaRPr>
          </a:p>
          <a:p>
            <a:pPr lvl="1" marL="44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ultra sonografia é um componente critico  da avaliação da insuficiência renal aguda e cró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Níveis aumentados de ureia e creatinina</a:t>
            </a:r>
            <a:endParaRPr b="1" lang="en-US" sz="2400" spc="-1" strike="noStrike">
              <a:solidFill>
                <a:srgbClr val="000066"/>
              </a:solidFill>
              <a:latin typeface="Arial"/>
            </a:endParaRPr>
          </a:p>
          <a:p>
            <a:pPr lvl="1" marL="44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nível da ureia aumenta continuamente a uma velocidade que depende do grau do catabolismo. A creatinina sérica aumenta em conjunto com a lesão glomerular.</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9"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percalemia</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não consegue excretar normalmente o potássio. Os pacientes com oligúria a anúria estão em maior risco de hipercalemia que aqueles sem oligúria. </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cidose metabólica </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com oligúria aguda não consegue eliminar a carga metabólica diária de substâncias acidas produzidos pelos processos metabólicos normais.</a:t>
            </a:r>
            <a:endParaRPr b="1" lang="en-US" sz="2400" spc="-1" strike="noStrike">
              <a:solidFill>
                <a:srgbClr val="000066"/>
              </a:solidFill>
              <a:latin typeface="Arial"/>
            </a:endParaRPr>
          </a:p>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normalidades de cálcio e fósforo </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ode haver um aumento nas concentrações séricas de fosfato; os níveis séricos de cálcio podem estar baixos em resposta a absorção diminuída de cálcio a partir do intestino.</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nemia </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anemia acompanha inevitavelmente a Infecção Renal Aguda.</a:t>
            </a:r>
            <a:endParaRPr b="1" lang="en-US" sz="2400" spc="-1" strike="noStrike">
              <a:solidFill>
                <a:srgbClr val="0000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evenç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ornecer a hidratação adequada aos pacientes em risco de desidrataç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onitorar as pressões venosa central e arterial e o debito urinário a cada hora, nos pacientes criticamente doente;</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Tratar a hipotensão de imediat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continuamente a função renal; evitar e tratar de imediato as infecções;</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ar atenção meticulosa para os pacientes com sondas de demor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vitar os medicamentos tóxicos. </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enfermeiro (a) tem um papel importante no cuidado com o paciente com Infecção Renal Agu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onitorando o equilíbrio hidroeletrolític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Reduzindo a taxa metaból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romovendo a função pulmona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vitando infecçã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ornecendo o cuidado cutâneo.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1"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suficiência renal crónica</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renal crónica é quando há uma parada súbita das funções dos rins.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versas são as doenças que levam à insuficiência renal crónica. As três mais comuns s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hipertensão arterial; </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diabetes;</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glomerulonefrite.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diálise ou transplante renal torna-se necessário para a sobrevivência do paciente.</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4" name=""/>
          <p:cNvSpPr txBox="1"/>
          <p:nvPr/>
        </p:nvSpPr>
        <p:spPr>
          <a:xfrm>
            <a:off x="456840" y="990720"/>
            <a:ext cx="8381880" cy="541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Fisiopatologia</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medida que a função renal diminui, as funções renais do metabolismo proteico acumulam-se no sangue. A urémia desenvolve-se e afecta adversamente os sistemas do corpo.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Estágio da doença renal cró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1= caracteriza por perda de 40 a 75% da função do néfron.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2= caracteriza por perda de 75 a 90% da função do néfron.</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3= Quando existe menos de 10% da função do néfron. </a:t>
            </a:r>
            <a:endParaRPr b="1" lang="en-US" sz="2400" spc="-1" strike="noStrike">
              <a:solidFill>
                <a:srgbClr val="000066"/>
              </a:solidFill>
              <a:latin typeface="Arial"/>
            </a:endParaRPr>
          </a:p>
        </p:txBody>
      </p:sp>
      <p:sp>
        <p:nvSpPr>
          <p:cNvPr id="21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7" name=""/>
          <p:cNvSpPr txBox="1"/>
          <p:nvPr/>
        </p:nvSpPr>
        <p:spPr>
          <a:xfrm>
            <a:off x="456840" y="99072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CARDIOVASCULARES: </a:t>
            </a:r>
            <a:r>
              <a:rPr b="0" lang="pt-PT" sz="2400" spc="-1" strike="noStrike">
                <a:solidFill>
                  <a:srgbClr val="000066"/>
                </a:solidFill>
                <a:latin typeface="Arial"/>
              </a:rPr>
              <a:t>A perda progressiva das funções Renais provoca Hipertensão Arterial ou seu agravamento. O aumento da pressão é percebido como dor de cabeça, dificuldade visual, cansaço, falta de ar e ainda aumenta o risco de enfarto e acidentes vasculares. </a:t>
            </a:r>
            <a:endParaRPr b="1" lang="en-US" sz="2400" spc="-1" strike="noStrike">
              <a:solidFill>
                <a:srgbClr val="000066"/>
              </a:solidFill>
              <a:latin typeface="Arial"/>
            </a:endParaRPr>
          </a:p>
        </p:txBody>
      </p:sp>
      <p:sp>
        <p:nvSpPr>
          <p:cNvPr id="21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0"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DIGESTIVAS: </a:t>
            </a:r>
            <a:r>
              <a:rPr b="0" lang="pt-PT" sz="2400" spc="-1" strike="noStrike">
                <a:solidFill>
                  <a:srgbClr val="000066"/>
                </a:solidFill>
                <a:latin typeface="Arial"/>
              </a:rPr>
              <a:t>Náuseas e vómitos, ou mau hálito com discreto odor de urina é um dos primeiros sintomas da urémia. Outras alterações importantes são a gastrite, as úlceras e as hemorragias digestivas, que se manifestam por dor na região do estômago ou ainda vómitos ou fezes com sangue vivo ou escurecido. </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NEUROLÓGICAS:</a:t>
            </a:r>
            <a:r>
              <a:rPr b="0" lang="pt-PT" sz="2400" spc="-1" strike="noStrike">
                <a:solidFill>
                  <a:srgbClr val="000066"/>
                </a:solidFill>
                <a:latin typeface="Arial"/>
              </a:rPr>
              <a:t> O acúmulo de substâncias tóxicas pode ser sentido como dores de cabeça, insónia ou sonolência excessiva, diminuição da sensibilidade, dores ou formigamento nas mãos e nos pés e cãibras. </a:t>
            </a:r>
            <a:endParaRPr b="1" lang="en-US" sz="2400" spc="-1" strike="noStrike">
              <a:solidFill>
                <a:srgbClr val="000066"/>
              </a:solidFill>
              <a:latin typeface="Arial"/>
            </a:endParaRPr>
          </a:p>
        </p:txBody>
      </p:sp>
      <p:sp>
        <p:nvSpPr>
          <p:cNvPr id="22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ências</a:t>
            </a:r>
            <a:endParaRPr b="1" lang="en-US" sz="3200" spc="-1" strike="noStrike">
              <a:solidFill>
                <a:srgbClr val="ffffff"/>
              </a:solidFill>
              <a:latin typeface="Arial"/>
            </a:endParaRPr>
          </a:p>
        </p:txBody>
      </p:sp>
      <p:sp>
        <p:nvSpPr>
          <p:cNvPr id="11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pós a discussão deste tema os alunos deverão ser capazes de:</a:t>
            </a:r>
            <a:endParaRPr b="1" lang="en-US" sz="2400" spc="-1" strike="noStrike">
              <a:solidFill>
                <a:srgbClr val="0000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6. Regista oportunamente e de forma clara as informações e procedimentos de enfermagem pediátrica no diário de enfermagem, livro de ocorrência, folha de registo dos sinais vitais e cardex, para assegurar a continuidade e eficácia da prestação de cuidados humanizados e de qualidade à criança dos 0- 14 anos.</a:t>
            </a:r>
            <a:endParaRPr b="1" lang="en-US" sz="2400" spc="-1" strike="noStrike">
              <a:solidFill>
                <a:srgbClr val="000066"/>
              </a:solidFill>
              <a:latin typeface="Arial"/>
            </a:endParaRPr>
          </a:p>
        </p:txBody>
      </p:sp>
      <p:sp>
        <p:nvSpPr>
          <p:cNvPr id="11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17" name="Down Arrow 4"/>
          <p:cNvSpPr/>
          <p:nvPr/>
        </p:nvSpPr>
        <p:spPr>
          <a:xfrm>
            <a:off x="3962520" y="2209680"/>
            <a:ext cx="914400" cy="53352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NA PELE: </a:t>
            </a:r>
            <a:r>
              <a:rPr b="0" lang="pt-PT" sz="2400" spc="-1" strike="noStrike">
                <a:solidFill>
                  <a:srgbClr val="000066"/>
                </a:solidFill>
                <a:latin typeface="Arial"/>
              </a:rPr>
              <a:t>O prurido (sensação de comichão) é um sintoma bastante comum que se intensifica com a perda progressiva da função renal. Junto podem aparecer manchas arroxeadas e as feridas decorrentes do próprio acto de coçar a pele. Pode ser observada também uma progressiva mudança da coloração normal da pele que se torna cor de palha, em decorrência do acumulo de toxinas associado à anemia que comummente está presente </a:t>
            </a:r>
            <a:endParaRPr b="1" lang="en-US" sz="2400" spc="-1" strike="noStrike">
              <a:solidFill>
                <a:srgbClr val="000066"/>
              </a:solidFill>
              <a:latin typeface="Arial"/>
            </a:endParaRPr>
          </a:p>
        </p:txBody>
      </p:sp>
      <p:sp>
        <p:nvSpPr>
          <p:cNvPr id="2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6" name=""/>
          <p:cNvSpPr txBox="1"/>
          <p:nvPr/>
        </p:nvSpPr>
        <p:spPr>
          <a:xfrm>
            <a:off x="456840" y="1143000"/>
            <a:ext cx="8381880" cy="373392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ÓSSEAS: </a:t>
            </a:r>
            <a:r>
              <a:rPr b="0" lang="pt-PT" sz="2400" spc="-1" strike="noStrike">
                <a:solidFill>
                  <a:srgbClr val="000066"/>
                </a:solidFill>
                <a:latin typeface="Arial"/>
              </a:rPr>
              <a:t>Os rins são também responsáveis pela eliminação do excesso de fósforo. O ideal é o equilíbrio das quantidades de cálcio e fósforo no sangue. Porém, com a perda da função renal, a absorção do cálcio nos intestinos é reduzida, diminuindo seu teor no sangue. Ocorre também menor eliminação de fósforo, o que faz com que esse elemento aumente no sangue, havendo um desequilíbrio que resulta na fraqueza dos ossos, manifestada por dores e fracturas. </a:t>
            </a:r>
            <a:endParaRPr b="1" lang="en-US" sz="2400" spc="-1" strike="noStrike">
              <a:solidFill>
                <a:srgbClr val="000066"/>
              </a:solidFill>
              <a:latin typeface="Arial"/>
            </a:endParaRPr>
          </a:p>
        </p:txBody>
      </p:sp>
      <p:sp>
        <p:nvSpPr>
          <p:cNvPr id="22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
          <p:cNvSpPr txBox="1"/>
          <p:nvPr/>
        </p:nvSpPr>
        <p:spPr>
          <a:xfrm>
            <a:off x="456840" y="99072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stórico e Achados Diagnóstic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axa de filtração glomerular: </a:t>
            </a:r>
            <a:r>
              <a:rPr b="0" lang="pt-PT" sz="2400" spc="-1" strike="noStrike">
                <a:solidFill>
                  <a:srgbClr val="000066"/>
                </a:solidFill>
                <a:latin typeface="Arial"/>
              </a:rPr>
              <a:t>A Taxa de filtração glomerular diminuída pode ser detectada ao se obter uma urinálise de 24 horas para o clearance da creatinin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Retenção de sódio e água: </a:t>
            </a:r>
            <a:r>
              <a:rPr b="0" lang="pt-PT" sz="2400" spc="-1" strike="noStrike">
                <a:solidFill>
                  <a:srgbClr val="000066"/>
                </a:solidFill>
                <a:latin typeface="Arial"/>
              </a:rPr>
              <a:t>As respostas apropriadas pelo rim às alterações na ingestão diária de água e electrólitos, portanto não acontecem.</a:t>
            </a:r>
            <a:endParaRPr b="1" lang="en-US" sz="2400" spc="-1" strike="noStrike">
              <a:solidFill>
                <a:srgbClr val="000066"/>
              </a:solidFill>
              <a:latin typeface="Arial"/>
            </a:endParaRPr>
          </a:p>
        </p:txBody>
      </p:sp>
      <p:sp>
        <p:nvSpPr>
          <p:cNvPr id="23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
          <p:cNvSpPr txBox="1"/>
          <p:nvPr/>
        </p:nvSpPr>
        <p:spPr>
          <a:xfrm>
            <a:off x="456840" y="1142640"/>
            <a:ext cx="8381880" cy="3505320"/>
          </a:xfrm>
          <a:prstGeom prst="rect">
            <a:avLst/>
          </a:prstGeom>
          <a:noFill/>
          <a:ln w="0">
            <a:noFill/>
          </a:ln>
        </p:spPr>
        <p:txBody>
          <a:bodyPr anchor="t">
            <a:normAutofit/>
          </a:bodyPr>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cidose: </a:t>
            </a:r>
            <a:r>
              <a:rPr b="0" lang="pt-PT" sz="2400" spc="-1" strike="noStrike">
                <a:solidFill>
                  <a:srgbClr val="000066"/>
                </a:solidFill>
                <a:latin typeface="Arial"/>
              </a:rPr>
              <a:t>A acidose metabólica acontece porque o rim não consegue excretar as cargas de cálcio aumentado. </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Desequilíbrio de cálcio e fósforo: </a:t>
            </a:r>
            <a:r>
              <a:rPr b="0" lang="pt-PT" sz="2400" spc="-1" strike="noStrike">
                <a:solidFill>
                  <a:srgbClr val="000066"/>
                </a:solidFill>
                <a:latin typeface="Arial"/>
              </a:rPr>
              <a:t>Os níveis séricos de cálcio e fosfato apresentam uma relação inversa no corpo: quando um se eleva o outro diminui.</a:t>
            </a:r>
            <a:endParaRPr b="1"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 </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com insuficiência renal crónica requer um cuidado de enfermagem astuto para evitar as complicações da função renal reduzida e o estresse e ansiedades, a fim de poder lidar com uma doença de risco de vid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o estado hídric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ornecer as explicações e a informação para o paciente e a famíli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as respostas e reacções do paciente e da família a doença e tratament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onitorar a pressão arterial conforme indicado.</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ibliografia</a:t>
            </a:r>
            <a:endParaRPr b="1" lang="en-US" sz="3200" spc="-1" strike="noStrike">
              <a:solidFill>
                <a:srgbClr val="ffffff"/>
              </a:solidFill>
              <a:latin typeface="Arial"/>
            </a:endParaRPr>
          </a:p>
        </p:txBody>
      </p:sp>
      <p:sp>
        <p:nvSpPr>
          <p:cNvPr id="23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239" name=""/>
          <p:cNvSpPr txBox="1"/>
          <p:nvPr/>
        </p:nvSpPr>
        <p:spPr>
          <a:xfrm>
            <a:off x="609480" y="1066320"/>
            <a:ext cx="8229600" cy="52578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ormas de Atendimento à Criança Sadia e à Criança em Risco </a:t>
            </a:r>
            <a:endParaRPr b="1" lang="en-US" sz="24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66"/>
                </a:solidFill>
                <a:latin typeface="Arial"/>
              </a:rPr>
              <a:t>(MISAU)</a:t>
            </a:r>
            <a:endParaRPr b="1" lang="en-US" sz="1600" spc="-1" strike="noStrike">
              <a:solidFill>
                <a:srgbClr val="000066"/>
              </a:solidFill>
              <a:latin typeface="Arial"/>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Roteiro para acelerar a redução da Mortalidade materna e neonatal em Moçambique</a:t>
            </a:r>
            <a:endParaRPr b="1" lang="en-US" sz="24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66"/>
                </a:solidFill>
                <a:latin typeface="Arial"/>
              </a:rPr>
              <a:t>MISAU 14 de Maio 2008</a:t>
            </a:r>
            <a:endParaRPr b="1" lang="en-US" sz="1600" spc="-1" strike="noStrike">
              <a:solidFill>
                <a:srgbClr val="000066"/>
              </a:solidFill>
              <a:latin typeface="Arial"/>
            </a:endParaRPr>
          </a:p>
          <a:p>
            <a:pPr marL="339480" indent="-3394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rojecto de Profissionalização dos Trabalhadores da Área de Enfermagem (SAÚDE DA MULHER, DA CRIANÇA E DO ADOLESCENTE) </a:t>
            </a:r>
            <a:endParaRPr b="1" lang="en-US" sz="24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66"/>
                </a:solidFill>
                <a:latin typeface="Arial"/>
              </a:rPr>
              <a:t>Brasília – DF 2003</a:t>
            </a:r>
            <a:endParaRPr b="1" lang="en-US" sz="16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ite: </a:t>
            </a:r>
            <a:r>
              <a:rPr b="0" lang="pt-PT" sz="2400" spc="-1" strike="noStrike" u="sng">
                <a:solidFill>
                  <a:srgbClr val="666699"/>
                </a:solidFill>
                <a:uFillTx/>
                <a:latin typeface="Arial"/>
                <a:hlinkClick r:id="rId1"/>
              </a:rPr>
              <a:t>www.saude.mg.gov.br</a:t>
            </a:r>
            <a:endParaRPr b="1" lang="en-US" sz="2400" spc="-1" strike="noStrike">
              <a:solidFill>
                <a:srgbClr val="000066"/>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ite: www.unicef.org</a:t>
            </a:r>
            <a:endParaRPr b="1" lang="en-US" sz="2400" spc="-1" strike="noStrike">
              <a:solidFill>
                <a:srgbClr val="000066"/>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971800" y="1600200"/>
            <a:ext cx="5486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Arial"/>
              </a:rPr>
              <a:t>DISTURBIOS RENAIS</a:t>
            </a:r>
            <a:endParaRPr b="1" lang="en-US" sz="3600" spc="-1" strike="noStrike">
              <a:solidFill>
                <a:srgbClr val="ffffff"/>
              </a:solidFill>
              <a:latin typeface="Arial"/>
            </a:endParaRPr>
          </a:p>
        </p:txBody>
      </p:sp>
      <p:sp>
        <p:nvSpPr>
          <p:cNvPr id="11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uidados especificos</a:t>
            </a:r>
            <a:endParaRPr b="1" lang="en-US" sz="3200" spc="-1" strike="noStrike">
              <a:solidFill>
                <a:srgbClr val="ffffff"/>
              </a:solidFill>
              <a:latin typeface="Arial"/>
            </a:endParaRPr>
          </a:p>
        </p:txBody>
      </p:sp>
      <p:sp>
        <p:nvSpPr>
          <p:cNvPr id="121" name=""/>
          <p:cNvSpPr txBox="1"/>
          <p:nvPr/>
        </p:nvSpPr>
        <p:spPr>
          <a:xfrm>
            <a:off x="685800" y="1143000"/>
            <a:ext cx="81532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s distúrbios do trato urinário ou Infecção de Trato Urinário (ITU) são classificados conforme a localização (inferior e superior) e pelo grau de complicação (não complicadas e complicadas).</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s ITU são causadas por microorganismos patogénicos no trato urinário (o trato urinário normal é estéril acima da uretra). Em geral as ITUs são classificadas como infecções que afectam o trato urinário inferior e superior.</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25"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comuns do trato urinário inferior</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istite, prostatite, uretrite.</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ão clin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r frequente e queimação na micçã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requência, urgência incontinência e dor suprapúbica ou pélv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hematúria e dor lombar também podem estar presente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28" name=""/>
          <p:cNvSpPr txBox="1"/>
          <p:nvPr/>
        </p:nvSpPr>
        <p:spPr>
          <a:xfrm>
            <a:off x="609480" y="1143000"/>
            <a:ext cx="822960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comuns do trato urinário superio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ielonefrite aguda e cronica, abscesso renal, nefrite intersticial, abscesso perirrenal.</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ão cli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ebre, calafrios, dor no flanco ou lombar, náuseas e vómitos, cefaleia, indisposição e micção doloros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o exame físico revela hipersensibilidade nas áreas dos ângulos costovertebrais.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
          <p:cNvSpPr txBox="1"/>
          <p:nvPr/>
        </p:nvSpPr>
        <p:spPr>
          <a:xfrm>
            <a:off x="609480" y="1066680"/>
            <a:ext cx="822960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do trato urinário superior não complica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ões adquiridas na comunidade, comum em mulheres jovens.</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comuns do trato urinário inferior ou superior Complica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requentemente adquirida no hospital e relacionada com o cateterismo; ocorre em paciente com anormalidades urológicas,  diabetes melito, obstruções.</a:t>
            </a:r>
            <a:endParaRPr b="1" lang="en-US" sz="2400" spc="-1" strike="noStrike">
              <a:solidFill>
                <a:srgbClr val="000066"/>
              </a:solidFill>
              <a:latin typeface="Arial"/>
            </a:endParaRPr>
          </a:p>
        </p:txBody>
      </p:sp>
      <p:sp>
        <p:nvSpPr>
          <p:cNvPr id="13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ENFERMAGEM</cp:lastModifiedBy>
  <dcterms:modified xsi:type="dcterms:W3CDTF">2016-08-24T11:46:45Z</dcterms:modified>
  <cp:revision>449</cp:revision>
  <dc:subject/>
  <dc:title>JHPIEGO PowerPoint Presentation template</dc:title>
</cp:coreProperties>
</file>