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4240" cy="364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914400" y="4614840"/>
            <a:ext cx="502920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5"/>
          </p:nvPr>
        </p:nvSpPr>
        <p:spPr>
          <a:xfrm>
            <a:off x="-360" y="922788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6"/>
          </p:nvPr>
        </p:nvSpPr>
        <p:spPr>
          <a:xfrm>
            <a:off x="3885840" y="922788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AC904-B07B-4289-AC20-D255AAD242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92282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85507-0745-456F-B98A-325771E3101B}" type="slidenum">
              <a:rPr b="1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4240" cy="3641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614840"/>
            <a:ext cx="502920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8528B-78DF-4EF0-A549-84EEF883B8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796FA-6089-4130-9A33-C9C5F3583D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2E266-14BA-48AA-B3AB-17B4DEC2D4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7949A-CDE5-454F-B437-AD8FB37032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89D45-DE6A-46CE-A8E0-DCA510462A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D0ABE-D5B5-4A54-A403-67C1FCF394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C8845-950B-4430-98EE-603479ADCE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9E84A-5DC2-442E-AA7F-1629E46C52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B523D-BA9C-4D5C-93F1-4BB5521A28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A7802-E69D-4A88-A45B-50C56B5861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C7CE1-1AE5-4D61-AFED-55ED5FD8A0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52071-91B0-4768-8C49-051898250C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5"/>
          <p:cNvSpPr/>
          <p:nvPr/>
        </p:nvSpPr>
        <p:spPr>
          <a:xfrm rot="5400000">
            <a:off x="-3227400" y="3227400"/>
            <a:ext cx="6858000" cy="40320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D60C4-E231-4C2D-8D1B-A6597AAD59DD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Rectangle 23"/>
          <p:cNvSpPr/>
          <p:nvPr/>
        </p:nvSpPr>
        <p:spPr>
          <a:xfrm>
            <a:off x="1371600" y="144792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44" name="Group 24"/>
          <p:cNvGrpSpPr/>
          <p:nvPr/>
        </p:nvGrpSpPr>
        <p:grpSpPr>
          <a:xfrm>
            <a:off x="0" y="1447920"/>
            <a:ext cx="2742840" cy="2514240"/>
            <a:chOff x="0" y="1447920"/>
            <a:chExt cx="2742840" cy="2514240"/>
          </a:xfrm>
        </p:grpSpPr>
        <p:sp>
          <p:nvSpPr>
            <p:cNvPr id="45" name="Rectangle 25"/>
            <p:cNvSpPr/>
            <p:nvPr/>
          </p:nvSpPr>
          <p:spPr>
            <a:xfrm>
              <a:off x="0" y="3326040"/>
              <a:ext cx="689040" cy="636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6" name="Rectangle 26"/>
            <p:cNvSpPr/>
            <p:nvPr/>
          </p:nvSpPr>
          <p:spPr>
            <a:xfrm>
              <a:off x="1366560" y="1447920"/>
              <a:ext cx="686880" cy="6379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7" name="Rectangle 27"/>
            <p:cNvSpPr/>
            <p:nvPr/>
          </p:nvSpPr>
          <p:spPr>
            <a:xfrm>
              <a:off x="681120" y="3324240"/>
              <a:ext cx="698400" cy="6364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8" name="Rectangle 28"/>
            <p:cNvSpPr/>
            <p:nvPr/>
          </p:nvSpPr>
          <p:spPr>
            <a:xfrm>
              <a:off x="2042640" y="1447920"/>
              <a:ext cx="700200" cy="6379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9" name="Rectangle 29"/>
            <p:cNvSpPr/>
            <p:nvPr/>
          </p:nvSpPr>
          <p:spPr>
            <a:xfrm>
              <a:off x="679680" y="2076480"/>
              <a:ext cx="698040" cy="6282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0" name="Rectangle 30"/>
            <p:cNvSpPr/>
            <p:nvPr/>
          </p:nvSpPr>
          <p:spPr>
            <a:xfrm>
              <a:off x="1366560" y="2076480"/>
              <a:ext cx="686880" cy="6282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1" name="Rectangle 31"/>
            <p:cNvSpPr/>
            <p:nvPr/>
          </p:nvSpPr>
          <p:spPr>
            <a:xfrm>
              <a:off x="0" y="2695680"/>
              <a:ext cx="689040" cy="6393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2" name="Rectangle 32"/>
            <p:cNvSpPr/>
            <p:nvPr/>
          </p:nvSpPr>
          <p:spPr>
            <a:xfrm>
              <a:off x="679680" y="2695680"/>
              <a:ext cx="698040" cy="6393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53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4" name="Picture 1" descr=""/>
          <p:cNvPicPr/>
          <p:nvPr/>
        </p:nvPicPr>
        <p:blipFill>
          <a:blip r:embed="rId2"/>
          <a:stretch/>
        </p:blipFill>
        <p:spPr>
          <a:xfrm>
            <a:off x="8058240" y="38088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7"/>
          <p:cNvSpPr/>
          <p:nvPr/>
        </p:nvSpPr>
        <p:spPr>
          <a:xfrm>
            <a:off x="2971800" y="1676520"/>
            <a:ext cx="50292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pt-BR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71800" y="1600200"/>
            <a:ext cx="586728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500" spc="-1" strike="noStrike">
                <a:solidFill>
                  <a:srgbClr val="ffffff"/>
                </a:solidFill>
                <a:latin typeface="Arial"/>
              </a:rPr>
              <a:t>Componente Enfermagem Pediatrica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8080" y="45720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Módulo 10 – Praticas de Enfermagem III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Enfermagem Obstétrica e Enfermagem Pediátric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Footer Placeholder 3"/>
          <p:cNvSpPr/>
          <p:nvPr/>
        </p:nvSpPr>
        <p:spPr>
          <a:xfrm>
            <a:off x="2514600" y="640080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6840" y="9903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Tipos de Punções Venosas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 local de escolha para a punção venosa visa atender as necessidades da crianç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m crianças sob oxitenda, evita-se punções cefálicas uma vez que a humidade impede a boa fixação do adesivo. Em bebés que estão amamentados, evita-se punções em membro superiores, para facilitar o aleitamento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É preciso observar hábitos como o de chupar o dedo, dormir de bruços, esfregar os pezinhos, para a escolha do local adequado da punç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s preferências da mãe só devem ser atendidas se estiverem de acordo com as condições da criança, lembrando que o melhor local para punção venosa em bebés é a rede venosa cefálica, local que nem sempre agrada a mãe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unção em jugular deve ser reservada para situações de urgência e feita por um profissional experiente, pelos graves riscos que a mesma oferece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6840" y="9903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Via Intramuscular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83280" indent="-26280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bservar a massa muscular da criança para a escolha do comprimento da agulha (30x8, 30x7, 12x6).Pode ocorrer de uma agulha curta não introduzida por inteir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83280" indent="-262800" algn="just"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683280" indent="-26280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quantidade máxima de líquido injectado não deve ser maior que 3 ml, somente em crianças acima de 10 anos com boa massa muscular, pode-se chegar ao limite de 5 ml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83280" indent="-262800" algn="just">
              <a:spcBef>
                <a:spcPts val="4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83280" indent="-26280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É de fundamental importância a maneira de segurar a criança. A movimentação dela poderá quebrar a agulha durante a injecç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83280" indent="-262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0948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Membros inferiores, quadril e tórax devem estar mobilizados. Nem sempre o acompanhante é capaz de colaborar, sendo nesse caso, dispensad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vitar que a criança veja a sering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região do deltóide não é usada para medicação, tendo seu uso restrito algumas vacina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6840" y="9907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m recém-nascidos usa-se a região da face lateral externa da coxa (músculo vasto lateral) por não se saber exactamente a localização do nervo ciático na região glúte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 algn="just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Na nádega usa-se o quadrante superior extern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 algn="just">
              <a:lnSpc>
                <a:spcPct val="15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pós injecções dolorosas, deve-se recomendar ao acompanhante a aplicação de compressas quentes no local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Material e EPI necessário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(ver Guião de Aprendizagem N° 11 Administração de Medicamentos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rocedimentos e regist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(ver Guião de aprendizagem n° 03 Registo de Enfermagem aspectos de registos gerais e na administração de medicação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mpetênc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6840" y="9907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Após a discussão deste tema os alunos deverão ser capazes de: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1. Assegura um tratamento humanizado de qualidades na prestação de Cuidados de Enfermagem às Crianças de 0 a 14 anos. 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2. Aplica os conhecimentos sobre o desenvolvimento físico e psicossocial das crianças de 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0 a 14 anos para elaborar, implementar, monitorizar e avaliar o Plano de Cuidado de Enfermagem. 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3. Realiza orientações às mães sobre a promoção e recuperação da saúde e reabilitação das crianças de 0 a 14 an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Down Arrow 4"/>
          <p:cNvSpPr/>
          <p:nvPr/>
        </p:nvSpPr>
        <p:spPr>
          <a:xfrm>
            <a:off x="3962520" y="1828800"/>
            <a:ext cx="914400" cy="533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mpetênc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9907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Após a discussão deste tema os alunos deverão ser capazes de: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4. Aplica os princípios técnicos científicos na realização de intervenções em situações de emergência ou urgência para socorrer e assegurar a recuperação das crianças. 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5. Aplica os conhecimentos de farmacologia na administração e controlo dos medicamentos de foro pediátrico prescrito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Down Arrow 4"/>
          <p:cNvSpPr/>
          <p:nvPr/>
        </p:nvSpPr>
        <p:spPr>
          <a:xfrm>
            <a:off x="3962520" y="1828800"/>
            <a:ext cx="914400" cy="533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mpetênc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pós a discussão deste tema os alunos deverão ser capazes de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6. Regista oportunamente e de forma clara as informações e procedimentos de enfermagem pediátrica no diário de enfermagem, livro de ocorrência, folha de registo dos sinais vitais e cardex, para assegurar a continuidade e eficácia da prestação de cuidados humanizados e de qualidade à criança dos 0- 14 an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Down Arrow 4"/>
          <p:cNvSpPr/>
          <p:nvPr/>
        </p:nvSpPr>
        <p:spPr>
          <a:xfrm>
            <a:off x="3962520" y="2209680"/>
            <a:ext cx="914400" cy="533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ffff"/>
                </a:solidFill>
                <a:latin typeface="Arial"/>
              </a:rPr>
              <a:t>ADMINISTRACAO DE MEDICAMENTOS EM PEDIATRI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Regras básicas de Medicação na Pediatr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6840" y="121896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Via oral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3358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vitar o excesso de líquidos, para que não haja perda de parte da dose, ou até da dose total, pois a criança costuma cuspir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3358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3358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m crianças menores, ou muito rebeldes, colocar a medicação líquida em uma seringa, para facilitar a introdução directamente dentro da boc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3358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3358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Tentar obter apoio do acompanhante, na tarefa de fazer com que a criança entenda a importância daquele remédi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33160" y="99072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omente usar copinho em crianças maiores, de fácil entendiment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bservar se a criança deglutiu a dose total e fazer a reposição, se necessári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bservar se a criança não aspira a medicaç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bservar vómitos logo após a ingestão de medicament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vitar o uso de colheres a fim de não machucar a crianç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6840" y="91440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Via Endovenosa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m soros de manutenção, usar sempre equipo de microgotas para que se tenha um controle real do gotejament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Usar sempre escala de gotejamento, lembrando que o risco de híper hidratação em pediatria é maior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Manter sempre a pinça do equipo de soro longe do alcance da crianç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rientar o acompanhante para que não altere o gotejamento do sor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Lembrar que o excesso de mobilização da criança torna o gotejamento irregular e descontrolad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iluir as medicações em buret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Nunca realizar medicação directamente na veia, somente em situações de emergência na presença do médic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Lavar o equipo da bureta, lembrando que, sendo as dosagens pediátricas muito pequenas, facilmente pose-se perder grande parte delas dentro do equip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2T13:34:32Z</dcterms:created>
  <dc:creator>ajfuray</dc:creator>
  <dc:description/>
  <dc:language>en-US</dc:language>
  <cp:lastModifiedBy>NYAKA</cp:lastModifiedBy>
  <dcterms:modified xsi:type="dcterms:W3CDTF">2012-02-13T08:25:17Z</dcterms:modified>
  <cp:revision>428</cp:revision>
  <dc:subject/>
  <dc:title>JHPIEGO PowerPoint Presentation template</dc:title>
</cp:coreProperties>
</file>