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923-C84D-4119-B145-1BBE57E4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6864-116B-4CC5-90AB-76A35D05716A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25DA-FED6-4DCC-80F3-61C9411D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E7EB-F4ED-4E9A-99CD-1FA759429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D23B-0B55-4C20-9E4F-BA229D697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A815-B0F9-484F-938F-4F18A06F3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8172-9B12-4E0D-8B1E-DCB7F6F1C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5D7A-7912-4CFC-903B-697054D27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EB7C-2D1F-4363-8C68-93EE35F9F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5AF4-984E-4E60-90E1-83495462E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DB8F-1197-42CB-9901-A824BF8B3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9D1B-B076-4409-8006-20EB7FF30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DE4A-EDF7-48A7-B9F2-B3C9F7F91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9C39-EC68-45B1-BB5A-26C758739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D2D4-DC99-4B0C-8AF0-29157F800B2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eça à mãe que dê a primeira dose de seu filh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em detalhes como dar o medic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que todos os medicamentos devem ser dados até completar o tratamento, mesmo que a criança melhor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erifique se a mãe compreendeu as explicações antes de deixar a unidade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eparação para hospitaliz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ervação da evolução do estado do paciente constitui uma das funções mais importantes da enfermagem. É importante, portanto que ela saiba fazer observações pertinentes, por estar em contínuo contacto com o paciente, ela tem maior oportunidade que outros para observar qualquer alteração do paciente. Infelizmente, o médico, com frequência, ignora ou até rejeita suas observações, ao invés de encorajar e desenvolver seu senso de observ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enfermagem anota suas observações, é indispensável que o corpo clínico as leve em consideração; sem isso a enfermeiro (a) deixará de usar o seu senso de observação. Nos países em desenvolvimento a enfermeiro (a) precisa estar apta a perceber os sinais que distinguem a criança doente da criança sadia e devemos incentivá-la a melhorar esta habilidade. Entre uma e outra visita do médico, as alterações que ocorrem no estado da criança precisam ser observadas pela enfermagem e pela mã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necessidade de hospitalização da criança implica em uma situação especial, em que ela poderá sentir-se desprotegida, por ter sido colocada abruptamente em um ambiente tão diferente. A adaptação da criança dependerá de vários factores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agnóst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eriência de internamentos anterio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domés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ur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mento e atenção recebidos neste contac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cção familiar é interna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hospitalização afectará alguns aspectos da vida da criança e seus familiares,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criança (medo de injecção, de ficar sem a mãe, do méd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mãe, quanto á sua recuperação e quanto ao tratamento dispensado á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conómico (gastos com a internamento, transporte, remédios) e ainda o medo de perder o emprego por estar com o filho no hospi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familiar (alternância dos familiares no hospital, preocupação com os outros filhos, que podem estar sozinhos em casa e a separação da famíl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legal (crianças vítimas de agressões, maus tratos, estupros, atropelamentos, abandono) e ainda falta de documentos que comprovem sua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quipe de enfermagem deverá estar atenta a todos estes aspectos, para que possa, dentro dos limites estabelecidos, ter compreensão, cooperando com a criança e seus acompanhantes durante todo o período de intern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de higiene das roupas e do cor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pir a criança, entregando as roupas e sapatos ao responsável, identificando-as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r banh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presença de lesões, hematomas, escoriações e dermatites, mostrando ao responsável para esclarecer as origens das les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loração da pele (palidez, cianose e icteríc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e anotar os sinais vi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gem da criança (fundamental no momento da internament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respiração (irregular, superficial, desconforto, retracções, presença de secreções nas V.A.S. e de corpos estranh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a criança esta hidratada ou n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eliminações e colectar informações com o acompanhante sobre micções e evacu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desenvolvimento físico e psicológico (desnutrição, emagrecimento, obesidade, agressividade, agitação e timidez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chupetas que estão amarradas em volta do pescoç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tar o maior número possível de informações junto ao acompanhante, pois todos os dados serão importantes para um maior conhecimento da criança e suas condições, fazendo anotação dos mes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resentar a enfermagem, área física e outros pacientes á criança e acompanhantes recém chegados. A falta de conhecimentos das normas e rotinas poderá trazer problemas para to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o ban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da criança deverá ser dado visando os seguintes objec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higien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fís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uma queda de temperatura corporal em caso de feb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o relaxamento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poderá ser dado várias vezes ao dia, sempre que necessário, observando sempre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odo o material antes de despi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deixar a criança sozinha no banho, independente da sua idade ou matur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a temperatura da água com a região anterior do punha, que é um local de grande sensibilidade térm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encher demais a banhei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os ouvidos e os olho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abeça da criança elev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abonete neutr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especial cuidado na higiene das genitais, observando fimose e acúmulo de secre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crostas do couro cabeludo, previamente amolecidas com óleo (amêndoa ou mineral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com segurança na água (lembrar que ela facilmente poderá escorregar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car correct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molhar talas e g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stir criança apropriadamente, sem exc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correntes de 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o procedimento e suas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limentação e a hidratação oral são introduzidas seguindo a prescrição médica, quanto ao tipo, quantidade e intervalos, faz parte portanto, do tratamento médico, devendo ser cumprida correctamente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rotinas hospitalares não permite que os familiares tragam alimentos de sua casa, para não entrar em discordância com o tratamento que esta sendo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pode permitir a entrada de doces, chocolates e chicletes, lembrando dos riscos que os mesmos acarretam á criança, que poderá aspira-los. 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ão regras básicas para os cuidad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alimentar uma criança deitada, pois o risco de ocorrer uma bronco aspiração é muito gran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ve-se sentar a criança ou pegar o bebé no colo, ou ainda elevar a cabeceira da cama ou fazer uso do "bebé-conforto", Mesmo mães acostumadas a alimentar de maneira errada, deverão durante a permanência no hospital, seguir os procedimentos correc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eitar o apetite natural da criança, não forçar a aceitação alimentar, salvo em casos específicos d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ruc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em decúbito lateral com apoio, sempre lembrando dos perigos de uma bronco a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asos de dispneia intensa deve-se evitar a alimentação ou fazê-la pausadamente e com muito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, se possível, que crianças maiores alimentem-se sozinhas, sob vigilância rigoro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aceitação e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sagem é fundamental na pediatria, uma vez que as doses de medicamentos e de soros são todas calculadas, tendo por base o peso da criança. Deverão ser respeitados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r diariamente em jeju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até 2 anos, despidas totalmente, em balança de bandej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com mais de 2 anos, manter a calcinha ou cueca e usar a balança de pedes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rar a balança antes de pes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var após tar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ó destravar depois de colocar a criança e travar novamente antes de retira-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ocar na criança durante a pesag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correctamente o peso, especificando kg e gr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colocar objectos sobre e balança, quando em desu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orrar a bandeja com lençol descartável ou papel toalha, trocando após a pes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trição mecânica é a limitação dos movimentos através da contenção de um ou mais segmentos do corpo, a realização de exames ou tratamentos, garantindo assim a segurança da criança. Normalmente ela é indicada na realização de exames, manutenção da via de hidratação parenteral, protecção da criança inconsciente e ainda para evitar que a criança remova sonda ou drenos. Existem dois tipos de restriçõe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umific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iste na imobilização total da criança, para a realização de exames, onde a equipe de enfermagem deverá obedecer aos seguintes procediment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r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tar a criança sobre um lençol dobrado em triângul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direita do triângulo sobre o braço direito, posicionando-o ao longo do corpo. O tronco deve ser envolvido por estar extremidade observando-se que não fique solto ou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braço esquerdo da criança paralelo ao corpo, mantendo a mão sob os glúte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a criança com a outra extremidade do lençol, imobilizando assim o membro superior esquer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restante sob os pés da criança imobilizando seus membros inf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m frequência se a criança tem condições de respirar satisfatori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fazer a restrição tão logo seja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enção das extremidad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tipo de restrição usada principalmente para manter-se a via endovenosa ou evitar traumatismos em crianças que sejam agitadas. Na contenção de extremidades existem também procedimentos que deverão se seguidos rigorosame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o punho ou tornozelo da criança com a faixa de restrição, entrelaçando os cadarços com voltas duplas, observando para que não fique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ar o cadarço da faixa de restrição somente nas estruturas fixas do l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ixação nas grades móveis pode provocar graves lesões no membro restrito, ao serem abaix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, com frequência, a posição da criança e acomoda-la confortavel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aminar, com frequência, a perfusão sanguínea das extremidades restri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dar, com frequência, o decúbito da criança para evitar a formação de zonas de isquem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mover a restrição periodicamente, principalmente durante o banho e a alimen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PARA SATISFAZER AS NECESSIDADES DA CRIANÇA HOSPITALIZ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LIDADES DE COMUN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ÉCNICAS PARA COMUNICAR-SE B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êxito do tratamento em casa depende da forma como você se comunica com a mãe da criança. Ela precisa saber como dar o tratamento. Também precisa compreender a importância do me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ça-lhe pergunta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 o tratamento d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logi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ãe pelo que tem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mende-lh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o tratar 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qu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mãe comp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de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COMENDAÇÕES À MÃE SOBRE COMO TRAT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RIANÇA EM CA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do ensinar à mãe como dar o tratamento em casa, siga três passos básico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monstre u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empl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xe-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at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NDO ENSINAR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palavras que ela consiga compree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materiais auxiliares com os quais ela esteja familiariza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Quando ela estiver praticando, elogie o que ela fizer bem feito e corrija os err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centive à mãe a fazer perguntas. Responda-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IFICAÇÃO SE A MÃE COMPREEND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ois de ensinar à mãe é importante certificar-se que ela entendeu como administrar correctamente o tratamento. É importante para uma boa comunicação fazer boas perguntas de verif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MO VERIFICAR QUE A MÃE COMPREENDEU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aça perguntas que obrigue à mãe explicar o quê, como, quando, quanto ou porquê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ê tempo à mãe para pensar e a seguir respo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logie à mãe quando ela responder corretam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ela necessite, dê-lhe mais informação, exemplos e oportunidade de pratic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SINAR COMO DAR MEDICAMENTO POR VIA ORAL EM CA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0663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a mãe aprenda corretamente a administrar o medicamento, a criança receberá o tratamento apropriado. Para isso, siga estas instruções para cada medicamento que dê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cida quais são os medicamentos apropriados e as doses para o peso ou idade da criança. Justifique à mãe porque dar o medicamento à crianç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screva as etapas do tra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monstre como medir as doses sempre que possív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e à mãe enquanto ela mesma pratica como medir uma do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4T08:59:54Z</dcterms:modified>
  <cp:revision>426</cp:revision>
  <dc:subject/>
  <dc:title>JHPIEGO PowerPoint Presentation template</dc:title>
</cp:coreProperties>
</file>