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F676-F990-4764-BCAE-D79E72D6CA9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Marcador de Posição do Número do Diapositivo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A35-985E-4EE1-9D24-18A97E02329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5C23-5493-4CAF-9DBA-7E29E1814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7809-4CF1-43EA-81C8-C7B104A58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A59F-030B-4140-9074-296164C8E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27EC-7FC5-493C-8F63-B6D360551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A723-6F4B-4875-A357-53CF62622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8E4A-8B30-469B-B198-88CFC9AB4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C1BC-3597-4ADD-B032-37CE83D2E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52FC-42FC-4A57-8E30-4583F15AD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47BE-D56A-4E62-873A-83D9AB172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1959-8702-4055-ADFC-895F8BE72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061F-E869-4C11-81F9-6A218E52E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75FD-661E-4190-9B8B-A55AE2527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AC2A-4F0B-4370-A7A6-963FA1C33A0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uidados de Enfermagem nas Urgências e Emergências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Pediátr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520" y="4724280"/>
            <a:ext cx="5867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ub-modulo 9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rganizar o sistema de coleta de dados, que possibilite a visibilidade dos casos de abuso sexual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laborar para o diagnóstico do abuso sexual para a formulação de estratégias de prevenção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dentificar  os sinais de violência do abuso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503D-40CF-4B69-BDE6-D5307925F31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gis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Identificação;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Identific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Data de nascimento, sexo, estado civil, raça, ocupação, escolaridade,  bairro, município e activ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Dados da Ocorrência: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ata e hora da violência, local de residência, abusador sexual conhecido, múltiplos parentes, tipos de relação, intimidação (tipo de arma, força física, ameaça, vítima utilizou álcool ou outra substância psicoactiva (sim/não/tip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Atendimento após a violência sexual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Houve prescrição de anticoncepção de emergência, profilaxia, colecta de exames para pesquisa de espermatozóides, fosfatase ácida prostática, antígeno prostátic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C7C3-C46F-4F26-860C-ADB9AC2E940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CF2A-D108-47F9-ABFB-729998E3B39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USO  SEXUAL DE MEN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990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rresponde a qualquer  acto sexual abusivo praticado contra uma criança ou adolesc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forma de abuso infant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Sexual é pessoa adulta, ou um adolescente para um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BUSO  SEXUAL DE MEN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não tem um perfil identificado, pode ser membro da família, parceiro, amigo ou desconhecido mas, na maioria dos casos, o abusador de menores conhece a vítim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de ser instruído ou não, religioso ou não mas, quase sempre, exerce algum poder sobre a vítim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istem duas formas de abuso sexual praticado pelos adultos ou adolescentes a menores, nos dois casos o adulto ou adolescente, abusam o menor para conseguir algum tipo de prazer ou satisfação interior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FE6-B8B5-42DC-8555-1AB47F26364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ormas de Abuso Sexu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buso sexual por contact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forca o menor a realizar relações sexuais, usando  forca ou fazendo ameaças verb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buso sexual sem contact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ão práticas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xuais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que não envolvem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ntato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físico: O assédio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xual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caracteriza-se por propostas de relações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xuais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, (Ex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ibicionismo, despir a roupa em frente do men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66BB-EFF9-4CA2-B2F4-D52D51C192C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extragenitai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genitais, trauma do períneo, hímen, vulva, cérvix ou ânu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cerações agudas dos lábios vagin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enda do hímen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cerações ou cicatriz na comissura labial posteri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latação anal ou cicatriz de fissuras an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2341-14BA-4C91-BAA9-0662A2EEA79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sequências de abuso sex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589D-102C-46F8-B646-6DE18B201B7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m 8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filaxia nas vitimas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 abuso sex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nicilina Benzatinica: 50 000 UI/kg IM, dose ún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zitromicina: 20mg/kg, dose única o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eftriaxona: 80 mg/kg, dose única I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tronidazol: 15mg/kg/de 8/8h, 7 dias o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iciar logo que possível, nas primeiras 6 horas após a exposição ao HIV ou, o mais tardar, em até 72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CB90-61AF-40C7-9269-CB4CB514C2B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rientação das mães sobre prevenção de emergência ped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5235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mães devem ser orientadas para algumas intervenções no caso de situações de emergências, tais com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e sinais de infec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écnicas de higiene e explicar a sua importânc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de violência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46E0-436D-44CD-B515-31DE4196A02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/ EPI necessa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unidade de atendimento a menores abusados sexualmente, deverá dispor de equipamentos e materiais permanentes, em perfeitas condições de uso, que satisfaçam as necessidades do atendimento, material e equipamento necessários, constituído po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sa e cadeiras para consul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sa ginecológica estofada e banque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Jogo de espéculo vaginal tipo Colli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Jogo de pinç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cido acético a 2%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asel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oalha de pape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5F0B-5BB1-43EA-B726-E4089696223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User</cp:lastModifiedBy>
  <dcterms:modified xsi:type="dcterms:W3CDTF">2022-02-24T08:54:24Z</dcterms:modified>
  <cp:revision>706</cp:revision>
  <dc:subject/>
  <dc:title>ANATOMIA E FISIOLOGIA HUMANA</dc:title>
</cp:coreProperties>
</file>